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  <p:custShowLst>
    <p:custShow name="BlankShow" id="0">
      <p:sldLst>
        <p:sld r:id="rId4"/>
      </p:sldLst>
    </p:custShow>
    <p:custShow name="ThemeShow" id="1">
      <p:sldLst>
        <p:sld r:id="rId10"/>
      </p:sldLst>
    </p:custShow>
    <p:custShow name="InfoShow" id="2">
      <p:sldLst>
        <p:sld r:id="rId5"/>
      </p:sldLst>
    </p:custShow>
    <p:custShow name="ScoreShow" id="3">
      <p:sldLst>
        <p:sld r:id="rId6"/>
      </p:sldLst>
    </p:custShow>
    <p:custShow name="ResultShow" id="4">
      <p:sldLst>
        <p:sld r:id="rId7"/>
      </p:sldLst>
    </p:custShow>
    <p:custShow name="DResultShow" id="5">
      <p:sldLst>
        <p:sld r:id="rId8"/>
      </p:sldLst>
    </p:custShow>
    <p:custShow name="ItemShow" id="6">
      <p:sldLst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DF37D-707C-4897-964B-39FC69FA91BC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，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一般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启动过渡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通过它可以有效地防止某些情况下界面刷新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评委打分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最后得分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五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所有项目得分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六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各个项目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七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为活动主题幻灯，可以随意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特殊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和我方技术人员沟通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方可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976320" y="-316080"/>
            <a:ext cx="1952640" cy="2176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758000" y="5084640"/>
            <a:ext cx="277200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Garamond"/>
              </a:rPr>
              <a:t>照片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348000" y="898560"/>
            <a:ext cx="1728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"/>
          <p:cNvSpPr/>
          <p:nvPr/>
        </p:nvSpPr>
        <p:spPr>
          <a:xfrm>
            <a:off x="5003640" y="836640"/>
            <a:ext cx="3600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48000" y="1916280"/>
            <a:ext cx="5400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468000" y="1989000"/>
            <a:ext cx="280800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-3195720"/>
            <a:ext cx="342108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1640" y="3933720"/>
            <a:ext cx="7272360" cy="1511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740720" y="-2692440"/>
            <a:ext cx="190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129672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1303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e51303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98920" y="898560"/>
            <a:ext cx="1439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37120" y="907920"/>
            <a:ext cx="4106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564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4-0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5564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3528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6-0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3528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1636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8-0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1636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9744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0-0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9564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7672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2-0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76720" y="3789360"/>
            <a:ext cx="10098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5780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4-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5780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38880" y="2421000"/>
            <a:ext cx="100836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6-07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238880" y="378936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8-08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092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32876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0-09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32876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0840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2-10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0840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48948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4-1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8948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6-1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4984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8-1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4984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092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0-1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73092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81200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2-1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81200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149440" y="-2619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4-1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149440" y="-1251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 rot="6180000">
            <a:off x="-78408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 rot="6180000">
            <a:off x="-20772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 rot="6181200">
            <a:off x="9656640" y="3279960"/>
            <a:ext cx="539640" cy="36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 rot="6180000">
            <a:off x="10160280" y="3279960"/>
            <a:ext cx="53964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61272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9880" y="-1900080"/>
            <a:ext cx="1150920" cy="46332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1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5120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08000" y="-1900080"/>
            <a:ext cx="115128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3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9076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7920" y="-1900080"/>
            <a:ext cx="115092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5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2924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86400" y="-1900080"/>
            <a:ext cx="115092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7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6916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25960" y="-1900080"/>
            <a:ext cx="115128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9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0872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65880" y="-1900080"/>
            <a:ext cx="115092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1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612360" y="2421000"/>
            <a:ext cx="4968720" cy="1008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469440" y="4365720"/>
            <a:ext cx="7343640" cy="863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80000" y="7245360"/>
            <a:ext cx="5041800" cy="1008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1476360" y="7101000"/>
            <a:ext cx="504036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540720" y="5445000"/>
            <a:ext cx="5148360" cy="100836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540720" y="674208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数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540720" y="789300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5581800" y="1916280"/>
            <a:ext cx="4106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3708360" y="5013360"/>
            <a:ext cx="3132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6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自己文字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76320">
            <a:solidFill>
              <a:srgbClr val="800000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598560" y="1700280"/>
            <a:ext cx="1439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5000"/>
          </a:bodyPr>
          <a:p>
            <a:pPr marL="3258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5037120" y="1628640"/>
            <a:ext cx="41068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685440" y="0"/>
            <a:ext cx="31687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685440" y="1268280"/>
            <a:ext cx="31669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81360" y="-1684440"/>
            <a:ext cx="3581280" cy="8384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4645080" y="2637000"/>
            <a:ext cx="38894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1836720" y="7174080"/>
            <a:ext cx="5005440" cy="10810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8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1836720" y="8397720"/>
            <a:ext cx="504036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9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685440" y="2492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685440" y="3716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35280" y="7174080"/>
            <a:ext cx="57578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12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86160" y="3789360"/>
            <a:ext cx="575784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756720" y="5300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超时扣分提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612360" y="6318360"/>
            <a:ext cx="309708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0" y="-2403360"/>
            <a:ext cx="2268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6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93372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169200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63640" y="404640"/>
            <a:ext cx="1297080" cy="158292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19640" y="76500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836640"/>
            <a:ext cx="2808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-36360" y="-1251000"/>
            <a:ext cx="287964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83040" y="-1251000"/>
            <a:ext cx="172872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51520" y="-125100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883640" y="-1251000"/>
            <a:ext cx="2520720" cy="900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128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主项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2728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27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44364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436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615600" y="227664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61236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98872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98872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29380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29380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9744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5974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5006880" y="5300640"/>
            <a:ext cx="4825800" cy="79236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828720" y="7101000"/>
            <a:ext cx="4321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66920" y="8109000"/>
            <a:ext cx="4608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24360" y="7101000"/>
            <a:ext cx="4537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67640" y="8109000"/>
            <a:ext cx="5400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36360" y="7101000"/>
            <a:ext cx="504036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789080" y="8109000"/>
            <a:ext cx="53276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6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468000" y="5300640"/>
            <a:ext cx="5759280" cy="11527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3280" y="-2763720"/>
            <a:ext cx="720072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3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定制算法分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-2557440" y="-3267000"/>
            <a:ext cx="51134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19640" y="5445000"/>
            <a:ext cx="5111640" cy="792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589080" y="5373720"/>
            <a:ext cx="4896000" cy="1152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260000" y="-2763720"/>
            <a:ext cx="216072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-684360" y="9909000"/>
            <a:ext cx="2808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5445000"/>
            <a:ext cx="359892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6</a:t>
            </a: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自己文字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-2197080" y="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98920" y="89856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933800" y="906480"/>
            <a:ext cx="3602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36360" y="-1251000"/>
            <a:ext cx="287964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083040" y="-1251000"/>
            <a:ext cx="172872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51520" y="-125100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883640" y="-1251000"/>
            <a:ext cx="2520720" cy="900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27280" y="2421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56000" y="4581360"/>
            <a:ext cx="2232000" cy="64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7532640"/>
            <a:ext cx="4753080" cy="1224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-2403360"/>
            <a:ext cx="36021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-468360" y="-427500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956720" y="5526000"/>
            <a:ext cx="1439640" cy="1332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1550880" cy="1629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0" y="1341360"/>
            <a:ext cx="9144000" cy="2303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黑体"/>
              </a:rPr>
              <a:t>2010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全国导游大赛决赛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4221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国家旅游局、共青团中央、全国妇联联合承办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 http://www.ExeSoft.cn</dc:creator>
  <dc:description/>
  <cp:keywords/>
  <dc:language>en-US</dc:language>
  <cp:lastModifiedBy>行易软件</cp:lastModifiedBy>
  <dcterms:modified xsi:type="dcterms:W3CDTF">2016-12-01T00:39:51Z</dcterms:modified>
  <cp:revision>668</cp:revision>
  <dc:subject/>
  <dc:title>评委打分主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