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C292-A07F-4651-9AC6-36A23935C2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2BA-3D52-4FA1-A18A-D03DE903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0F4-3C58-45E6-8F5F-730BF00E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3A1-F7F5-46D7-B8B3-2636627D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656-404B-418E-A712-600BB128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955D-6FC5-49C1-A0F6-F413623C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8C6A-76C1-4D34-8465-9B4FA5C0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E2C9-54F7-4D76-81AA-3DFE54E9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C05F-DCC9-4211-94D4-924CD1F9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0AED-D03F-4763-9B8F-A790A419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A8B7-CAEC-4D38-9C84-F758C4B1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9328-64CA-48AF-9439-A15819FC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D40-73F4-4FAD-8AF6-7D3D8404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124E-D009-4E53-A8E0-08A12109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F725-4C44-491A-BDDD-0DEDEFD4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C418-526B-497D-887E-230E78FD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78CA-0C32-4830-BD54-05D48AF5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82D0-1EB7-48FC-BAC3-B9A4B9CB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7D5-E54F-4B62-9435-C425E9F0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244-30DB-432F-8A9E-5323D9DA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AC5-A4A8-463D-BC0A-56234BEA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28C-E765-4D17-9D28-0554016E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331-04EB-47C7-946E-1448E498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612-48D1-4206-BB51-B45E8E33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35A-DC53-4486-8CC2-FFB169E3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56BF-1EC3-41E9-81A6-9BBF39520B5C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0960" y="-428040"/>
            <a:ext cx="3457800" cy="4496760"/>
            <a:chOff x="-30960" y="-428040"/>
            <a:chExt cx="3457800" cy="4496760"/>
          </a:xfrm>
        </p:grpSpPr>
        <p:grpSp>
          <p:nvGrpSpPr>
            <p:cNvPr id="5" name=""/>
            <p:cNvGrpSpPr/>
            <p:nvPr/>
          </p:nvGrpSpPr>
          <p:grpSpPr>
            <a:xfrm>
              <a:off x="689400" y="-30960"/>
              <a:ext cx="457560" cy="403200"/>
              <a:chOff x="689400" y="-30960"/>
              <a:chExt cx="457560" cy="403200"/>
            </a:xfrm>
          </p:grpSpPr>
          <p:sp>
            <p:nvSpPr>
              <p:cNvPr id="6" name=""/>
              <p:cNvSpPr/>
              <p:nvPr/>
            </p:nvSpPr>
            <p:spPr>
              <a:xfrm>
                <a:off x="689400" y="-30960"/>
                <a:ext cx="457560" cy="403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3560" y="145440"/>
                <a:ext cx="110160" cy="756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-30960" y="-428040"/>
              <a:ext cx="3457800" cy="4373280"/>
              <a:chOff x="-30960" y="-428040"/>
              <a:chExt cx="3457800" cy="4373280"/>
            </a:xfrm>
          </p:grpSpPr>
          <p:grpSp>
            <p:nvGrpSpPr>
              <p:cNvPr id="9" name=""/>
              <p:cNvGrpSpPr/>
              <p:nvPr/>
            </p:nvGrpSpPr>
            <p:grpSpPr>
              <a:xfrm>
                <a:off x="-30960" y="-428040"/>
                <a:ext cx="3351240" cy="3086280"/>
                <a:chOff x="-30960" y="-428040"/>
                <a:chExt cx="3351240" cy="3086280"/>
              </a:xfrm>
            </p:grpSpPr>
            <p:grpSp>
              <p:nvGrpSpPr>
                <p:cNvPr id="10" name=""/>
                <p:cNvGrpSpPr/>
                <p:nvPr/>
              </p:nvGrpSpPr>
              <p:grpSpPr>
                <a:xfrm>
                  <a:off x="811800" y="145800"/>
                  <a:ext cx="1742040" cy="1506960"/>
                  <a:chOff x="811800" y="145800"/>
                  <a:chExt cx="1742040" cy="150696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811800" y="145800"/>
                    <a:ext cx="1742040" cy="150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1477080" y="696960"/>
                    <a:ext cx="345240" cy="28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" name=""/>
                <p:cNvGrpSpPr/>
                <p:nvPr/>
              </p:nvGrpSpPr>
              <p:grpSpPr>
                <a:xfrm>
                  <a:off x="-30960" y="-428040"/>
                  <a:ext cx="3351240" cy="3086280"/>
                  <a:chOff x="-30960" y="-428040"/>
                  <a:chExt cx="3351240" cy="3086280"/>
                </a:xfrm>
              </p:grpSpPr>
              <p:grpSp>
                <p:nvGrpSpPr>
                  <p:cNvPr id="14" name=""/>
                  <p:cNvGrpSpPr/>
                  <p:nvPr/>
                </p:nvGrpSpPr>
                <p:grpSpPr>
                  <a:xfrm>
                    <a:off x="1729440" y="757440"/>
                    <a:ext cx="1335600" cy="1528920"/>
                    <a:chOff x="1729440" y="757440"/>
                    <a:chExt cx="1335600" cy="1528920"/>
                  </a:xfrm>
                </p:grpSpPr>
                <p:sp>
                  <p:nvSpPr>
                    <p:cNvPr id="15" name=""/>
                    <p:cNvSpPr/>
                    <p:nvPr/>
                  </p:nvSpPr>
                  <p:spPr>
                    <a:xfrm rot="2711400">
                      <a:off x="1617120" y="11581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" name=""/>
                    <p:cNvSpPr/>
                    <p:nvPr/>
                  </p:nvSpPr>
                  <p:spPr>
                    <a:xfrm rot="2711400">
                      <a:off x="2408760" y="180720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" name=""/>
                  <p:cNvGrpSpPr/>
                  <p:nvPr/>
                </p:nvGrpSpPr>
                <p:grpSpPr>
                  <a:xfrm>
                    <a:off x="1794240" y="701640"/>
                    <a:ext cx="1498320" cy="1353960"/>
                    <a:chOff x="1794240" y="701640"/>
                    <a:chExt cx="1498320" cy="1353960"/>
                  </a:xfrm>
                </p:grpSpPr>
                <p:sp>
                  <p:nvSpPr>
                    <p:cNvPr id="18" name=""/>
                    <p:cNvSpPr/>
                    <p:nvPr/>
                  </p:nvSpPr>
                  <p:spPr>
                    <a:xfrm rot="2103600">
                      <a:off x="1765800" y="99036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" name=""/>
                    <p:cNvSpPr/>
                    <p:nvPr/>
                  </p:nvSpPr>
                  <p:spPr>
                    <a:xfrm rot="2103600">
                      <a:off x="2654640" y="1541520"/>
                      <a:ext cx="581040" cy="3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" name=""/>
                  <p:cNvGrpSpPr/>
                  <p:nvPr/>
                </p:nvGrpSpPr>
                <p:grpSpPr>
                  <a:xfrm>
                    <a:off x="1792440" y="640080"/>
                    <a:ext cx="1517040" cy="1070640"/>
                    <a:chOff x="1792440" y="640080"/>
                    <a:chExt cx="1517040" cy="1070640"/>
                  </a:xfrm>
                </p:grpSpPr>
                <p:sp>
                  <p:nvSpPr>
                    <p:cNvPr id="21" name=""/>
                    <p:cNvSpPr/>
                    <p:nvPr/>
                  </p:nvSpPr>
                  <p:spPr>
                    <a:xfrm rot="1582800">
                      <a:off x="1785600" y="858960"/>
                      <a:ext cx="10360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" name=""/>
                    <p:cNvSpPr/>
                    <p:nvPr/>
                  </p:nvSpPr>
                  <p:spPr>
                    <a:xfrm rot="1582800">
                      <a:off x="2707920" y="127116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" name=""/>
                  <p:cNvGrpSpPr/>
                  <p:nvPr/>
                </p:nvGrpSpPr>
                <p:grpSpPr>
                  <a:xfrm>
                    <a:off x="1790280" y="572760"/>
                    <a:ext cx="1530000" cy="871920"/>
                    <a:chOff x="1790280" y="572760"/>
                    <a:chExt cx="1530000" cy="871920"/>
                  </a:xfrm>
                </p:grpSpPr>
                <p:sp>
                  <p:nvSpPr>
                    <p:cNvPr id="24" name=""/>
                    <p:cNvSpPr/>
                    <p:nvPr/>
                  </p:nvSpPr>
                  <p:spPr>
                    <a:xfrm rot="1080000">
                      <a:off x="1801800" y="721440"/>
                      <a:ext cx="10008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" name=""/>
                    <p:cNvSpPr/>
                    <p:nvPr/>
                  </p:nvSpPr>
                  <p:spPr>
                    <a:xfrm rot="1080000">
                      <a:off x="2738880" y="1002240"/>
                      <a:ext cx="53748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" name=""/>
                  <p:cNvGrpSpPr/>
                  <p:nvPr/>
                </p:nvGrpSpPr>
                <p:grpSpPr>
                  <a:xfrm>
                    <a:off x="1811520" y="505440"/>
                    <a:ext cx="1429200" cy="552240"/>
                    <a:chOff x="1811520" y="505440"/>
                    <a:chExt cx="1429200" cy="552240"/>
                  </a:xfrm>
                </p:grpSpPr>
                <p:sp>
                  <p:nvSpPr>
                    <p:cNvPr id="27" name=""/>
                    <p:cNvSpPr/>
                    <p:nvPr/>
                  </p:nvSpPr>
                  <p:spPr>
                    <a:xfrm rot="463200">
                      <a:off x="1821960" y="566280"/>
                      <a:ext cx="9219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 rot="463200">
                      <a:off x="2724120" y="683640"/>
                      <a:ext cx="495360" cy="34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" name=""/>
                  <p:cNvGrpSpPr/>
                  <p:nvPr/>
                </p:nvGrpSpPr>
                <p:grpSpPr>
                  <a:xfrm>
                    <a:off x="1835280" y="459000"/>
                    <a:ext cx="1287720" cy="251280"/>
                    <a:chOff x="1835280" y="459000"/>
                    <a:chExt cx="1287720" cy="251280"/>
                  </a:xfrm>
                </p:grpSpPr>
                <p:sp>
                  <p:nvSpPr>
                    <p:cNvPr id="30" name=""/>
                    <p:cNvSpPr/>
                    <p:nvPr/>
                  </p:nvSpPr>
                  <p:spPr>
                    <a:xfrm rot="21515400">
                      <a:off x="1836720" y="478440"/>
                      <a:ext cx="83772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" name=""/>
                    <p:cNvSpPr/>
                    <p:nvPr/>
                  </p:nvSpPr>
                  <p:spPr>
                    <a:xfrm rot="21515400">
                      <a:off x="2670120" y="4644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" name=""/>
                  <p:cNvGrpSpPr/>
                  <p:nvPr/>
                </p:nvGrpSpPr>
                <p:grpSpPr>
                  <a:xfrm>
                    <a:off x="1802880" y="175680"/>
                    <a:ext cx="1150560" cy="424440"/>
                    <a:chOff x="1802880" y="175680"/>
                    <a:chExt cx="1150560" cy="424440"/>
                  </a:xfrm>
                </p:grpSpPr>
                <p:sp>
                  <p:nvSpPr>
                    <p:cNvPr id="33" name=""/>
                    <p:cNvSpPr/>
                    <p:nvPr/>
                  </p:nvSpPr>
                  <p:spPr>
                    <a:xfrm rot="20797200">
                      <a:off x="1810080" y="36612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" name=""/>
                    <p:cNvSpPr/>
                    <p:nvPr/>
                  </p:nvSpPr>
                  <p:spPr>
                    <a:xfrm rot="20797200">
                      <a:off x="2536560" y="2181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" name=""/>
                  <p:cNvGrpSpPr/>
                  <p:nvPr/>
                </p:nvGrpSpPr>
                <p:grpSpPr>
                  <a:xfrm>
                    <a:off x="250560" y="844200"/>
                    <a:ext cx="1334520" cy="1528200"/>
                    <a:chOff x="250560" y="844200"/>
                    <a:chExt cx="1334520" cy="1528200"/>
                  </a:xfrm>
                </p:grpSpPr>
                <p:sp>
                  <p:nvSpPr>
                    <p:cNvPr id="36" name=""/>
                    <p:cNvSpPr/>
                    <p:nvPr/>
                  </p:nvSpPr>
                  <p:spPr>
                    <a:xfrm flipH="1" rot="18888600">
                      <a:off x="489240" y="124524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" name=""/>
                    <p:cNvSpPr/>
                    <p:nvPr/>
                  </p:nvSpPr>
                  <p:spPr>
                    <a:xfrm flipH="1" rot="18888600">
                      <a:off x="258120" y="189324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" name=""/>
                  <p:cNvGrpSpPr/>
                  <p:nvPr/>
                </p:nvGrpSpPr>
                <p:grpSpPr>
                  <a:xfrm>
                    <a:off x="-3240" y="825480"/>
                    <a:ext cx="1497600" cy="1353960"/>
                    <a:chOff x="-3240" y="825480"/>
                    <a:chExt cx="1497600" cy="1353960"/>
                  </a:xfrm>
                </p:grpSpPr>
                <p:sp>
                  <p:nvSpPr>
                    <p:cNvPr id="39" name=""/>
                    <p:cNvSpPr/>
                    <p:nvPr/>
                  </p:nvSpPr>
                  <p:spPr>
                    <a:xfrm flipH="1" rot="19496400">
                      <a:off x="439920" y="111420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" name=""/>
                    <p:cNvSpPr/>
                    <p:nvPr/>
                  </p:nvSpPr>
                  <p:spPr>
                    <a:xfrm flipH="1" rot="19496400">
                      <a:off x="53280" y="1665360"/>
                      <a:ext cx="58104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" name=""/>
                  <p:cNvGrpSpPr/>
                  <p:nvPr/>
                </p:nvGrpSpPr>
                <p:grpSpPr>
                  <a:xfrm>
                    <a:off x="-19800" y="763920"/>
                    <a:ext cx="1517400" cy="1070640"/>
                    <a:chOff x="-19800" y="763920"/>
                    <a:chExt cx="1517400" cy="1070640"/>
                  </a:xfrm>
                </p:grpSpPr>
                <p:sp>
                  <p:nvSpPr>
                    <p:cNvPr id="42" name=""/>
                    <p:cNvSpPr/>
                    <p:nvPr/>
                  </p:nvSpPr>
                  <p:spPr>
                    <a:xfrm flipH="1" rot="20017200">
                      <a:off x="467280" y="982800"/>
                      <a:ext cx="1036440" cy="21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"/>
                    <p:cNvSpPr/>
                    <p:nvPr/>
                  </p:nvSpPr>
                  <p:spPr>
                    <a:xfrm flipH="1" rot="20017200">
                      <a:off x="25200" y="139464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" name=""/>
                  <p:cNvGrpSpPr/>
                  <p:nvPr/>
                </p:nvGrpSpPr>
                <p:grpSpPr>
                  <a:xfrm>
                    <a:off x="-30960" y="696960"/>
                    <a:ext cx="1529640" cy="872640"/>
                    <a:chOff x="-30960" y="696960"/>
                    <a:chExt cx="1529640" cy="872640"/>
                  </a:xfrm>
                </p:grpSpPr>
                <p:sp>
                  <p:nvSpPr>
                    <p:cNvPr id="45" name=""/>
                    <p:cNvSpPr/>
                    <p:nvPr/>
                  </p:nvSpPr>
                  <p:spPr>
                    <a:xfrm flipH="1" rot="20520000">
                      <a:off x="485640" y="845640"/>
                      <a:ext cx="10008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"/>
                    <p:cNvSpPr/>
                    <p:nvPr/>
                  </p:nvSpPr>
                  <p:spPr>
                    <a:xfrm flipH="1" rot="20520000">
                      <a:off x="12600" y="1126800"/>
                      <a:ext cx="53748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" name=""/>
                  <p:cNvGrpSpPr/>
                  <p:nvPr/>
                </p:nvGrpSpPr>
                <p:grpSpPr>
                  <a:xfrm>
                    <a:off x="48960" y="629640"/>
                    <a:ext cx="1428480" cy="552960"/>
                    <a:chOff x="48960" y="629640"/>
                    <a:chExt cx="1428480" cy="552960"/>
                  </a:xfrm>
                </p:grpSpPr>
                <p:sp>
                  <p:nvSpPr>
                    <p:cNvPr id="48" name=""/>
                    <p:cNvSpPr/>
                    <p:nvPr/>
                  </p:nvSpPr>
                  <p:spPr>
                    <a:xfrm flipH="1" rot="21136800">
                      <a:off x="544320" y="690480"/>
                      <a:ext cx="92196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" name=""/>
                    <p:cNvSpPr/>
                    <p:nvPr/>
                  </p:nvSpPr>
                  <p:spPr>
                    <a:xfrm flipH="1" rot="21136800">
                      <a:off x="68760" y="808200"/>
                      <a:ext cx="495360" cy="34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" name=""/>
                  <p:cNvGrpSpPr/>
                  <p:nvPr/>
                </p:nvGrpSpPr>
                <p:grpSpPr>
                  <a:xfrm>
                    <a:off x="166320" y="583200"/>
                    <a:ext cx="1287360" cy="251280"/>
                    <a:chOff x="166320" y="583200"/>
                    <a:chExt cx="1287360" cy="251280"/>
                  </a:xfrm>
                </p:grpSpPr>
                <p:sp>
                  <p:nvSpPr>
                    <p:cNvPr id="51" name=""/>
                    <p:cNvSpPr/>
                    <p:nvPr/>
                  </p:nvSpPr>
                  <p:spPr>
                    <a:xfrm flipH="1" rot="84600">
                      <a:off x="614160" y="603000"/>
                      <a:ext cx="8377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" name=""/>
                    <p:cNvSpPr/>
                    <p:nvPr/>
                  </p:nvSpPr>
                  <p:spPr>
                    <a:xfrm flipH="1" rot="84600">
                      <a:off x="168840" y="5886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" name=""/>
                  <p:cNvGrpSpPr/>
                  <p:nvPr/>
                </p:nvGrpSpPr>
                <p:grpSpPr>
                  <a:xfrm>
                    <a:off x="335520" y="299520"/>
                    <a:ext cx="1150560" cy="424440"/>
                    <a:chOff x="335520" y="299520"/>
                    <a:chExt cx="1150560" cy="4244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 flipH="1" rot="802800">
                      <a:off x="742320" y="48996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 flipH="1" rot="802800">
                      <a:off x="357120" y="34200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" name=""/>
                  <p:cNvGrpSpPr/>
                  <p:nvPr/>
                </p:nvGrpSpPr>
                <p:grpSpPr>
                  <a:xfrm>
                    <a:off x="394560" y="142200"/>
                    <a:ext cx="1136160" cy="579960"/>
                    <a:chOff x="394560" y="142200"/>
                    <a:chExt cx="1136160" cy="579960"/>
                  </a:xfrm>
                </p:grpSpPr>
                <p:sp>
                  <p:nvSpPr>
                    <p:cNvPr id="57" name=""/>
                    <p:cNvSpPr/>
                    <p:nvPr/>
                  </p:nvSpPr>
                  <p:spPr>
                    <a:xfrm flipH="1" rot="1278000">
                      <a:off x="792720" y="4431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 flipH="1" rot="1278000">
                      <a:off x="423720" y="2055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" name=""/>
                  <p:cNvGrpSpPr/>
                  <p:nvPr/>
                </p:nvGrpSpPr>
                <p:grpSpPr>
                  <a:xfrm>
                    <a:off x="524160" y="-81720"/>
                    <a:ext cx="1065960" cy="802440"/>
                    <a:chOff x="524160" y="-81720"/>
                    <a:chExt cx="1065960" cy="802440"/>
                  </a:xfrm>
                </p:grpSpPr>
                <p:sp>
                  <p:nvSpPr>
                    <p:cNvPr id="60" name=""/>
                    <p:cNvSpPr/>
                    <p:nvPr/>
                  </p:nvSpPr>
                  <p:spPr>
                    <a:xfrm flipH="1" rot="2028600">
                      <a:off x="874080" y="37764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" name=""/>
                    <p:cNvSpPr/>
                    <p:nvPr/>
                  </p:nvSpPr>
                  <p:spPr>
                    <a:xfrm flipH="1" rot="2028600">
                      <a:off x="556200" y="7920"/>
                      <a:ext cx="39456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" name=""/>
                  <p:cNvGrpSpPr/>
                  <p:nvPr/>
                </p:nvGrpSpPr>
                <p:grpSpPr>
                  <a:xfrm>
                    <a:off x="655200" y="-300960"/>
                    <a:ext cx="982080" cy="970560"/>
                    <a:chOff x="655200" y="-300960"/>
                    <a:chExt cx="982080" cy="970560"/>
                  </a:xfrm>
                </p:grpSpPr>
                <p:sp>
                  <p:nvSpPr>
                    <p:cNvPr id="63" name=""/>
                    <p:cNvSpPr/>
                    <p:nvPr/>
                  </p:nvSpPr>
                  <p:spPr>
                    <a:xfrm flipH="1" rot="2664600">
                      <a:off x="944280" y="279720"/>
                      <a:ext cx="74664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 flipH="1" rot="2664600">
                      <a:off x="680400" y="-194040"/>
                      <a:ext cx="40104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" name=""/>
                  <p:cNvGrpSpPr/>
                  <p:nvPr/>
                </p:nvGrpSpPr>
                <p:grpSpPr>
                  <a:xfrm>
                    <a:off x="936360" y="-373320"/>
                    <a:ext cx="754200" cy="1055880"/>
                    <a:chOff x="936360" y="-373320"/>
                    <a:chExt cx="754200" cy="105588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 flipH="1" rot="3474000">
                      <a:off x="1045440" y="258120"/>
                      <a:ext cx="77076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 flipH="1" rot="3474000">
                      <a:off x="924120" y="-245160"/>
                      <a:ext cx="4140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" name=""/>
                  <p:cNvGrpSpPr/>
                  <p:nvPr/>
                </p:nvGrpSpPr>
                <p:grpSpPr>
                  <a:xfrm>
                    <a:off x="1145880" y="-428040"/>
                    <a:ext cx="573840" cy="1096200"/>
                    <a:chOff x="1145880" y="-428040"/>
                    <a:chExt cx="573840" cy="1096200"/>
                  </a:xfrm>
                </p:grpSpPr>
                <p:sp>
                  <p:nvSpPr>
                    <p:cNvPr id="69" name=""/>
                    <p:cNvSpPr/>
                    <p:nvPr/>
                  </p:nvSpPr>
                  <p:spPr>
                    <a:xfrm flipH="1" rot="4126800">
                      <a:off x="1153080" y="234000"/>
                      <a:ext cx="74340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H="1" rot="4126800">
                      <a:off x="1112040" y="-306000"/>
                      <a:ext cx="39924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" name=""/>
                  <p:cNvGrpSpPr/>
                  <p:nvPr/>
                </p:nvGrpSpPr>
                <p:grpSpPr>
                  <a:xfrm>
                    <a:off x="1739520" y="-19440"/>
                    <a:ext cx="1132200" cy="594720"/>
                    <a:chOff x="1739520" y="-19440"/>
                    <a:chExt cx="1132200" cy="59472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 rot="20274000">
                      <a:off x="1740600" y="2919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 rot="20274000">
                      <a:off x="2446560" y="4608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" name=""/>
                  <p:cNvGrpSpPr/>
                  <p:nvPr/>
                </p:nvGrpSpPr>
                <p:grpSpPr>
                  <a:xfrm>
                    <a:off x="1674360" y="-199080"/>
                    <a:ext cx="1079280" cy="772200"/>
                    <a:chOff x="1674360" y="-199080"/>
                    <a:chExt cx="1079280" cy="772200"/>
                  </a:xfrm>
                </p:grpSpPr>
                <p:sp>
                  <p:nvSpPr>
                    <p:cNvPr id="75" name=""/>
                    <p:cNvSpPr/>
                    <p:nvPr/>
                  </p:nvSpPr>
                  <p:spPr>
                    <a:xfrm rot="19678800">
                      <a:off x="1658160" y="23904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 rot="19678800">
                      <a:off x="2325600" y="-1119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" name=""/>
                  <p:cNvSpPr/>
                  <p:nvPr/>
                </p:nvSpPr>
                <p:spPr>
                  <a:xfrm flipH="1" rot="4578600">
                    <a:off x="1257120" y="267480"/>
                    <a:ext cx="71964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 rot="4578600">
                    <a:off x="1295640" y="-254520"/>
                    <a:ext cx="3866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" name=""/>
                  <p:cNvGrpSpPr/>
                  <p:nvPr/>
                </p:nvGrpSpPr>
                <p:grpSpPr>
                  <a:xfrm>
                    <a:off x="1572120" y="-412920"/>
                    <a:ext cx="615600" cy="1069560"/>
                    <a:chOff x="1572120" y="-412920"/>
                    <a:chExt cx="615600" cy="106956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 rot="17742000">
                      <a:off x="1410840" y="242640"/>
                      <a:ext cx="74412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 rot="17742000">
                      <a:off x="1823400" y="-281880"/>
                      <a:ext cx="39924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1550520" y="-336960"/>
                    <a:ext cx="979200" cy="996480"/>
                    <a:chOff x="1550520" y="-336960"/>
                    <a:chExt cx="979200" cy="99648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 rot="18822600">
                      <a:off x="1483560" y="230760"/>
                      <a:ext cx="80928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 rot="18822600">
                      <a:off x="2071440" y="-218880"/>
                      <a:ext cx="43416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" name=""/>
                  <p:cNvGrpSpPr/>
                  <p:nvPr/>
                </p:nvGrpSpPr>
                <p:grpSpPr>
                  <a:xfrm>
                    <a:off x="1638360" y="-405360"/>
                    <a:ext cx="217440" cy="1018080"/>
                    <a:chOff x="1638360" y="-405360"/>
                    <a:chExt cx="217440" cy="1018080"/>
                  </a:xfrm>
                </p:grpSpPr>
                <p:sp>
                  <p:nvSpPr>
                    <p:cNvPr id="86" name=""/>
                    <p:cNvSpPr/>
                    <p:nvPr/>
                  </p:nvSpPr>
                  <p:spPr>
                    <a:xfrm rot="16696200">
                      <a:off x="1377360" y="252720"/>
                      <a:ext cx="66816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 rot="16696200">
                      <a:off x="1610640" y="-262080"/>
                      <a:ext cx="35856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" name=""/>
                  <p:cNvGrpSpPr/>
                  <p:nvPr/>
                </p:nvGrpSpPr>
                <p:grpSpPr>
                  <a:xfrm>
                    <a:off x="458280" y="873720"/>
                    <a:ext cx="1142280" cy="1682280"/>
                    <a:chOff x="458280" y="873720"/>
                    <a:chExt cx="1142280" cy="1682280"/>
                  </a:xfrm>
                </p:grpSpPr>
                <p:sp>
                  <p:nvSpPr>
                    <p:cNvPr id="89" name=""/>
                    <p:cNvSpPr/>
                    <p:nvPr/>
                  </p:nvSpPr>
                  <p:spPr>
                    <a:xfrm flipH="1" rot="18336000">
                      <a:off x="568800" y="13255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 flipH="1" rot="18336000">
                      <a:off x="441000" y="2061360"/>
                      <a:ext cx="6480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821520" y="938880"/>
                    <a:ext cx="766080" cy="1688040"/>
                    <a:chOff x="821520" y="938880"/>
                    <a:chExt cx="766080" cy="168804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 flipH="1" rot="17543400">
                      <a:off x="729720" y="1397880"/>
                      <a:ext cx="111744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 flipH="1" rot="17543400">
                      <a:off x="770760" y="2147760"/>
                      <a:ext cx="59904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1175760" y="964800"/>
                    <a:ext cx="449640" cy="1656720"/>
                    <a:chOff x="1175760" y="964800"/>
                    <a:chExt cx="449640" cy="165672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 flipH="1" rot="16870800">
                      <a:off x="902880" y="1423080"/>
                      <a:ext cx="107208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flipH="1" rot="16870800">
                      <a:off x="1072800" y="2181600"/>
                      <a:ext cx="575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1697040" y="847440"/>
                    <a:ext cx="1188000" cy="1652760"/>
                    <a:chOff x="1697040" y="847440"/>
                    <a:chExt cx="1188000" cy="165276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 rot="3144000">
                      <a:off x="1535400" y="128952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 rot="3144000">
                      <a:off x="2247480" y="200772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1697760" y="907560"/>
                    <a:ext cx="911520" cy="1704600"/>
                    <a:chOff x="1697760" y="907560"/>
                    <a:chExt cx="911520" cy="1704600"/>
                  </a:xfrm>
                </p:grpSpPr>
                <p:sp>
                  <p:nvSpPr>
                    <p:cNvPr id="101" name=""/>
                    <p:cNvSpPr/>
                    <p:nvPr/>
                  </p:nvSpPr>
                  <p:spPr>
                    <a:xfrm rot="3745200">
                      <a:off x="1466280" y="1371960"/>
                      <a:ext cx="11559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 rot="3745200">
                      <a:off x="2031840" y="2132640"/>
                      <a:ext cx="619920" cy="27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1675800" y="970920"/>
                    <a:ext cx="633960" cy="1687320"/>
                    <a:chOff x="1675800" y="970920"/>
                    <a:chExt cx="633960" cy="168732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4286400">
                      <a:off x="1362600" y="1452600"/>
                      <a:ext cx="11217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4286400">
                      <a:off x="1803600" y="2220840"/>
                      <a:ext cx="60192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1665000" y="1042560"/>
                    <a:ext cx="354960" cy="1573920"/>
                    <a:chOff x="1665000" y="1042560"/>
                    <a:chExt cx="354960" cy="1573920"/>
                  </a:xfrm>
                </p:grpSpPr>
                <p:sp>
                  <p:nvSpPr>
                    <p:cNvPr id="107" name=""/>
                    <p:cNvSpPr/>
                    <p:nvPr/>
                  </p:nvSpPr>
                  <p:spPr>
                    <a:xfrm rot="4898400">
                      <a:off x="1297080" y="1489320"/>
                      <a:ext cx="1030680" cy="14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 rot="4898400">
                      <a:off x="1588680" y="2210400"/>
                      <a:ext cx="55368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1400760" y="1068120"/>
                    <a:ext cx="332640" cy="1541520"/>
                    <a:chOff x="1400760" y="1068120"/>
                    <a:chExt cx="332640" cy="154152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 rot="5755200">
                      <a:off x="1122120" y="1518480"/>
                      <a:ext cx="100692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 rot="5755200">
                      <a:off x="1245960" y="2243880"/>
                      <a:ext cx="5400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2" name=""/>
              <p:cNvGrpSpPr/>
              <p:nvPr/>
            </p:nvGrpSpPr>
            <p:grpSpPr>
              <a:xfrm>
                <a:off x="56520" y="-185040"/>
                <a:ext cx="3370320" cy="4130280"/>
                <a:chOff x="56520" y="-185040"/>
                <a:chExt cx="3370320" cy="413028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56520" y="-185040"/>
                  <a:ext cx="3370320" cy="4130280"/>
                  <a:chOff x="56520" y="-185040"/>
                  <a:chExt cx="3370320" cy="413028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V="1">
                    <a:off x="1625400" y="-85320"/>
                    <a:ext cx="1801440" cy="28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H="1">
                    <a:off x="243720" y="717480"/>
                    <a:ext cx="170496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615320" y="423000"/>
                    <a:ext cx="105552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H="1">
                    <a:off x="56520" y="165240"/>
                    <a:ext cx="177768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flipH="1">
                    <a:off x="208800" y="-185040"/>
                    <a:ext cx="1495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539000" y="493200"/>
                    <a:ext cx="631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>
                    <a:off x="1086840" y="-97200"/>
                    <a:ext cx="249120" cy="10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 rot="20253000">
                  <a:off x="1969920" y="666360"/>
                  <a:ext cx="263520" cy="5864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" name=""/>
            <p:cNvGrpSpPr/>
            <p:nvPr/>
          </p:nvGrpSpPr>
          <p:grpSpPr>
            <a:xfrm>
              <a:off x="137520" y="-168120"/>
              <a:ext cx="3102480" cy="4236840"/>
              <a:chOff x="137520" y="-168120"/>
              <a:chExt cx="3102480" cy="423684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1166760" y="126504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41520" y="840240"/>
                <a:ext cx="253224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67520" y="632520"/>
                <a:ext cx="11077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137160" y="414000"/>
                <a:ext cx="17773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652760" y="649080"/>
                <a:ext cx="2815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623240" y="641160"/>
                <a:ext cx="7426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82520" y="144216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9660800">
                <a:off x="1532160" y="1101960"/>
                <a:ext cx="26352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03480" y="1350360"/>
                <a:ext cx="64764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08400" y="221400"/>
                <a:ext cx="4150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639160" y="1193400"/>
                <a:ext cx="600840" cy="112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327040" y="625680"/>
                <a:ext cx="905760" cy="747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360520" y="-168120"/>
                <a:ext cx="395640" cy="100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1347000">
                <a:off x="1027440" y="650520"/>
                <a:ext cx="26388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5976360" y="-428040"/>
            <a:ext cx="3457080" cy="4496760"/>
            <a:chOff x="5976360" y="-428040"/>
            <a:chExt cx="3457080" cy="4496760"/>
          </a:xfrm>
        </p:grpSpPr>
        <p:grpSp>
          <p:nvGrpSpPr>
            <p:cNvPr id="138" name=""/>
            <p:cNvGrpSpPr/>
            <p:nvPr/>
          </p:nvGrpSpPr>
          <p:grpSpPr>
            <a:xfrm>
              <a:off x="6696720" y="-30960"/>
              <a:ext cx="457560" cy="403200"/>
              <a:chOff x="6696720" y="-30960"/>
              <a:chExt cx="457560" cy="403200"/>
            </a:xfrm>
          </p:grpSpPr>
          <p:sp>
            <p:nvSpPr>
              <p:cNvPr id="139" name=""/>
              <p:cNvSpPr/>
              <p:nvPr/>
            </p:nvSpPr>
            <p:spPr>
              <a:xfrm>
                <a:off x="6696720" y="-30960"/>
                <a:ext cx="457560" cy="403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60880" y="145440"/>
                <a:ext cx="110160" cy="756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976360" y="-428040"/>
              <a:ext cx="3457080" cy="4373280"/>
              <a:chOff x="5976360" y="-428040"/>
              <a:chExt cx="3457080" cy="437328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5976360" y="-428040"/>
                <a:ext cx="3351240" cy="3086280"/>
                <a:chOff x="5976360" y="-428040"/>
                <a:chExt cx="3351240" cy="308628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6819120" y="145800"/>
                  <a:ext cx="1742040" cy="1506960"/>
                  <a:chOff x="6819120" y="145800"/>
                  <a:chExt cx="1742040" cy="150696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6819120" y="145800"/>
                    <a:ext cx="1742040" cy="150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484400" y="696960"/>
                    <a:ext cx="345240" cy="28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5976360" y="-428040"/>
                  <a:ext cx="3351240" cy="3086280"/>
                  <a:chOff x="5976360" y="-428040"/>
                  <a:chExt cx="3351240" cy="308628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7736760" y="757440"/>
                    <a:ext cx="1335600" cy="1528920"/>
                    <a:chOff x="7736760" y="757440"/>
                    <a:chExt cx="1335600" cy="152892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 rot="2711400">
                      <a:off x="7624440" y="11581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rot="2711400">
                      <a:off x="8416080" y="180720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7801200" y="701640"/>
                    <a:ext cx="1498320" cy="1353960"/>
                    <a:chOff x="7801200" y="701640"/>
                    <a:chExt cx="1498320" cy="135396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 rot="2103600">
                      <a:off x="7772760" y="99036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 rot="2103600">
                      <a:off x="8661600" y="1541520"/>
                      <a:ext cx="581040" cy="3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7799400" y="640440"/>
                    <a:ext cx="1516680" cy="1070280"/>
                    <a:chOff x="7799400" y="640440"/>
                    <a:chExt cx="1516680" cy="107028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 rot="1582800">
                      <a:off x="7792560" y="859320"/>
                      <a:ext cx="10357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 rot="1582800">
                      <a:off x="8714520" y="127116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7797600" y="572760"/>
                    <a:ext cx="1530000" cy="871920"/>
                    <a:chOff x="7797600" y="572760"/>
                    <a:chExt cx="1530000" cy="87192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 rot="1080000">
                      <a:off x="7809120" y="721440"/>
                      <a:ext cx="10008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 rot="1080000">
                      <a:off x="8746200" y="1002240"/>
                      <a:ext cx="53748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7818480" y="505440"/>
                    <a:ext cx="1429200" cy="552240"/>
                    <a:chOff x="7818480" y="505440"/>
                    <a:chExt cx="1429200" cy="55224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 rot="463200">
                      <a:off x="7828920" y="566280"/>
                      <a:ext cx="9219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rot="463200">
                      <a:off x="8731080" y="683640"/>
                      <a:ext cx="495360" cy="34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7842600" y="459000"/>
                    <a:ext cx="1287720" cy="251280"/>
                    <a:chOff x="7842600" y="459000"/>
                    <a:chExt cx="1287720" cy="25128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 rot="21515400">
                      <a:off x="7844040" y="478440"/>
                      <a:ext cx="83772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rot="21515400">
                      <a:off x="8677440" y="4644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7809840" y="175680"/>
                    <a:ext cx="1150560" cy="424440"/>
                    <a:chOff x="7809840" y="175680"/>
                    <a:chExt cx="1150560" cy="42444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 rot="20797200">
                      <a:off x="7817040" y="36612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rot="20797200">
                      <a:off x="8543520" y="2181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6257880" y="844200"/>
                    <a:ext cx="1334160" cy="1528200"/>
                    <a:chOff x="6257880" y="844200"/>
                    <a:chExt cx="1334160" cy="1528200"/>
                  </a:xfrm>
                </p:grpSpPr>
                <p:sp>
                  <p:nvSpPr>
                    <p:cNvPr id="169" name=""/>
                    <p:cNvSpPr/>
                    <p:nvPr/>
                  </p:nvSpPr>
                  <p:spPr>
                    <a:xfrm flipH="1" rot="18888600">
                      <a:off x="6496200" y="124524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 flipH="1" rot="18888600">
                      <a:off x="6265440" y="189324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6004080" y="825480"/>
                    <a:ext cx="1497600" cy="1353960"/>
                    <a:chOff x="6004080" y="825480"/>
                    <a:chExt cx="1497600" cy="135396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 flipH="1" rot="19496400">
                      <a:off x="6447240" y="111420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H="1" rot="19496400">
                      <a:off x="6060600" y="1665360"/>
                      <a:ext cx="58104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5987520" y="763920"/>
                    <a:ext cx="1516320" cy="1070640"/>
                    <a:chOff x="5987520" y="763920"/>
                    <a:chExt cx="1516320" cy="10706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 flipH="1" rot="20017200">
                      <a:off x="6473880" y="982800"/>
                      <a:ext cx="1036080" cy="21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 flipH="1" rot="20017200">
                      <a:off x="6032520" y="139464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5976360" y="696960"/>
                    <a:ext cx="1529640" cy="872640"/>
                    <a:chOff x="5976360" y="696960"/>
                    <a:chExt cx="1529640" cy="87264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 flipH="1" rot="20520000">
                      <a:off x="6492960" y="845640"/>
                      <a:ext cx="10008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 flipH="1" rot="20520000">
                      <a:off x="6019920" y="1126800"/>
                      <a:ext cx="53748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6055920" y="629640"/>
                    <a:ext cx="1428840" cy="552960"/>
                    <a:chOff x="6055920" y="629640"/>
                    <a:chExt cx="1428840" cy="55296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 flipH="1" rot="21136800">
                      <a:off x="6551640" y="690480"/>
                      <a:ext cx="92196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flipH="1" rot="21136800">
                      <a:off x="6076080" y="808200"/>
                      <a:ext cx="495000" cy="34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6173640" y="583200"/>
                    <a:ext cx="1287360" cy="251280"/>
                    <a:chOff x="6173640" y="583200"/>
                    <a:chExt cx="1287360" cy="25128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 flipH="1" rot="84600">
                      <a:off x="6621480" y="603000"/>
                      <a:ext cx="8377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H="1" rot="84600">
                      <a:off x="6176160" y="5886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6342840" y="299520"/>
                    <a:ext cx="1150560" cy="424440"/>
                    <a:chOff x="6342840" y="299520"/>
                    <a:chExt cx="1150560" cy="4244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flipH="1" rot="802800">
                      <a:off x="6749640" y="48996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flipH="1" rot="802800">
                      <a:off x="6364440" y="34200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6401880" y="142200"/>
                    <a:ext cx="1136160" cy="579960"/>
                    <a:chOff x="6401880" y="142200"/>
                    <a:chExt cx="1136160" cy="5799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flipH="1" rot="1278000">
                      <a:off x="6800040" y="4431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flipH="1" rot="1278000">
                      <a:off x="6431040" y="2055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6531480" y="-81720"/>
                    <a:ext cx="1065960" cy="802440"/>
                    <a:chOff x="6531480" y="-81720"/>
                    <a:chExt cx="1065960" cy="80244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flipH="1" rot="2028600">
                      <a:off x="6881400" y="37764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flipH="1" rot="2028600">
                      <a:off x="6563520" y="7920"/>
                      <a:ext cx="39456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6662160" y="-300960"/>
                    <a:ext cx="981360" cy="970560"/>
                    <a:chOff x="6662160" y="-300960"/>
                    <a:chExt cx="981360" cy="97056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flipH="1" rot="2664600">
                      <a:off x="6950880" y="279360"/>
                      <a:ext cx="7462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H="1" rot="2664600">
                      <a:off x="6687000" y="-194400"/>
                      <a:ext cx="4006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6943320" y="-373320"/>
                    <a:ext cx="753840" cy="1055880"/>
                    <a:chOff x="6943320" y="-373320"/>
                    <a:chExt cx="753840" cy="1055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flipH="1" rot="3474000">
                      <a:off x="7052040" y="258120"/>
                      <a:ext cx="77076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flipH="1" rot="3474000">
                      <a:off x="6931080" y="-245160"/>
                      <a:ext cx="4140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7152840" y="-428040"/>
                    <a:ext cx="573840" cy="1096200"/>
                    <a:chOff x="7152840" y="-428040"/>
                    <a:chExt cx="573840" cy="109620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flipH="1" rot="4126800">
                      <a:off x="7160040" y="234000"/>
                      <a:ext cx="74340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flipH="1" rot="4126800">
                      <a:off x="7119000" y="-306000"/>
                      <a:ext cx="39924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7746840" y="-19440"/>
                    <a:ext cx="1132200" cy="594720"/>
                    <a:chOff x="7746840" y="-19440"/>
                    <a:chExt cx="1132200" cy="5947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274000">
                      <a:off x="7747920" y="2919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274000">
                      <a:off x="8453880" y="4608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7681320" y="-199080"/>
                    <a:ext cx="1079280" cy="772200"/>
                    <a:chOff x="7681320" y="-199080"/>
                    <a:chExt cx="1079280" cy="7722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rot="19678800">
                      <a:off x="7665120" y="23904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rot="19678800">
                      <a:off x="8332560" y="-1119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"/>
                  <p:cNvSpPr/>
                  <p:nvPr/>
                </p:nvSpPr>
                <p:spPr>
                  <a:xfrm flipH="1" rot="4578600">
                    <a:off x="7264440" y="267480"/>
                    <a:ext cx="71964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4578600">
                    <a:off x="7302600" y="-254520"/>
                    <a:ext cx="3866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7579080" y="-412920"/>
                    <a:ext cx="615240" cy="1069560"/>
                    <a:chOff x="7579080" y="-412920"/>
                    <a:chExt cx="615240" cy="106956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 rot="17742000">
                      <a:off x="7417800" y="242640"/>
                      <a:ext cx="74412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rot="17742000">
                      <a:off x="7830360" y="-281880"/>
                      <a:ext cx="399240" cy="17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7557480" y="-336960"/>
                    <a:ext cx="979200" cy="996480"/>
                    <a:chOff x="7557480" y="-336960"/>
                    <a:chExt cx="979200" cy="99648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 rot="18822600">
                      <a:off x="7490520" y="230760"/>
                      <a:ext cx="80928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rot="18822600">
                      <a:off x="8078400" y="-218880"/>
                      <a:ext cx="43416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7645320" y="-405360"/>
                    <a:ext cx="217440" cy="1018080"/>
                    <a:chOff x="7645320" y="-405360"/>
                    <a:chExt cx="217440" cy="101808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 rot="16696200">
                      <a:off x="7384320" y="252720"/>
                      <a:ext cx="66816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rot="16696200">
                      <a:off x="7617600" y="-262080"/>
                      <a:ext cx="35856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6465600" y="873720"/>
                    <a:ext cx="1142280" cy="1682280"/>
                    <a:chOff x="6465600" y="873720"/>
                    <a:chExt cx="1142280" cy="168228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 flipH="1" rot="18336000">
                      <a:off x="6576120" y="13255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H="1" rot="18336000">
                      <a:off x="6448320" y="2061360"/>
                      <a:ext cx="6480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6828480" y="938880"/>
                    <a:ext cx="766080" cy="1688040"/>
                    <a:chOff x="6828480" y="938880"/>
                    <a:chExt cx="766080" cy="1688040"/>
                  </a:xfrm>
                </p:grpSpPr>
                <p:sp>
                  <p:nvSpPr>
                    <p:cNvPr id="225" name=""/>
                    <p:cNvSpPr/>
                    <p:nvPr/>
                  </p:nvSpPr>
                  <p:spPr>
                    <a:xfrm flipH="1" rot="17543400">
                      <a:off x="6736680" y="1397880"/>
                      <a:ext cx="111744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 flipH="1" rot="17543400">
                      <a:off x="6777720" y="2147760"/>
                      <a:ext cx="59904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7182720" y="964800"/>
                    <a:ext cx="449640" cy="1656720"/>
                    <a:chOff x="7182720" y="964800"/>
                    <a:chExt cx="449640" cy="165672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flipH="1" rot="16870800">
                      <a:off x="6909840" y="1423080"/>
                      <a:ext cx="107208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flipH="1" rot="16870800">
                      <a:off x="7079760" y="2181600"/>
                      <a:ext cx="575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7704000" y="847440"/>
                    <a:ext cx="1188000" cy="1652760"/>
                    <a:chOff x="7704000" y="847440"/>
                    <a:chExt cx="1188000" cy="16527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3144000">
                      <a:off x="7542360" y="128952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3144000">
                      <a:off x="8254440" y="200772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7704720" y="907560"/>
                    <a:ext cx="911520" cy="1704600"/>
                    <a:chOff x="7704720" y="907560"/>
                    <a:chExt cx="911520" cy="1704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3745200">
                      <a:off x="7473240" y="1371960"/>
                      <a:ext cx="11559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3745200">
                      <a:off x="8038800" y="2132640"/>
                      <a:ext cx="619920" cy="27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7683120" y="970920"/>
                    <a:ext cx="633960" cy="1687320"/>
                    <a:chOff x="7683120" y="970920"/>
                    <a:chExt cx="633960" cy="16873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4286400">
                      <a:off x="7369920" y="1452600"/>
                      <a:ext cx="11217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4286400">
                      <a:off x="7810920" y="2220840"/>
                      <a:ext cx="60192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7672320" y="1042560"/>
                    <a:ext cx="354960" cy="1573920"/>
                    <a:chOff x="7672320" y="1042560"/>
                    <a:chExt cx="354960" cy="157392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898400">
                      <a:off x="7304400" y="1489320"/>
                      <a:ext cx="1030680" cy="14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898400">
                      <a:off x="7596000" y="2210400"/>
                      <a:ext cx="55368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7407720" y="1068120"/>
                    <a:ext cx="332640" cy="1541520"/>
                    <a:chOff x="7407720" y="1068120"/>
                    <a:chExt cx="332640" cy="154152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5755200">
                      <a:off x="7129080" y="1518480"/>
                      <a:ext cx="100692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5755200">
                      <a:off x="7252920" y="2243880"/>
                      <a:ext cx="5400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6063840" y="-185040"/>
                <a:ext cx="3369600" cy="4130280"/>
                <a:chOff x="6063840" y="-185040"/>
                <a:chExt cx="3369600" cy="413028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6063840" y="-185040"/>
                  <a:ext cx="3369600" cy="4130280"/>
                  <a:chOff x="6063840" y="-185040"/>
                  <a:chExt cx="3369600" cy="41302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V="1">
                    <a:off x="7632360" y="-85320"/>
                    <a:ext cx="1801080" cy="28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>
                    <a:off x="6251040" y="717480"/>
                    <a:ext cx="170496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622640" y="423000"/>
                    <a:ext cx="105552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>
                    <a:off x="6063840" y="165240"/>
                    <a:ext cx="177768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>
                    <a:off x="6216120" y="-185040"/>
                    <a:ext cx="1495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546320" y="493200"/>
                    <a:ext cx="631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>
                    <a:off x="7093800" y="-97200"/>
                    <a:ext cx="249120" cy="10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 rot="20253000">
                  <a:off x="7977240" y="666360"/>
                  <a:ext cx="263520" cy="5864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6144480" y="-168120"/>
              <a:ext cx="3102480" cy="4236840"/>
              <a:chOff x="6144480" y="-168120"/>
              <a:chExt cx="3102480" cy="4236840"/>
            </a:xfrm>
          </p:grpSpPr>
          <p:sp>
            <p:nvSpPr>
              <p:cNvPr id="256" name=""/>
              <p:cNvSpPr/>
              <p:nvPr/>
            </p:nvSpPr>
            <p:spPr>
              <a:xfrm flipH="1">
                <a:off x="7173720" y="126504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647760" y="840240"/>
                <a:ext cx="25318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774120" y="632520"/>
                <a:ext cx="11077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144120" y="414000"/>
                <a:ext cx="17773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59720" y="649080"/>
                <a:ext cx="2815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30200" y="641160"/>
                <a:ext cx="7426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89480" y="144216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9660800">
                <a:off x="7538760" y="1101960"/>
                <a:ext cx="26352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311160" y="1350360"/>
                <a:ext cx="6472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6615360" y="221400"/>
                <a:ext cx="4150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646120" y="1193400"/>
                <a:ext cx="600840" cy="112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34000" y="625680"/>
                <a:ext cx="905760" cy="747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367120" y="-168120"/>
                <a:ext cx="395280" cy="100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1347000">
                <a:off x="7034400" y="650520"/>
                <a:ext cx="26388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1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CA9C-6DE5-40A9-B1E2-0805405610D6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"/>
          <p:cNvSpPr/>
          <p:nvPr/>
        </p:nvSpPr>
        <p:spPr>
          <a:xfrm rot="19045800">
            <a:off x="-653760" y="439200"/>
            <a:ext cx="2800440" cy="731880"/>
          </a:xfrm>
          <a:prstGeom prst="rect">
            <a:avLst/>
          </a:prstGeom>
          <a:gradFill rotWithShape="0">
            <a:gsLst>
              <a:gs pos="0">
                <a:srgbClr val="750e03"/>
              </a:gs>
              <a:gs pos="50000">
                <a:srgbClr val="fe1f08"/>
              </a:gs>
              <a:gs pos="100000">
                <a:srgbClr val="750e03"/>
              </a:gs>
            </a:gsLst>
            <a:lin ang="7956000"/>
          </a:gra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颁奖嘉宾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-852480" y="685800"/>
            <a:ext cx="12715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 http://www.ExeSoft.cn</dc:creator>
  <dc:description/>
  <dc:language>en-US</dc:language>
  <cp:lastModifiedBy>行易软件 http://www.ExeSoft.cn</cp:lastModifiedBy>
  <dcterms:modified xsi:type="dcterms:W3CDTF">2013-06-22T10:12:14Z</dcterms:modified>
  <cp:revision>1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