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EEBB-4C4C-4966-BD3A-C6A552C7E1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C96-64B5-4575-8A7A-8E55CC0C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0D9-4616-4146-A6CC-5200BA35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6C86-BDCD-40B1-A3F7-B5D3F650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D62-8532-4947-9F55-14AFB556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5AC9-45CB-402C-9B7F-EA3004EF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86C4-3AA8-41D7-AD8E-90FFAF98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278E-E72D-4CC7-A240-3653B84C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A772-A489-42BA-88DA-3B4DD0F9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9B4D-5776-4FCC-B94F-5A0386C4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2985-3B62-4513-ABBF-660A9E82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2AB7-7F97-4140-8C41-AF04D89C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657-4CCA-490E-A67B-3259CF8E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9BCC-DBF5-4ACC-B95F-CC3BA85E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3AF8-2AFE-4C87-89E5-7BF97133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5194-A723-45CC-9873-D7896522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D5A2-7789-409A-BCD6-05202B29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2740-223D-43C7-A691-A641D10B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BE4-9030-4751-AFE4-4F6C37FD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655-74C0-4A4D-8ABD-736E4CEA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3D5-BCFD-4F67-A3D8-9E7910FD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F88-7F4D-4097-930E-5B42EFBA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CA0-87CA-42F5-84CC-0373A1FD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B83-A3FF-4547-AFDB-9A85AE3E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456-3DAF-4A2F-96A8-9858F023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A921-0C5D-40EE-A8DE-4C79C4B84D3B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1480" y="393480"/>
            <a:ext cx="1836360" cy="2036880"/>
            <a:chOff x="321480" y="39348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1375920" y="1717560"/>
              <a:ext cx="586080" cy="572040"/>
              <a:chOff x="1375920" y="17175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1439280" y="1786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1609560" y="19782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251000" y="1113480"/>
              <a:ext cx="586080" cy="572040"/>
              <a:chOff x="1251000" y="11134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1314360" y="11826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1484640" y="1374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21480" y="587880"/>
              <a:ext cx="586080" cy="572040"/>
              <a:chOff x="321480" y="5878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384840" y="6570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555120" y="8488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15080" y="393480"/>
              <a:ext cx="1742760" cy="2036880"/>
              <a:chOff x="415080" y="39348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687960" y="609840"/>
                <a:ext cx="870120" cy="842760"/>
                <a:chOff x="687960" y="6098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780480" y="7131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1033200" y="9525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16240" y="451080"/>
                <a:ext cx="1326600" cy="1370520"/>
                <a:chOff x="516240" y="45108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1126440" y="955440"/>
                  <a:ext cx="690480" cy="443880"/>
                  <a:chOff x="1126440" y="9554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1119600" y="10540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1532520" y="12348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1165680" y="924840"/>
                  <a:ext cx="677160" cy="354600"/>
                  <a:chOff x="1165680" y="9248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1171440" y="9727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1599120" y="10940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1153440" y="905040"/>
                  <a:ext cx="642960" cy="227880"/>
                  <a:chOff x="1153440" y="9050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1156320" y="9219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1572480" y="9831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1140840" y="855720"/>
                  <a:ext cx="621360" cy="180360"/>
                  <a:chOff x="1140840" y="8557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1143360" y="8676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1546200" y="8740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1120680" y="734040"/>
                  <a:ext cx="577440" cy="210240"/>
                  <a:chOff x="1120680" y="7340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1126440" y="8096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1489320" y="7549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1115280" y="651960"/>
                  <a:ext cx="502560" cy="254880"/>
                  <a:chOff x="1115280" y="6519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1114560" y="7808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1428840" y="6822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1096560" y="572760"/>
                  <a:ext cx="415080" cy="315720"/>
                  <a:chOff x="1096560" y="5727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1088640" y="7480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1342080" y="60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791280" y="1039680"/>
                  <a:ext cx="317880" cy="744840"/>
                  <a:chOff x="791280" y="10396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720000" y="12513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761400" y="15789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651600" y="1058040"/>
                  <a:ext cx="426960" cy="679680"/>
                  <a:chOff x="651600" y="10580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705600" y="12124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666720" y="15181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596880" y="1024920"/>
                  <a:ext cx="470160" cy="592200"/>
                  <a:chOff x="596880" y="10249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694080" y="11610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613080" y="14187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543960" y="993240"/>
                  <a:ext cx="517320" cy="527760"/>
                  <a:chOff x="543960" y="9932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681480" y="11070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568800" y="13165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516240" y="960480"/>
                  <a:ext cx="524160" cy="408960"/>
                  <a:chOff x="516240" y="9604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678600" y="10429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538560" y="11869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522360" y="951120"/>
                  <a:ext cx="494280" cy="268560"/>
                  <a:chOff x="522360" y="9511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686160" y="1005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533520" y="10915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559080" y="930240"/>
                  <a:ext cx="451440" cy="151560"/>
                  <a:chOff x="559080" y="9302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718200" y="9504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565200" y="9716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568440" y="907920"/>
                  <a:ext cx="448560" cy="100800"/>
                  <a:chOff x="568440" y="9079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727560" y="9248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568080" y="9079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577440" y="796680"/>
                  <a:ext cx="462960" cy="184320"/>
                  <a:chOff x="577440" y="7966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747720" y="8874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586080" y="8118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586800" y="687600"/>
                  <a:ext cx="465480" cy="268200"/>
                  <a:chOff x="586800" y="6876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757440" y="8377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599400" y="7142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66360" y="617400"/>
                  <a:ext cx="421200" cy="339840"/>
                  <a:chOff x="666360" y="6174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779040" y="8157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672480" y="6609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30440" y="562680"/>
                  <a:ext cx="365760" cy="386640"/>
                  <a:chOff x="730440" y="5626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814320" y="7920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732240" y="6116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1069560" y="514080"/>
                  <a:ext cx="380880" cy="368640"/>
                  <a:chOff x="1069560" y="5140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1051200" y="7282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1282680" y="5536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1046520" y="466920"/>
                  <a:ext cx="331920" cy="420120"/>
                  <a:chOff x="1046520" y="4669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1013040" y="7200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1214280" y="5090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855720" y="7927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801720" y="6058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1033200" y="465480"/>
                  <a:ext cx="83880" cy="472320"/>
                  <a:chOff x="1033200" y="4654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909000" y="7581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993240" y="5176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1013760" y="451080"/>
                  <a:ext cx="257040" cy="488880"/>
                  <a:chOff x="1013760" y="45108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936720" y="7383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1099080" y="5050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956160" y="498600"/>
                  <a:ext cx="123480" cy="423000"/>
                  <a:chOff x="956160" y="4986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896760" y="7725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912960" y="5598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901440" y="1052640"/>
                  <a:ext cx="212400" cy="768960"/>
                  <a:chOff x="901440" y="10526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762120" y="12715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852840" y="16182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1030320" y="1083240"/>
                  <a:ext cx="144360" cy="709560"/>
                  <a:chOff x="1030320" y="10832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834480" y="12819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988920" y="16081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1054800" y="1075680"/>
                  <a:ext cx="241200" cy="684000"/>
                  <a:chOff x="1054800" y="10756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901800" y="12708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1101960" y="15793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1127160" y="992160"/>
                  <a:ext cx="662040" cy="520920"/>
                  <a:chOff x="1127160" y="9921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1109520" y="11174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1505880" y="13359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1134360" y="1013040"/>
                  <a:ext cx="576720" cy="587520"/>
                  <a:chOff x="1134360" y="10130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1098000" y="11635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1445760" y="14180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1134360" y="1042560"/>
                  <a:ext cx="480960" cy="616680"/>
                  <a:chOff x="1134360" y="10425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1072080" y="12128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1371960" y="14878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1139400" y="1069920"/>
                  <a:ext cx="368640" cy="616680"/>
                  <a:chOff x="1139400" y="10699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1055520" y="12434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1293840" y="15177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1128240" y="1093320"/>
                  <a:ext cx="219600" cy="641880"/>
                  <a:chOff x="1128240" y="10933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993960" y="12816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1170000" y="15818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1066320" y="12121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947160" y="9277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1146600" y="4806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981360" y="9306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794880" y="9961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708480" y="8877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1319400" y="8679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1300320" y="8366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1259640" y="7297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1392480" y="11631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1141200" y="11030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640080" y="8020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645480" y="6631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1249200" y="7988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762120" y="13438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702000" y="8740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830160" y="6922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1596240" y="9475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1361160" y="7534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1277280" y="4708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1233360" y="8697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887040" y="9993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246040" y="-161640"/>
            <a:ext cx="1402560" cy="1913400"/>
            <a:chOff x="2246040" y="-161640"/>
            <a:chExt cx="140256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2890800" y="1263240"/>
              <a:ext cx="482400" cy="458280"/>
              <a:chOff x="2890800" y="1263240"/>
              <a:chExt cx="48240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2902320" y="1275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067920" y="14655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962800" y="650520"/>
              <a:ext cx="482400" cy="458280"/>
              <a:chOff x="2962800" y="65052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2974320" y="66276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139920" y="85284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246040" y="-140760"/>
              <a:ext cx="482400" cy="458280"/>
              <a:chOff x="2246040" y="-14076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257560" y="-12816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2423520" y="612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254320" y="-161640"/>
              <a:ext cx="1394280" cy="1913400"/>
              <a:chOff x="2254320" y="-161640"/>
              <a:chExt cx="139428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2561040" y="61200"/>
                <a:ext cx="718560" cy="672480"/>
                <a:chOff x="2561040" y="6120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2577960" y="795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2837520" y="31284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254320" y="-161640"/>
                <a:ext cx="1320120" cy="1297080"/>
                <a:chOff x="2254320" y="-161640"/>
                <a:chExt cx="132012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2926080" y="336240"/>
                  <a:ext cx="569880" cy="615240"/>
                  <a:chOff x="2926080" y="33624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2885040" y="49680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219840" y="75996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2962800" y="317520"/>
                  <a:ext cx="611640" cy="531000"/>
                  <a:chOff x="2962800" y="31752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2957760" y="4219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321000" y="63936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2961000" y="289800"/>
                  <a:ext cx="610560" cy="412560"/>
                  <a:chOff x="2961000" y="28980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2962080" y="36612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334320" y="52452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2959560" y="259920"/>
                  <a:ext cx="609840" cy="331200"/>
                  <a:chOff x="2959560" y="259920"/>
                  <a:chExt cx="60984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2965320" y="30816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341880" y="41112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2966760" y="229680"/>
                  <a:ext cx="560160" cy="200160"/>
                  <a:chOff x="2966760" y="22968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2969640" y="24372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327120" y="2779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2970720" y="181440"/>
                  <a:ext cx="509760" cy="114120"/>
                  <a:chOff x="2970720" y="18144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2972520" y="20772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300120" y="18792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2956680" y="67320"/>
                  <a:ext cx="451440" cy="198000"/>
                  <a:chOff x="2956680" y="67320"/>
                  <a:chExt cx="45144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2959560" y="1616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241800" y="8712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2382480" y="380160"/>
                  <a:ext cx="513000" cy="660960"/>
                  <a:chOff x="2382480" y="38016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2444040" y="5580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2379600" y="84312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278080" y="382320"/>
                  <a:ext cx="573840" cy="579600"/>
                  <a:chOff x="2278080" y="38232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2440440" y="5029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302920" y="7477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265840" y="353160"/>
                  <a:ext cx="584280" cy="467640"/>
                  <a:chOff x="2265840" y="35316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2447280" y="44748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286360" y="6357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254320" y="322200"/>
                  <a:ext cx="595800" cy="389160"/>
                  <a:chOff x="2254320" y="322200"/>
                  <a:chExt cx="595800" cy="3891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2451960" y="38988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275200" y="52308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277360" y="290520"/>
                  <a:ext cx="561600" cy="259200"/>
                  <a:chOff x="2277360" y="29052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2471040" y="32364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289240" y="38844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320560" y="281520"/>
                  <a:ext cx="505080" cy="116640"/>
                  <a:chOff x="2320560" y="28152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2495160" y="28656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321280" y="29448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2382840" y="174240"/>
                  <a:ext cx="453960" cy="151560"/>
                  <a:chOff x="2382840" y="174240"/>
                  <a:chExt cx="45396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2544120" y="2372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2390040" y="1868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401560" y="106560"/>
                  <a:ext cx="451440" cy="216720"/>
                  <a:chOff x="2401560" y="106560"/>
                  <a:chExt cx="451440" cy="2167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2561040" y="21600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2412720" y="12780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2446200" y="9720"/>
                  <a:ext cx="430920" cy="309600"/>
                  <a:chOff x="2446200" y="972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2591280" y="1868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2460600" y="4212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2490840" y="-84600"/>
                  <a:ext cx="404280" cy="381240"/>
                  <a:chOff x="2490840" y="-8460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2617200" y="14436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2503800" y="-446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2597040" y="-123840"/>
                  <a:ext cx="325440" cy="431640"/>
                  <a:chOff x="2597040" y="-12384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2645280" y="1353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2592360" y="-6912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678760" y="-152640"/>
                  <a:ext cx="253080" cy="452880"/>
                  <a:chOff x="2678760" y="-152640"/>
                  <a:chExt cx="253080" cy="45288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2687760" y="12204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2665080" y="-9936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2930760" y="-11880"/>
                  <a:ext cx="440640" cy="265680"/>
                  <a:chOff x="2930760" y="-1188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2930400" y="13176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202560" y="1620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2905200" y="-82800"/>
                  <a:ext cx="416520" cy="336240"/>
                  <a:chOff x="2905200" y="-82800"/>
                  <a:chExt cx="416520" cy="33624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2896920" y="11232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151800" y="-4680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2729520" y="13428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2736360" y="-8136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2865600" y="-161640"/>
                  <a:ext cx="225720" cy="456480"/>
                  <a:chOff x="2865600" y="-16164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2788560" y="11988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2943720" y="-10476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2853000" y="-134640"/>
                  <a:ext cx="378720" cy="430200"/>
                  <a:chOff x="2853000" y="-134640"/>
                  <a:chExt cx="37872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2817000" y="1137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043080" y="-8244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2895120" y="-153000"/>
                  <a:ext cx="63360" cy="429480"/>
                  <a:chOff x="2895120" y="-15300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2776680" y="12528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2860560" y="-9216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2469600" y="392760"/>
                  <a:ext cx="429480" cy="720000"/>
                  <a:chOff x="2469600" y="39276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2477520" y="59040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2454480" y="90972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2617560" y="420480"/>
                  <a:ext cx="273960" cy="714960"/>
                  <a:chOff x="2617560" y="42048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2544120" y="617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2586960" y="93960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2758320" y="429840"/>
                  <a:ext cx="145440" cy="696240"/>
                  <a:chOff x="2758320" y="429840"/>
                  <a:chExt cx="14544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2613600" y="624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2704680" y="94716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2916720" y="373680"/>
                  <a:ext cx="514800" cy="672840"/>
                  <a:chOff x="2916720" y="373680"/>
                  <a:chExt cx="51480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2856240" y="55368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162240" y="84780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2920320" y="398520"/>
                  <a:ext cx="405360" cy="701640"/>
                  <a:chOff x="2920320" y="39852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2831400" y="59040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080880" y="90468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2915640" y="425880"/>
                  <a:ext cx="292320" cy="701280"/>
                  <a:chOff x="2915640" y="42588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2793600" y="62676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2991960" y="94716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2914560" y="455400"/>
                  <a:ext cx="178920" cy="660600"/>
                  <a:chOff x="2914560" y="455400"/>
                  <a:chExt cx="17892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2769120" y="64476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2908800" y="94752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2848680" y="469440"/>
                  <a:ext cx="97200" cy="649440"/>
                  <a:chOff x="2848680" y="46944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2701440" y="66024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2774880" y="96912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2737800" y="55800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2546640" y="36648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2908080" y="-3564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2592000" y="2916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2388600" y="331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339640" y="20592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2940840" y="28764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2928240" y="280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2920320" y="18540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062880" y="61488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2873520" y="4820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302200" y="10332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354040" y="-4356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2892600" y="2210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2401560" y="60912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2495520" y="12996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2675160" y="-118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315600" y="49248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174840" y="25704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173040" y="-7092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034080" y="28908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2664720" y="30348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8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8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0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9981-FA50-498C-8ABC-090F3C5E5BF1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组织奖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浙江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精神文明奖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3-06-22T10:12:53Z</dcterms:modified>
  <cp:revision>8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