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8905-039E-48C9-AF7E-AE62562940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19E-CBDC-4D53-BC29-94BBAF46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5FE-CD0A-4E7A-BABE-FDE84F38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D4D-D58A-48E7-81A2-762EDFBD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2F6-BE98-455B-9E01-3A350D8C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D917-B863-47FC-A718-27E5E15E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F66F-2C63-4EC1-9C09-43A90C33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1279-D4EA-4310-B206-0AE4FA10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2F5A-8804-45CA-B04D-B3078133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D77E-5C1E-4873-9DEF-D023EA53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65E9-4A16-40DC-BD8A-6302A3BB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5C70-F68A-4116-A7C3-51D537BC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CF2-9F19-480E-A4E7-71C645E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E81-F37E-44D9-82A5-AC030E18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6AAA-D50B-4E49-9361-A250AE8C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0C35-4DCD-41DC-B262-77C9F9B3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E928-37B1-4E3F-9A7E-1FAE40E6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BE3F-4294-4994-8B77-35569908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9AE-F23A-4F1A-BA93-CF02F557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980-DAC8-4142-82C7-504FBA56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666-EACC-4E9E-8915-6700F82A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C05-4FE8-4ADC-A2B4-3DF27327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760-4AE5-45CA-A761-C4F875B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5FF-3DFB-49E7-B504-52F41F7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E9B-1C94-4BD0-83A7-370D1663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59B6-752B-4BAA-B749-BE3E4AB0795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7AFA-68B0-4377-9231-2E33B099F00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6-12-30T07:15:08Z</dcterms:modified>
  <cp:revision>371</cp:revision>
  <dc:subject/>
  <dc:title>模板</dc:title>
</cp:coreProperties>
</file>