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  <p:custShowLst>
    <p:custShow name="ShowBlank" id="0">
      <p:sldLst>
        <p:sld r:id="rId7"/>
      </p:sldLst>
    </p:custShow>
    <p:custShow name="ShowBJ" id="1">
      <p:sldLst>
        <p:sld r:id="rId8"/>
      </p:sldLst>
    </p:custShow>
    <p:custShow name="ShowIndex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2ABB-6897-4F56-AB0E-C348CB3A093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过渡刷新使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颁奖主题幻灯。文本框内容将被打分软件动态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字、颜色、形状、布局可调整修改。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过渡刷新使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风格与第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为颁奖信息展示幻灯。有效对象数量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里面的文本框及图片框不能删除，但可以随意拖动。此模板不展示评委照片，所以照片框在可视界面之外。文字、颜色、形状、布局可调整修改。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03BC-E99C-4786-8BB6-216BC544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F6D0-5409-4E2C-87BE-E8B21F42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177D-2A52-4E9A-A598-602C68BC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C189-525F-4C68-A8A3-400CD451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1544-1D88-4C5C-9D51-5A37D514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46AD-2402-4BFC-922C-3BAFEF9E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AC48-522D-45D0-BF63-008F76EB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C5E3-56D6-49BF-90AA-5BCB1D82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8DDC-2FCB-4D06-B7D7-5344C706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944E-0C35-4047-9BD2-8D3B7005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988C-D289-4E51-ABA9-1AC0FC25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1A73-B846-46AD-ABEE-9265EC0B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C307-EBBD-4EEE-B23E-2912EED7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0340-4715-45E5-AD64-52C157EE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D831-29F4-4FC1-A4EC-4D2B2BF5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3B54-AC5A-429B-AF06-87B897CA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5846-F325-4528-ADEF-71DE7A87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C630-8202-4595-B817-134C985C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5E57-FA38-4224-AFD2-C49DE50E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E090-2F0E-4812-8D92-02F71608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4CAD-AD46-4FFD-A193-F8DC099A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43E4-0FD2-4B87-9A0D-F912B157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A1C5-C771-4614-933F-EC29EFAB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A1BC-53BB-4038-A3B8-BA755F0E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231F-337A-4FF8-BE94-9CE9C79D106D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2637000"/>
            <a:ext cx="79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579800">
            <a:off x="7092720" y="549360"/>
            <a:ext cx="1817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颁奖典礼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404360" y="-63720"/>
            <a:ext cx="1836360" cy="2036880"/>
            <a:chOff x="1404360" y="-63720"/>
            <a:chExt cx="1836360" cy="2036880"/>
          </a:xfrm>
        </p:grpSpPr>
        <p:grpSp>
          <p:nvGrpSpPr>
            <p:cNvPr id="141" name=""/>
            <p:cNvGrpSpPr/>
            <p:nvPr/>
          </p:nvGrpSpPr>
          <p:grpSpPr>
            <a:xfrm>
              <a:off x="2458800" y="1260360"/>
              <a:ext cx="586080" cy="572040"/>
              <a:chOff x="2458800" y="1260360"/>
              <a:chExt cx="586080" cy="572040"/>
            </a:xfrm>
          </p:grpSpPr>
          <p:sp>
            <p:nvSpPr>
              <p:cNvPr id="142" name=""/>
              <p:cNvSpPr/>
              <p:nvPr/>
            </p:nvSpPr>
            <p:spPr>
              <a:xfrm rot="20306400">
                <a:off x="2522160" y="13294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306400">
                <a:off x="2692440" y="152100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2333880" y="656280"/>
              <a:ext cx="586080" cy="572040"/>
              <a:chOff x="2333880" y="656280"/>
              <a:chExt cx="586080" cy="572040"/>
            </a:xfrm>
          </p:grpSpPr>
          <p:sp>
            <p:nvSpPr>
              <p:cNvPr id="145" name=""/>
              <p:cNvSpPr/>
              <p:nvPr/>
            </p:nvSpPr>
            <p:spPr>
              <a:xfrm rot="20306400">
                <a:off x="2397240" y="7254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306400">
                <a:off x="2567520" y="9169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404360" y="130680"/>
              <a:ext cx="586080" cy="572040"/>
              <a:chOff x="1404360" y="130680"/>
              <a:chExt cx="586080" cy="572040"/>
            </a:xfrm>
          </p:grpSpPr>
          <p:sp>
            <p:nvSpPr>
              <p:cNvPr id="148" name=""/>
              <p:cNvSpPr/>
              <p:nvPr/>
            </p:nvSpPr>
            <p:spPr>
              <a:xfrm rot="20306400">
                <a:off x="1467720" y="1998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306400">
                <a:off x="1638000" y="3916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1497960" y="-63720"/>
              <a:ext cx="1742760" cy="2036880"/>
              <a:chOff x="1497960" y="-63720"/>
              <a:chExt cx="1742760" cy="20368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770840" y="152640"/>
                <a:ext cx="870120" cy="842760"/>
                <a:chOff x="1770840" y="152640"/>
                <a:chExt cx="870120" cy="842760"/>
              </a:xfrm>
            </p:grpSpPr>
            <p:sp>
              <p:nvSpPr>
                <p:cNvPr id="152" name=""/>
                <p:cNvSpPr/>
                <p:nvPr/>
              </p:nvSpPr>
              <p:spPr>
                <a:xfrm rot="20306400">
                  <a:off x="1863360" y="25596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20306400">
                  <a:off x="2116080" y="4953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599120" y="-6120"/>
                <a:ext cx="1326600" cy="1370520"/>
                <a:chOff x="1599120" y="-6120"/>
                <a:chExt cx="1326600" cy="137052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2209320" y="498240"/>
                  <a:ext cx="690480" cy="443880"/>
                  <a:chOff x="2209320" y="498240"/>
                  <a:chExt cx="690480" cy="443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1417800">
                    <a:off x="2202480" y="59688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417800">
                    <a:off x="2615400" y="77760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2248560" y="467640"/>
                  <a:ext cx="677160" cy="354600"/>
                  <a:chOff x="2248560" y="467640"/>
                  <a:chExt cx="677160" cy="3546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810000">
                    <a:off x="2254320" y="5155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810000">
                    <a:off x="2682000" y="6368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2236320" y="447840"/>
                  <a:ext cx="642960" cy="227880"/>
                  <a:chOff x="2236320" y="447840"/>
                  <a:chExt cx="642960" cy="2278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rot="289200">
                    <a:off x="2239200" y="46476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289200">
                    <a:off x="2655360" y="5259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2223720" y="398520"/>
                  <a:ext cx="621360" cy="180360"/>
                  <a:chOff x="2223720" y="398520"/>
                  <a:chExt cx="621360" cy="1803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rot="21386400">
                    <a:off x="2226240" y="410400"/>
                    <a:ext cx="3931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21386400">
                    <a:off x="2629080" y="41688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2203560" y="276840"/>
                  <a:ext cx="577440" cy="210240"/>
                  <a:chOff x="2203560" y="276840"/>
                  <a:chExt cx="577440" cy="21024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rot="20770200">
                    <a:off x="2209320" y="352440"/>
                    <a:ext cx="36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20770200">
                    <a:off x="2572200" y="29772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2198160" y="194760"/>
                  <a:ext cx="502560" cy="254880"/>
                  <a:chOff x="2198160" y="194760"/>
                  <a:chExt cx="502560" cy="25488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rot="20221800">
                    <a:off x="2197440" y="3236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20221800">
                    <a:off x="2511720" y="22500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2179440" y="115560"/>
                  <a:ext cx="415080" cy="315720"/>
                  <a:chOff x="2179440" y="115560"/>
                  <a:chExt cx="415080" cy="3157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rot="19503600">
                    <a:off x="2171520" y="2908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9503600">
                    <a:off x="2424960" y="1508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1874160" y="582480"/>
                  <a:ext cx="317880" cy="744840"/>
                  <a:chOff x="1874160" y="582480"/>
                  <a:chExt cx="317880" cy="7448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17595000">
                    <a:off x="1802880" y="79416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17595000">
                    <a:off x="1844280" y="112176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1734480" y="600840"/>
                  <a:ext cx="426960" cy="679680"/>
                  <a:chOff x="1734480" y="600840"/>
                  <a:chExt cx="426960" cy="6796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18202800">
                    <a:off x="1788480" y="75528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18202800">
                    <a:off x="1749600" y="106092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1679760" y="567720"/>
                  <a:ext cx="470160" cy="592200"/>
                  <a:chOff x="1679760" y="567720"/>
                  <a:chExt cx="470160" cy="5922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8723600">
                    <a:off x="1776960" y="7038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8723600">
                    <a:off x="1695960" y="9615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1626840" y="536040"/>
                  <a:ext cx="517320" cy="527760"/>
                  <a:chOff x="1626840" y="536040"/>
                  <a:chExt cx="517320" cy="52776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19226400">
                    <a:off x="1764360" y="649800"/>
                    <a:ext cx="3931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19226400">
                    <a:off x="1651680" y="85932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599120" y="503280"/>
                  <a:ext cx="524160" cy="408960"/>
                  <a:chOff x="1599120" y="503280"/>
                  <a:chExt cx="524160" cy="4089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19843200">
                    <a:off x="1761480" y="58572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19843200">
                    <a:off x="1621440" y="72972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1605240" y="493920"/>
                  <a:ext cx="494280" cy="268560"/>
                  <a:chOff x="1605240" y="493920"/>
                  <a:chExt cx="494280" cy="2685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20391000">
                    <a:off x="1769040" y="5482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20391000">
                    <a:off x="1616400" y="634320"/>
                    <a:ext cx="1767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641960" y="473040"/>
                  <a:ext cx="451440" cy="151560"/>
                  <a:chOff x="1641960" y="473040"/>
                  <a:chExt cx="451440" cy="1515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21109200">
                    <a:off x="1801080" y="4932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21109200">
                    <a:off x="1648080" y="51444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1651320" y="450720"/>
                  <a:ext cx="448560" cy="100800"/>
                  <a:chOff x="1651320" y="450720"/>
                  <a:chExt cx="448560" cy="10080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rot="21584400">
                    <a:off x="1810440" y="46764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21584400">
                    <a:off x="1650960" y="450720"/>
                    <a:ext cx="155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1660320" y="339480"/>
                  <a:ext cx="462960" cy="184320"/>
                  <a:chOff x="1660320" y="339480"/>
                  <a:chExt cx="462960" cy="1843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rot="735000">
                    <a:off x="1830600" y="4302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rot="735000">
                    <a:off x="1668960" y="35460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1669680" y="230400"/>
                  <a:ext cx="465480" cy="268200"/>
                  <a:chOff x="1669680" y="230400"/>
                  <a:chExt cx="465480" cy="2682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371000">
                    <a:off x="1840320" y="38052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371000">
                    <a:off x="1682280" y="25704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1749240" y="160200"/>
                  <a:ext cx="421200" cy="339840"/>
                  <a:chOff x="1749240" y="160200"/>
                  <a:chExt cx="421200" cy="3398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2180400">
                    <a:off x="1861920" y="35856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2180400">
                    <a:off x="1755360" y="20376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1813320" y="105480"/>
                  <a:ext cx="365760" cy="386640"/>
                  <a:chOff x="1813320" y="105480"/>
                  <a:chExt cx="365760" cy="3866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833200">
                    <a:off x="1897200" y="334800"/>
                    <a:ext cx="31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833200">
                    <a:off x="1815120" y="154440"/>
                    <a:ext cx="168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2152440" y="56880"/>
                  <a:ext cx="380880" cy="368640"/>
                  <a:chOff x="2152440" y="56880"/>
                  <a:chExt cx="380880" cy="3686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18980400">
                    <a:off x="2134080" y="2710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8980400">
                    <a:off x="2365560" y="9648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2129400" y="9720"/>
                  <a:ext cx="331920" cy="420120"/>
                  <a:chOff x="2129400" y="9720"/>
                  <a:chExt cx="331920" cy="4201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18385200">
                    <a:off x="2095920" y="262800"/>
                    <a:ext cx="289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18385200">
                    <a:off x="2297160" y="5184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8" name=""/>
                <p:cNvSpPr/>
                <p:nvPr/>
              </p:nvSpPr>
              <p:spPr>
                <a:xfrm flipH="1" rot="3285000">
                  <a:off x="1938600" y="33552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rot="3285000">
                  <a:off x="1884600" y="14868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2116080" y="8280"/>
                  <a:ext cx="83880" cy="472320"/>
                  <a:chOff x="2116080" y="8280"/>
                  <a:chExt cx="83880" cy="472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16448400">
                    <a:off x="1991880" y="30096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16448400">
                    <a:off x="2076120" y="6048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2096640" y="-6120"/>
                  <a:ext cx="257040" cy="488880"/>
                  <a:chOff x="2096640" y="-6120"/>
                  <a:chExt cx="257040" cy="4888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17529600">
                    <a:off x="2019600" y="28116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7529600">
                    <a:off x="2181960" y="47880"/>
                    <a:ext cx="182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39040" y="41400"/>
                  <a:ext cx="123480" cy="423000"/>
                  <a:chOff x="2039040" y="41400"/>
                  <a:chExt cx="123480" cy="4230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5402600">
                    <a:off x="1979640" y="31536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5402600">
                    <a:off x="1995840" y="10260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1984320" y="595440"/>
                  <a:ext cx="212400" cy="768960"/>
                  <a:chOff x="1984320" y="595440"/>
                  <a:chExt cx="212400" cy="768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rot="17042400">
                    <a:off x="1845000" y="8143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17042400">
                    <a:off x="1935720" y="116100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2113200" y="626040"/>
                  <a:ext cx="144360" cy="709560"/>
                  <a:chOff x="2113200" y="626040"/>
                  <a:chExt cx="144360" cy="709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16249800">
                    <a:off x="1917360" y="82476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16249800">
                    <a:off x="2071800" y="11509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2137680" y="618480"/>
                  <a:ext cx="241200" cy="684000"/>
                  <a:chOff x="2137680" y="618480"/>
                  <a:chExt cx="241200" cy="6840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flipH="1" rot="15577200">
                    <a:off x="1984680" y="813600"/>
                    <a:ext cx="451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15577200">
                    <a:off x="2184840" y="1122120"/>
                    <a:ext cx="24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2210040" y="534960"/>
                  <a:ext cx="662040" cy="520920"/>
                  <a:chOff x="2210040" y="534960"/>
                  <a:chExt cx="662040" cy="52092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1850400">
                    <a:off x="2192400" y="66024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1850400">
                    <a:off x="2588760" y="878760"/>
                    <a:ext cx="2728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2217240" y="555840"/>
                  <a:ext cx="576720" cy="587520"/>
                  <a:chOff x="2217240" y="555840"/>
                  <a:chExt cx="576720" cy="5875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451600">
                    <a:off x="2180880" y="7063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451600">
                    <a:off x="2528640" y="96084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2217240" y="585360"/>
                  <a:ext cx="480960" cy="616680"/>
                  <a:chOff x="2217240" y="585360"/>
                  <a:chExt cx="480960" cy="6166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992800">
                    <a:off x="2154960" y="75564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992800">
                    <a:off x="2454840" y="10306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222280" y="612720"/>
                  <a:ext cx="368640" cy="616680"/>
                  <a:chOff x="2222280" y="612720"/>
                  <a:chExt cx="368640" cy="6166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3604800">
                    <a:off x="2138400" y="78624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3604800">
                    <a:off x="2376720" y="1060560"/>
                    <a:ext cx="2329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2211120" y="636120"/>
                  <a:ext cx="219600" cy="641880"/>
                  <a:chOff x="2211120" y="636120"/>
                  <a:chExt cx="219600" cy="6418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4461600">
                    <a:off x="2076840" y="82440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4461600">
                    <a:off x="2252880" y="11246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3" name=""/>
              <p:cNvSpPr/>
              <p:nvPr/>
            </p:nvSpPr>
            <p:spPr>
              <a:xfrm flipH="1" rot="20306400">
                <a:off x="2149200" y="7549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20306400">
                <a:off x="2030040" y="470520"/>
                <a:ext cx="99540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 rot="20306400">
                <a:off x="2229480" y="23400"/>
                <a:ext cx="70740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20306400">
                <a:off x="2064240" y="47340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20306400">
                <a:off x="1877760" y="53892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20306400">
                <a:off x="1791360" y="43056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306400">
                <a:off x="2402280" y="4107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306400">
                <a:off x="2383200" y="379440"/>
                <a:ext cx="2916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306400">
                <a:off x="2342520" y="2725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306400">
                <a:off x="2475360" y="70596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8367200">
                <a:off x="2224080" y="64584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rot="20306400">
                <a:off x="1722960" y="34488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20306400">
                <a:off x="1728360" y="20592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0306400">
                <a:off x="2332080" y="34164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20306400">
                <a:off x="1845000" y="88668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20306400">
                <a:off x="1784880" y="4168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20306400">
                <a:off x="1913040" y="23508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0306400">
                <a:off x="2679120" y="490320"/>
                <a:ext cx="23616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0306400">
                <a:off x="2444040" y="296280"/>
                <a:ext cx="35568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0306400">
                <a:off x="2360160" y="1368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959400">
                <a:off x="2316240" y="41256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rot="53400">
                <a:off x="1969920" y="54216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2876400" y="-180720"/>
            <a:ext cx="1402200" cy="1913400"/>
            <a:chOff x="2876400" y="-180720"/>
            <a:chExt cx="1402200" cy="1913400"/>
          </a:xfrm>
        </p:grpSpPr>
        <p:grpSp>
          <p:nvGrpSpPr>
            <p:cNvPr id="276" name=""/>
            <p:cNvGrpSpPr/>
            <p:nvPr/>
          </p:nvGrpSpPr>
          <p:grpSpPr>
            <a:xfrm>
              <a:off x="3521160" y="1244160"/>
              <a:ext cx="482040" cy="458280"/>
              <a:chOff x="3521160" y="1244160"/>
              <a:chExt cx="482040" cy="458280"/>
            </a:xfrm>
          </p:grpSpPr>
          <p:sp>
            <p:nvSpPr>
              <p:cNvPr id="277" name=""/>
              <p:cNvSpPr/>
              <p:nvPr/>
            </p:nvSpPr>
            <p:spPr>
              <a:xfrm rot="21408600">
                <a:off x="3532680" y="1256400"/>
                <a:ext cx="45864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1408600">
                <a:off x="3697920" y="14464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592800" y="631440"/>
              <a:ext cx="482400" cy="458280"/>
              <a:chOff x="3592800" y="631440"/>
              <a:chExt cx="482400" cy="458280"/>
            </a:xfrm>
          </p:grpSpPr>
          <p:sp>
            <p:nvSpPr>
              <p:cNvPr id="280" name=""/>
              <p:cNvSpPr/>
              <p:nvPr/>
            </p:nvSpPr>
            <p:spPr>
              <a:xfrm rot="21408600">
                <a:off x="3604320" y="6436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21408600">
                <a:off x="3769920" y="83376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876400" y="-159840"/>
              <a:ext cx="482400" cy="458280"/>
              <a:chOff x="2876400" y="-159840"/>
              <a:chExt cx="482400" cy="458280"/>
            </a:xfrm>
          </p:grpSpPr>
          <p:sp>
            <p:nvSpPr>
              <p:cNvPr id="283" name=""/>
              <p:cNvSpPr/>
              <p:nvPr/>
            </p:nvSpPr>
            <p:spPr>
              <a:xfrm rot="21408600">
                <a:off x="2887920" y="-14724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1408600">
                <a:off x="3053880" y="421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884680" y="-180720"/>
              <a:ext cx="1393920" cy="1913400"/>
              <a:chOff x="2884680" y="-180720"/>
              <a:chExt cx="1393920" cy="19134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3191400" y="42120"/>
                <a:ext cx="718560" cy="672480"/>
                <a:chOff x="3191400" y="42120"/>
                <a:chExt cx="718560" cy="672480"/>
              </a:xfrm>
            </p:grpSpPr>
            <p:sp>
              <p:nvSpPr>
                <p:cNvPr id="287" name=""/>
                <p:cNvSpPr/>
                <p:nvPr/>
              </p:nvSpPr>
              <p:spPr>
                <a:xfrm rot="21408600">
                  <a:off x="3208320" y="6048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21408600">
                  <a:off x="3467880" y="2937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884680" y="-180720"/>
                <a:ext cx="1319760" cy="1297080"/>
                <a:chOff x="2884680" y="-180720"/>
                <a:chExt cx="1319760" cy="12970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3556440" y="317160"/>
                  <a:ext cx="569880" cy="615240"/>
                  <a:chOff x="3556440" y="317160"/>
                  <a:chExt cx="569880" cy="6152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2520000">
                    <a:off x="3515400" y="47772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2520000">
                    <a:off x="3850200" y="74088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3592800" y="298440"/>
                  <a:ext cx="611640" cy="531000"/>
                  <a:chOff x="3592800" y="298440"/>
                  <a:chExt cx="611640" cy="5310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1912200">
                    <a:off x="3587760" y="40284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912200">
                    <a:off x="3951000" y="62028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3591000" y="270720"/>
                  <a:ext cx="610560" cy="412560"/>
                  <a:chOff x="3591000" y="270720"/>
                  <a:chExt cx="610560" cy="4125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rot="1391400">
                    <a:off x="3592080" y="347040"/>
                    <a:ext cx="40644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1391400">
                    <a:off x="3964320" y="50544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3589560" y="240840"/>
                  <a:ext cx="609480" cy="331200"/>
                  <a:chOff x="3589560" y="240840"/>
                  <a:chExt cx="609480" cy="3312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888600">
                    <a:off x="3595320" y="289080"/>
                    <a:ext cx="39276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888600">
                    <a:off x="3971520" y="39204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3597120" y="210600"/>
                  <a:ext cx="560160" cy="200160"/>
                  <a:chOff x="3597120" y="210600"/>
                  <a:chExt cx="560160" cy="20016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rot="271800">
                    <a:off x="3600000" y="224640"/>
                    <a:ext cx="3618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rot="271800">
                    <a:off x="3957480" y="25884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3601080" y="162360"/>
                  <a:ext cx="509760" cy="114120"/>
                  <a:chOff x="3601080" y="162360"/>
                  <a:chExt cx="509760" cy="1141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rot="21324600">
                    <a:off x="3602880" y="1886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21324600">
                    <a:off x="3930480" y="16884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3586680" y="48240"/>
                  <a:ext cx="451080" cy="198000"/>
                  <a:chOff x="3586680" y="48240"/>
                  <a:chExt cx="451080" cy="1980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rot="20605800">
                    <a:off x="3589560" y="1425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20605800">
                    <a:off x="3871440" y="68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3012840" y="361080"/>
                  <a:ext cx="513000" cy="660960"/>
                  <a:chOff x="3012840" y="361080"/>
                  <a:chExt cx="513000" cy="6609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flipH="1" rot="18697200">
                    <a:off x="3074400" y="53892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18697200">
                    <a:off x="3009960" y="82404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2908440" y="363240"/>
                  <a:ext cx="573840" cy="579600"/>
                  <a:chOff x="2908440" y="363240"/>
                  <a:chExt cx="573840" cy="5796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 rot="19305000">
                    <a:off x="3070800" y="48384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rot="19305000">
                    <a:off x="2933280" y="7286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2896200" y="334080"/>
                  <a:ext cx="584280" cy="467640"/>
                  <a:chOff x="2896200" y="334080"/>
                  <a:chExt cx="584280" cy="46764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flipH="1" rot="19825800">
                    <a:off x="3077640" y="4284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19825800">
                    <a:off x="2916720" y="61668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2884680" y="303480"/>
                  <a:ext cx="595080" cy="388800"/>
                  <a:chOff x="2884680" y="303480"/>
                  <a:chExt cx="595080" cy="3888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 rot="20328600">
                    <a:off x="3082320" y="370800"/>
                    <a:ext cx="3927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20328600">
                    <a:off x="2905560" y="50400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2907720" y="271440"/>
                  <a:ext cx="561600" cy="259200"/>
                  <a:chOff x="2907720" y="271440"/>
                  <a:chExt cx="561600" cy="2592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flipH="1" rot="20945400">
                    <a:off x="3101400" y="30456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rot="20945400">
                    <a:off x="2919600" y="36936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2950560" y="262440"/>
                  <a:ext cx="505080" cy="116640"/>
                  <a:chOff x="2950560" y="262440"/>
                  <a:chExt cx="505080" cy="1166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H="1" rot="21493200">
                    <a:off x="3125160" y="2674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 rot="21493200">
                    <a:off x="2951640" y="275400"/>
                    <a:ext cx="17640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3012840" y="155160"/>
                  <a:ext cx="453600" cy="151560"/>
                  <a:chOff x="3012840" y="155160"/>
                  <a:chExt cx="453600" cy="1515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flipH="1" rot="611400">
                    <a:off x="3173760" y="2181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 rot="611400">
                    <a:off x="3020040" y="16776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3031920" y="87840"/>
                  <a:ext cx="451080" cy="216360"/>
                  <a:chOff x="3031920" y="87840"/>
                  <a:chExt cx="451080" cy="21636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rot="1086600">
                    <a:off x="3191040" y="19692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rot="1086600">
                    <a:off x="3043080" y="109440"/>
                    <a:ext cx="1548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3076560" y="-9360"/>
                  <a:ext cx="430920" cy="309600"/>
                  <a:chOff x="3076560" y="-9360"/>
                  <a:chExt cx="430920" cy="3096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H="1" rot="1837200">
                    <a:off x="3221640" y="1677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1837200">
                    <a:off x="3090960" y="23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3120840" y="-103680"/>
                  <a:ext cx="404280" cy="381240"/>
                  <a:chOff x="3120840" y="-103680"/>
                  <a:chExt cx="404280" cy="3812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 rot="2473200">
                    <a:off x="3247200" y="12528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rot="2473200">
                    <a:off x="3133800" y="-6372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3227040" y="-142920"/>
                  <a:ext cx="325440" cy="431640"/>
                  <a:chOff x="3227040" y="-142920"/>
                  <a:chExt cx="325440" cy="4316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H="1" rot="3282600">
                    <a:off x="3275280" y="11628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rot="3282600">
                    <a:off x="3222360" y="-8820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3308400" y="-171000"/>
                  <a:ext cx="253800" cy="452160"/>
                  <a:chOff x="3308400" y="-171000"/>
                  <a:chExt cx="253800" cy="4521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H="1" rot="3935400">
                    <a:off x="3317760" y="103320"/>
                    <a:ext cx="31284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 rot="3935400">
                    <a:off x="3294720" y="-117360"/>
                    <a:ext cx="16812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3561120" y="-30960"/>
                  <a:ext cx="440640" cy="265680"/>
                  <a:chOff x="3561120" y="-30960"/>
                  <a:chExt cx="440640" cy="26568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20082600">
                    <a:off x="3560760" y="1126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20082600">
                    <a:off x="3832920" y="-252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3534840" y="-101880"/>
                  <a:ext cx="416520" cy="335880"/>
                  <a:chOff x="3534840" y="-101880"/>
                  <a:chExt cx="416520" cy="33588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19487400">
                    <a:off x="3526560" y="928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9487400">
                    <a:off x="3781440" y="-6588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 flipH="1" rot="4387800">
                  <a:off x="3359520" y="11520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rot="4387800">
                  <a:off x="3366360" y="-10044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3495960" y="-180720"/>
                  <a:ext cx="225720" cy="456480"/>
                  <a:chOff x="3495960" y="-180720"/>
                  <a:chExt cx="225720" cy="45648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17551200">
                    <a:off x="3418920" y="10080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7551200">
                    <a:off x="3574080" y="-12384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3483000" y="-153720"/>
                  <a:ext cx="378360" cy="430200"/>
                  <a:chOff x="3483000" y="-153720"/>
                  <a:chExt cx="378360" cy="4302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18631200">
                    <a:off x="3447000" y="9468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8631200">
                    <a:off x="3673080" y="-101520"/>
                    <a:ext cx="1828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3525120" y="-172080"/>
                  <a:ext cx="63360" cy="429480"/>
                  <a:chOff x="3525120" y="-172080"/>
                  <a:chExt cx="63360" cy="4294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16504800">
                    <a:off x="3406680" y="10620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504800">
                    <a:off x="3490560" y="-11124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3099960" y="373680"/>
                  <a:ext cx="429480" cy="720000"/>
                  <a:chOff x="3099960" y="373680"/>
                  <a:chExt cx="429480" cy="72000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rot="18144600">
                    <a:off x="3107880" y="5713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18144600">
                    <a:off x="3084840" y="89064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3247920" y="401400"/>
                  <a:ext cx="273960" cy="714960"/>
                  <a:chOff x="3247920" y="401400"/>
                  <a:chExt cx="273960" cy="7149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17352000">
                    <a:off x="3174480" y="59868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17352000">
                    <a:off x="3217320" y="9205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3387960" y="410760"/>
                  <a:ext cx="145800" cy="696240"/>
                  <a:chOff x="3387960" y="410760"/>
                  <a:chExt cx="145800" cy="6962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16679400">
                    <a:off x="3243960" y="605880"/>
                    <a:ext cx="4514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16679400">
                    <a:off x="3334680" y="928080"/>
                    <a:ext cx="24228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3546720" y="354600"/>
                  <a:ext cx="514440" cy="672840"/>
                  <a:chOff x="3546720" y="354600"/>
                  <a:chExt cx="514440" cy="6728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rot="2952600">
                    <a:off x="3486240" y="53460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rot="2952600">
                    <a:off x="3791880" y="82908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3550320" y="379440"/>
                  <a:ext cx="405360" cy="701640"/>
                  <a:chOff x="3550320" y="379440"/>
                  <a:chExt cx="405360" cy="7016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rot="3553800">
                    <a:off x="3461400" y="5713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rot="3553800">
                    <a:off x="3710880" y="88560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3545640" y="406800"/>
                  <a:ext cx="292320" cy="701280"/>
                  <a:chOff x="3545640" y="406800"/>
                  <a:chExt cx="292320" cy="70128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rot="4095000">
                    <a:off x="3423600" y="60768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rot="4095000">
                    <a:off x="3621960" y="9280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3544920" y="436320"/>
                  <a:ext cx="178200" cy="660600"/>
                  <a:chOff x="3544920" y="436320"/>
                  <a:chExt cx="178200" cy="66060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4707000">
                    <a:off x="3399480" y="62568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4707000">
                    <a:off x="3538800" y="928440"/>
                    <a:ext cx="2329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3479040" y="450360"/>
                  <a:ext cx="97200" cy="649440"/>
                  <a:chOff x="3479040" y="450360"/>
                  <a:chExt cx="97200" cy="64944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5563800">
                    <a:off x="3331800" y="64116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5563800">
                    <a:off x="3405240" y="9500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8" name=""/>
              <p:cNvSpPr/>
              <p:nvPr/>
            </p:nvSpPr>
            <p:spPr>
              <a:xfrm flipH="1" rot="21408600">
                <a:off x="3368160" y="5389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rot="21408600">
                <a:off x="3176640" y="347040"/>
                <a:ext cx="99468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 rot="21408600">
                <a:off x="3538440" y="-54720"/>
                <a:ext cx="70704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rot="21408600">
                <a:off x="3222360" y="27252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rot="21408600">
                <a:off x="3018960" y="31284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rot="21408600">
                <a:off x="2970000" y="18684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1408600">
                <a:off x="3570840" y="2685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1408600">
                <a:off x="3558600" y="261360"/>
                <a:ext cx="29124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1408600">
                <a:off x="3550680" y="1663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21408600">
                <a:off x="3693240" y="59580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19469400">
                <a:off x="3503520" y="46296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rot="21408600">
                <a:off x="2932560" y="8424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rot="21408600">
                <a:off x="2984400" y="-6264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21408600">
                <a:off x="3522600" y="20196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rot="21408600">
                <a:off x="3031920" y="59004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rot="21408600">
                <a:off x="3125520" y="1108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rot="21408600">
                <a:off x="3305520" y="-3096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21408600">
                <a:off x="3945600" y="473400"/>
                <a:ext cx="23580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1408600">
                <a:off x="3805200" y="237960"/>
                <a:ext cx="35532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1408600">
                <a:off x="3803040" y="-9000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061600">
                <a:off x="3664440" y="27000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rot="1155000">
                <a:off x="3295080" y="28440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259880" y="-1064520"/>
            <a:ext cx="2093760" cy="3236040"/>
            <a:chOff x="4259880" y="-1064520"/>
            <a:chExt cx="2093760" cy="3236040"/>
          </a:xfrm>
        </p:grpSpPr>
        <p:grpSp>
          <p:nvGrpSpPr>
            <p:cNvPr id="411" name=""/>
            <p:cNvGrpSpPr/>
            <p:nvPr/>
          </p:nvGrpSpPr>
          <p:grpSpPr>
            <a:xfrm>
              <a:off x="4438440" y="1215000"/>
              <a:ext cx="629640" cy="840960"/>
              <a:chOff x="4438440" y="1215000"/>
              <a:chExt cx="629640" cy="840960"/>
            </a:xfrm>
          </p:grpSpPr>
          <p:sp>
            <p:nvSpPr>
              <p:cNvPr id="412" name=""/>
              <p:cNvSpPr/>
              <p:nvPr/>
            </p:nvSpPr>
            <p:spPr>
              <a:xfrm flipH="1" rot="1144200">
                <a:off x="4549320" y="12607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rot="1144200">
                <a:off x="4704480" y="15897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692960" y="192600"/>
              <a:ext cx="629640" cy="840960"/>
              <a:chOff x="4692960" y="192600"/>
              <a:chExt cx="629640" cy="840960"/>
            </a:xfrm>
          </p:grpSpPr>
          <p:sp>
            <p:nvSpPr>
              <p:cNvPr id="415" name=""/>
              <p:cNvSpPr/>
              <p:nvPr/>
            </p:nvSpPr>
            <p:spPr>
              <a:xfrm flipH="1" rot="1144200">
                <a:off x="4803840" y="2383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rot="1144200">
                <a:off x="4958640" y="5673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5724000" y="-968040"/>
              <a:ext cx="629640" cy="840960"/>
              <a:chOff x="5724000" y="-968040"/>
              <a:chExt cx="629640" cy="840960"/>
            </a:xfrm>
          </p:grpSpPr>
          <p:sp>
            <p:nvSpPr>
              <p:cNvPr id="418" name=""/>
              <p:cNvSpPr/>
              <p:nvPr/>
            </p:nvSpPr>
            <p:spPr>
              <a:xfrm flipH="1" rot="1144200">
                <a:off x="5834880" y="-92196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rot="1144200">
                <a:off x="5989680" y="-5925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259880" y="-1064520"/>
              <a:ext cx="1986480" cy="3236040"/>
              <a:chOff x="4259880" y="-1064520"/>
              <a:chExt cx="1986480" cy="323604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5037120" y="-741960"/>
                <a:ext cx="932400" cy="1235520"/>
                <a:chOff x="5037120" y="-741960"/>
                <a:chExt cx="932400" cy="1235520"/>
              </a:xfrm>
            </p:grpSpPr>
            <p:sp>
              <p:nvSpPr>
                <p:cNvPr id="422" name=""/>
                <p:cNvSpPr/>
                <p:nvPr/>
              </p:nvSpPr>
              <p:spPr>
                <a:xfrm flipH="1" rot="1144200">
                  <a:off x="5199480" y="-672840"/>
                  <a:ext cx="607320" cy="109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rot="1144200">
                  <a:off x="5467680" y="-264960"/>
                  <a:ext cx="120240" cy="20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673520" y="-1064520"/>
                <a:ext cx="1425960" cy="2188800"/>
                <a:chOff x="4673520" y="-1064520"/>
                <a:chExt cx="1425960" cy="21888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4673520" y="-166680"/>
                  <a:ext cx="977400" cy="796680"/>
                  <a:chOff x="4673520" y="-166680"/>
                  <a:chExt cx="977400" cy="79668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20032800">
                    <a:off x="4802760" y="23040"/>
                    <a:ext cx="8784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20032800">
                    <a:off x="4671720" y="429480"/>
                    <a:ext cx="4712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4754160" y="-186120"/>
                  <a:ext cx="698760" cy="651960"/>
                  <a:chOff x="4754160" y="-186120"/>
                  <a:chExt cx="698760" cy="6519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20640600">
                    <a:off x="5058000" y="-13752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20640600">
                    <a:off x="4788360" y="16560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4834800" y="-249840"/>
                  <a:ext cx="637200" cy="479880"/>
                  <a:chOff x="4834800" y="-249840"/>
                  <a:chExt cx="637200" cy="47988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1161400">
                    <a:off x="5102280" y="-227520"/>
                    <a:ext cx="3607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1161400">
                    <a:off x="4848840" y="-24120"/>
                    <a:ext cx="19368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4902480" y="-325440"/>
                  <a:ext cx="587160" cy="383760"/>
                  <a:chOff x="4902480" y="-325440"/>
                  <a:chExt cx="587160" cy="38376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63600">
                    <a:off x="5139000" y="-322200"/>
                    <a:ext cx="3484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63600">
                    <a:off x="4905000" y="-211680"/>
                    <a:ext cx="18720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4980240" y="-457200"/>
                  <a:ext cx="551880" cy="294480"/>
                  <a:chOff x="4980240" y="-457200"/>
                  <a:chExt cx="551880" cy="29448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680400">
                    <a:off x="5198040" y="-426960"/>
                    <a:ext cx="32148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680400">
                    <a:off x="5002920" y="-426240"/>
                    <a:ext cx="17244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5075280" y="-587520"/>
                  <a:ext cx="477000" cy="264960"/>
                  <a:chOff x="5075280" y="-587520"/>
                  <a:chExt cx="477000" cy="2649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1228800">
                    <a:off x="5249880" y="-480960"/>
                    <a:ext cx="29196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1228800">
                    <a:off x="5100480" y="-565560"/>
                    <a:ext cx="1566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5186880" y="-740160"/>
                  <a:ext cx="399600" cy="360000"/>
                  <a:chOff x="5186880" y="-740160"/>
                  <a:chExt cx="399600" cy="3600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1947000">
                    <a:off x="5320440" y="-54936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1947000">
                    <a:off x="5222160" y="-7164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5373000" y="-166320"/>
                  <a:ext cx="439920" cy="1185120"/>
                  <a:chOff x="5373000" y="-166320"/>
                  <a:chExt cx="439920" cy="118512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3855600">
                    <a:off x="5153400" y="210960"/>
                    <a:ext cx="8787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3855600">
                    <a:off x="5358240" y="732960"/>
                    <a:ext cx="4716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472000" y="-18360"/>
                  <a:ext cx="417240" cy="866880"/>
                  <a:chOff x="5472000" y="-18360"/>
                  <a:chExt cx="417240" cy="86688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3247800">
                    <a:off x="5465520" y="9756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3247800">
                    <a:off x="5616000" y="54612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5506560" y="-96840"/>
                  <a:ext cx="447840" cy="739080"/>
                  <a:chOff x="5506560" y="-96840"/>
                  <a:chExt cx="447840" cy="73908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2727000">
                    <a:off x="5507640" y="8280"/>
                    <a:ext cx="36072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2727000">
                    <a:off x="5703120" y="366480"/>
                    <a:ext cx="1933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5527440" y="-174600"/>
                  <a:ext cx="495000" cy="655920"/>
                  <a:chOff x="5527440" y="-174600"/>
                  <a:chExt cx="495000" cy="6559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2224200">
                    <a:off x="5543280" y="-86400"/>
                    <a:ext cx="34848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2224200">
                    <a:off x="5772960" y="183960"/>
                    <a:ext cx="187560" cy="26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5570640" y="-259560"/>
                  <a:ext cx="496080" cy="494640"/>
                  <a:chOff x="5570640" y="-259560"/>
                  <a:chExt cx="496080" cy="4946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1607400">
                    <a:off x="5589000" y="-195480"/>
                    <a:ext cx="32112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1607400">
                    <a:off x="5847120" y="-38880"/>
                    <a:ext cx="172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613840" y="-298800"/>
                  <a:ext cx="460800" cy="296280"/>
                  <a:chOff x="5613840" y="-298800"/>
                  <a:chExt cx="460800" cy="2962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1059600">
                    <a:off x="5623560" y="-257040"/>
                    <a:ext cx="2919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1059600">
                    <a:off x="5895360" y="-195840"/>
                    <a:ext cx="1566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5638680" y="-390240"/>
                  <a:ext cx="417240" cy="185040"/>
                  <a:chOff x="5638680" y="-390240"/>
                  <a:chExt cx="417240" cy="1850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341400">
                    <a:off x="5643360" y="-34344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341400">
                    <a:off x="5910120" y="-383760"/>
                    <a:ext cx="137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5635440" y="-488880"/>
                  <a:ext cx="426240" cy="222120"/>
                  <a:chOff x="5635440" y="-488880"/>
                  <a:chExt cx="426240" cy="2221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21466200">
                    <a:off x="5637240" y="-381600"/>
                    <a:ext cx="25632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21466200">
                    <a:off x="5920560" y="-486000"/>
                    <a:ext cx="1375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5617080" y="-651240"/>
                  <a:ext cx="464760" cy="355320"/>
                  <a:chOff x="5617080" y="-651240"/>
                  <a:chExt cx="464760" cy="3553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20715600">
                    <a:off x="5626440" y="-43560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20715600">
                    <a:off x="5924520" y="-63648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5612400" y="-811440"/>
                  <a:ext cx="487080" cy="458640"/>
                  <a:chOff x="5612400" y="-811440"/>
                  <a:chExt cx="487080" cy="4586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20080200">
                    <a:off x="5623200" y="-511920"/>
                    <a:ext cx="2599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20080200">
                    <a:off x="5929560" y="-789480"/>
                    <a:ext cx="14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5491080" y="-901080"/>
                  <a:ext cx="581400" cy="602640"/>
                  <a:chOff x="5491080" y="-901080"/>
                  <a:chExt cx="581400" cy="60264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rot="19270200">
                    <a:off x="5442840" y="-514080"/>
                    <a:ext cx="560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9270200">
                    <a:off x="5782320" y="-814320"/>
                    <a:ext cx="30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5506560" y="-975240"/>
                  <a:ext cx="501840" cy="675360"/>
                  <a:chOff x="5506560" y="-975240"/>
                  <a:chExt cx="501840" cy="67536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rot="18617400">
                    <a:off x="5428080" y="-542520"/>
                    <a:ext cx="5403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18617400">
                    <a:off x="5742720" y="-876600"/>
                    <a:ext cx="2901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5253480" y="-850320"/>
                  <a:ext cx="368280" cy="436320"/>
                  <a:chOff x="5253480" y="-850320"/>
                  <a:chExt cx="368280" cy="4363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flipH="1" rot="2470200">
                    <a:off x="5361120" y="-59436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2470200">
                    <a:off x="5292360" y="-8262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5328720" y="-943200"/>
                  <a:ext cx="324000" cy="511560"/>
                  <a:chOff x="5328720" y="-943200"/>
                  <a:chExt cx="324000" cy="51156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H="1" rot="3065400">
                    <a:off x="5400720" y="-620640"/>
                    <a:ext cx="256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3065400">
                    <a:off x="5369760" y="-921240"/>
                    <a:ext cx="1378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8" name=""/>
                <p:cNvSpPr/>
                <p:nvPr/>
              </p:nvSpPr>
              <p:spPr>
                <a:xfrm rot="18165600">
                  <a:off x="5402880" y="-536400"/>
                  <a:ext cx="523800" cy="29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8165600">
                  <a:off x="5685120" y="-873360"/>
                  <a:ext cx="280440" cy="47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5563080" y="-1064520"/>
                  <a:ext cx="135360" cy="785880"/>
                  <a:chOff x="5563080" y="-1064520"/>
                  <a:chExt cx="135360" cy="7858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 rot="5002200">
                    <a:off x="5342040" y="-568440"/>
                    <a:ext cx="5414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5002200">
                    <a:off x="5506560" y="-946440"/>
                    <a:ext cx="29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5427360" y="-1038240"/>
                  <a:ext cx="296280" cy="765000"/>
                  <a:chOff x="5427360" y="-1038240"/>
                  <a:chExt cx="296280" cy="765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rot="3921600">
                    <a:off x="5280480" y="-580320"/>
                    <a:ext cx="5886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3921600">
                    <a:off x="5381640" y="-920160"/>
                    <a:ext cx="3157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5587200" y="-1038600"/>
                  <a:ext cx="185400" cy="723960"/>
                  <a:chOff x="5587200" y="-1038600"/>
                  <a:chExt cx="185400" cy="723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6048000">
                    <a:off x="5398920" y="-563400"/>
                    <a:ext cx="485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rot="6048000">
                    <a:off x="5603400" y="-921600"/>
                    <a:ext cx="26064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5379480" y="-139680"/>
                  <a:ext cx="323640" cy="1258560"/>
                  <a:chOff x="5379480" y="-139680"/>
                  <a:chExt cx="323640" cy="125856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4408200">
                    <a:off x="5108040" y="257760"/>
                    <a:ext cx="8780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4408200">
                    <a:off x="5259240" y="828000"/>
                    <a:ext cx="4708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5310360" y="-81000"/>
                  <a:ext cx="237600" cy="1205280"/>
                  <a:chOff x="5310360" y="-81000"/>
                  <a:chExt cx="237600" cy="120528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rot="5200800">
                    <a:off x="5085720" y="294480"/>
                    <a:ext cx="81288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5200800">
                    <a:off x="5155560" y="852840"/>
                    <a:ext cx="43596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5204880" y="-70560"/>
                  <a:ext cx="314280" cy="1170360"/>
                  <a:chOff x="5204880" y="-70560"/>
                  <a:chExt cx="314280" cy="11703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5873400">
                    <a:off x="5047200" y="290160"/>
                    <a:ext cx="7794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5873400">
                    <a:off x="5069520" y="840240"/>
                    <a:ext cx="4183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4687560" y="-113400"/>
                  <a:ext cx="935640" cy="922320"/>
                  <a:chOff x="4687560" y="-113400"/>
                  <a:chExt cx="935640" cy="922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19600200">
                    <a:off x="4798080" y="122400"/>
                    <a:ext cx="878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19600200">
                    <a:off x="4676760" y="585720"/>
                    <a:ext cx="4712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4762080" y="-90360"/>
                  <a:ext cx="816120" cy="1025280"/>
                  <a:chOff x="4762080" y="-90360"/>
                  <a:chExt cx="816120" cy="102528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18998400">
                    <a:off x="4830120" y="189720"/>
                    <a:ext cx="841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18998400">
                    <a:off x="4733640" y="695880"/>
                    <a:ext cx="45108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4857480" y="-59760"/>
                  <a:ext cx="686880" cy="1072080"/>
                  <a:chOff x="4857480" y="-59760"/>
                  <a:chExt cx="686880" cy="107208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18457800">
                    <a:off x="4867200" y="253080"/>
                    <a:ext cx="8154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18457800">
                    <a:off x="4803840" y="774360"/>
                    <a:ext cx="43740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4975920" y="-27360"/>
                  <a:ext cx="522360" cy="1059840"/>
                  <a:chOff x="4975920" y="-27360"/>
                  <a:chExt cx="522360" cy="105984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17845800">
                    <a:off x="4927680" y="291600"/>
                    <a:ext cx="7498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17845800">
                    <a:off x="4902480" y="794880"/>
                    <a:ext cx="4024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5143320" y="-15120"/>
                  <a:ext cx="320400" cy="1093320"/>
                  <a:chOff x="5143320" y="-15120"/>
                  <a:chExt cx="320400" cy="109332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16988400">
                    <a:off x="4994640" y="326520"/>
                    <a:ext cx="73296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16988400">
                    <a:off x="5021280" y="849240"/>
                    <a:ext cx="3931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3" name=""/>
              <p:cNvSpPr/>
              <p:nvPr/>
            </p:nvSpPr>
            <p:spPr>
              <a:xfrm rot="1144200">
                <a:off x="5365080" y="147600"/>
                <a:ext cx="10116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144200">
                <a:off x="4618800" y="-255240"/>
                <a:ext cx="882720" cy="234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 rot="1144200">
                <a:off x="4804920" y="-955440"/>
                <a:ext cx="627480" cy="208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144200">
                <a:off x="5110560" y="-331560"/>
                <a:ext cx="384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144200">
                <a:off x="5059440" y="-247320"/>
                <a:ext cx="594000" cy="234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144200">
                <a:off x="5141880" y="-448200"/>
                <a:ext cx="619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rot="1144200">
                <a:off x="5094360" y="-374400"/>
                <a:ext cx="9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rot="1144200">
                <a:off x="4947840" y="-402480"/>
                <a:ext cx="25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 rot="1144200">
                <a:off x="4898160" y="-568800"/>
                <a:ext cx="36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rot="1144200">
                <a:off x="5054400" y="176040"/>
                <a:ext cx="10080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 flipV="1" rot="3083400">
                <a:off x="5345280" y="3600"/>
                <a:ext cx="9144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144200">
                <a:off x="5227920" y="-609480"/>
                <a:ext cx="61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144200">
                <a:off x="5356800" y="-851760"/>
                <a:ext cx="520560" cy="234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rot="1144200">
                <a:off x="5049360" y="-488160"/>
                <a:ext cx="219240" cy="234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144200">
                <a:off x="5503680" y="283320"/>
                <a:ext cx="2253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144200">
                <a:off x="5751000" y="-513720"/>
                <a:ext cx="144720" cy="77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144200">
                <a:off x="5725080" y="-777600"/>
                <a:ext cx="867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 rot="1144200">
                <a:off x="4781520" y="-88920"/>
                <a:ext cx="209520" cy="816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rot="1144200">
                <a:off x="4960440" y="-453240"/>
                <a:ext cx="315360" cy="544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rot="1144200">
                <a:off x="5280480" y="-978840"/>
                <a:ext cx="137880" cy="730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rot="2491200">
                <a:off x="5304240" y="-345240"/>
                <a:ext cx="9216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1397800">
                <a:off x="5618880" y="-248400"/>
                <a:ext cx="914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-3292200" y="-876960"/>
            <a:ext cx="2895840" cy="2538360"/>
            <a:chOff x="-3292200" y="-876960"/>
            <a:chExt cx="2895840" cy="2538360"/>
          </a:xfrm>
        </p:grpSpPr>
        <p:grpSp>
          <p:nvGrpSpPr>
            <p:cNvPr id="546" name=""/>
            <p:cNvGrpSpPr/>
            <p:nvPr/>
          </p:nvGrpSpPr>
          <p:grpSpPr>
            <a:xfrm>
              <a:off x="-2249640" y="624960"/>
              <a:ext cx="975240" cy="789480"/>
              <a:chOff x="-2249640" y="624960"/>
              <a:chExt cx="975240" cy="789480"/>
            </a:xfrm>
          </p:grpSpPr>
          <p:sp>
            <p:nvSpPr>
              <p:cNvPr id="547" name=""/>
              <p:cNvSpPr/>
              <p:nvPr/>
            </p:nvSpPr>
            <p:spPr>
              <a:xfrm flipH="1" rot="19584600">
                <a:off x="-2246400" y="86724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 rot="19584600">
                <a:off x="-1857240" y="98820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-2671560" y="392400"/>
              <a:ext cx="975240" cy="789480"/>
              <a:chOff x="-2671560" y="392400"/>
              <a:chExt cx="975240" cy="789480"/>
            </a:xfrm>
          </p:grpSpPr>
          <p:sp>
            <p:nvSpPr>
              <p:cNvPr id="550" name=""/>
              <p:cNvSpPr/>
              <p:nvPr/>
            </p:nvSpPr>
            <p:spPr>
              <a:xfrm flipH="1" rot="19584600">
                <a:off x="-2668320" y="63468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 rot="19584600">
                <a:off x="-2278800" y="75564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-1814400" y="-876960"/>
              <a:ext cx="975240" cy="789480"/>
              <a:chOff x="-1814400" y="-876960"/>
              <a:chExt cx="975240" cy="789480"/>
            </a:xfrm>
          </p:grpSpPr>
          <p:sp>
            <p:nvSpPr>
              <p:cNvPr id="553" name=""/>
              <p:cNvSpPr/>
              <p:nvPr/>
            </p:nvSpPr>
            <p:spPr>
              <a:xfrm flipH="1" rot="19584600">
                <a:off x="-1811160" y="-63432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 rot="19584600">
                <a:off x="-1421640" y="-51300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-3292200" y="-745920"/>
              <a:ext cx="2895840" cy="2407320"/>
              <a:chOff x="-3292200" y="-745920"/>
              <a:chExt cx="2895840" cy="240732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-2652120" y="-388080"/>
                <a:ext cx="1450080" cy="1171080"/>
                <a:chOff x="-2652120" y="-388080"/>
                <a:chExt cx="1450080" cy="1171080"/>
              </a:xfrm>
            </p:grpSpPr>
            <p:sp>
              <p:nvSpPr>
                <p:cNvPr id="557" name=""/>
                <p:cNvSpPr/>
                <p:nvPr/>
              </p:nvSpPr>
              <p:spPr>
                <a:xfrm flipH="1" rot="19584600">
                  <a:off x="-2649240" y="-25560"/>
                  <a:ext cx="1444320" cy="44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H="1" rot="19584600">
                  <a:off x="-2057040" y="125280"/>
                  <a:ext cx="286200" cy="8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-3011760" y="-584640"/>
                <a:ext cx="2407680" cy="1810800"/>
                <a:chOff x="-3011760" y="-584640"/>
                <a:chExt cx="2407680" cy="1810800"/>
              </a:xfrm>
            </p:grpSpPr>
            <p:grpSp>
              <p:nvGrpSpPr>
                <p:cNvPr id="560" name=""/>
                <p:cNvGrpSpPr/>
                <p:nvPr/>
              </p:nvGrpSpPr>
              <p:grpSpPr>
                <a:xfrm>
                  <a:off x="-2616480" y="340200"/>
                  <a:ext cx="485640" cy="715680"/>
                  <a:chOff x="-2616480" y="340200"/>
                  <a:chExt cx="485640" cy="71568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 flipH="1" rot="16873200">
                    <a:off x="-2419920" y="453240"/>
                    <a:ext cx="35748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H="1" rot="16873200">
                    <a:off x="-2575440" y="816840"/>
                    <a:ext cx="19188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-2802960" y="104760"/>
                  <a:ext cx="676440" cy="1121400"/>
                  <a:chOff x="-2802960" y="104760"/>
                  <a:chExt cx="676440" cy="112140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 flipH="1" rot="17481000">
                    <a:off x="-2772000" y="499320"/>
                    <a:ext cx="8971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 rot="17481000">
                    <a:off x="-2903760" y="924840"/>
                    <a:ext cx="4816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-2896560" y="110160"/>
                  <a:ext cx="793800" cy="1040040"/>
                  <a:chOff x="-2896560" y="110160"/>
                  <a:chExt cx="793800" cy="104004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 flipH="1" rot="18001200">
                    <a:off x="-2774160" y="465480"/>
                    <a:ext cx="8578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 rot="18001200">
                    <a:off x="-2969280" y="876960"/>
                    <a:ext cx="460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"/>
                <p:cNvGrpSpPr/>
                <p:nvPr/>
              </p:nvGrpSpPr>
              <p:grpSpPr>
                <a:xfrm>
                  <a:off x="-2976480" y="119520"/>
                  <a:ext cx="896400" cy="964440"/>
                  <a:chOff x="-2976480" y="119520"/>
                  <a:chExt cx="896400" cy="96444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 flipH="1" rot="18504600">
                    <a:off x="-2779200" y="430920"/>
                    <a:ext cx="82872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 rot="18504600">
                    <a:off x="-3018240" y="820440"/>
                    <a:ext cx="445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-3011760" y="140400"/>
                  <a:ext cx="941760" cy="810000"/>
                  <a:chOff x="-3011760" y="140400"/>
                  <a:chExt cx="941760" cy="81000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 flipH="1" rot="19121400">
                    <a:off x="-2759760" y="384120"/>
                    <a:ext cx="7635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 rot="19121400">
                    <a:off x="-3029040" y="726120"/>
                    <a:ext cx="41040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5" name=""/>
                <p:cNvGrpSpPr/>
                <p:nvPr/>
              </p:nvGrpSpPr>
              <p:grpSpPr>
                <a:xfrm>
                  <a:off x="-2992320" y="171000"/>
                  <a:ext cx="918360" cy="633600"/>
                  <a:chOff x="-2992320" y="171000"/>
                  <a:chExt cx="918360" cy="63360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 flipH="1" rot="19669200">
                    <a:off x="-2726640" y="352080"/>
                    <a:ext cx="69408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 rot="19669200">
                    <a:off x="-3002040" y="640080"/>
                    <a:ext cx="37260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-2910240" y="185760"/>
                  <a:ext cx="860760" cy="443880"/>
                  <a:chOff x="-2910240" y="185760"/>
                  <a:chExt cx="860760" cy="44388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 flipH="1" rot="20387400">
                    <a:off x="-2648520" y="289440"/>
                    <a:ext cx="6098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 rot="20387400">
                    <a:off x="-2908080" y="505440"/>
                    <a:ext cx="32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"/>
                <p:cNvGrpSpPr/>
                <p:nvPr/>
              </p:nvGrpSpPr>
              <p:grpSpPr>
                <a:xfrm>
                  <a:off x="-1640880" y="-164520"/>
                  <a:ext cx="777960" cy="311400"/>
                  <a:chOff x="-1640880" y="-164520"/>
                  <a:chExt cx="777960" cy="31140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 rot="696000">
                    <a:off x="-1628640" y="-42120"/>
                    <a:ext cx="35748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696000">
                    <a:off x="-1076760" y="-147600"/>
                    <a:ext cx="19188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4" name=""/>
                <p:cNvGrpSpPr/>
                <p:nvPr/>
              </p:nvGrpSpPr>
              <p:grpSpPr>
                <a:xfrm>
                  <a:off x="-1837800" y="-243360"/>
                  <a:ext cx="1233720" cy="249120"/>
                  <a:chOff x="-1837800" y="-243360"/>
                  <a:chExt cx="1233720" cy="24912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 rot="88200">
                    <a:off x="-1836720" y="-77760"/>
                    <a:ext cx="8971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88200">
                    <a:off x="-1087200" y="-237240"/>
                    <a:ext cx="48168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7" name=""/>
                <p:cNvGrpSpPr/>
                <p:nvPr/>
              </p:nvGrpSpPr>
              <p:grpSpPr>
                <a:xfrm>
                  <a:off x="-1845000" y="-349920"/>
                  <a:ext cx="1212480" cy="359640"/>
                  <a:chOff x="-1845000" y="-349920"/>
                  <a:chExt cx="1212480" cy="35964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 rot="21168000">
                    <a:off x="-1844280" y="-106920"/>
                    <a:ext cx="8582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rot="21168000">
                    <a:off x="-1096920" y="-321120"/>
                    <a:ext cx="460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0" name=""/>
                <p:cNvGrpSpPr/>
                <p:nvPr/>
              </p:nvGrpSpPr>
              <p:grpSpPr>
                <a:xfrm>
                  <a:off x="-1844640" y="-457200"/>
                  <a:ext cx="1181520" cy="495360"/>
                  <a:chOff x="-1844640" y="-457200"/>
                  <a:chExt cx="1181520" cy="49536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 rot="20665200">
                    <a:off x="-1850400" y="-140400"/>
                    <a:ext cx="8290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rot="20665200">
                    <a:off x="-1114560" y="-399240"/>
                    <a:ext cx="4449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-1834560" y="-544320"/>
                  <a:ext cx="1069200" cy="602640"/>
                  <a:chOff x="-1834560" y="-544320"/>
                  <a:chExt cx="1069200" cy="60264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 rot="20048400">
                    <a:off x="-1858320" y="-169560"/>
                    <a:ext cx="7632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rot="20048400">
                    <a:off x="-1176480" y="-459720"/>
                    <a:ext cx="41004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"/>
                <p:cNvGrpSpPr/>
                <p:nvPr/>
              </p:nvGrpSpPr>
              <p:grpSpPr>
                <a:xfrm>
                  <a:off x="-1811880" y="-576360"/>
                  <a:ext cx="915480" cy="639000"/>
                  <a:chOff x="-1811880" y="-576360"/>
                  <a:chExt cx="915480" cy="63900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 rot="19500000">
                    <a:off x="-1861560" y="-177120"/>
                    <a:ext cx="6940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rot="19500000">
                    <a:off x="-1254960" y="-475560"/>
                    <a:ext cx="3726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4120" bIns="24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-1811520" y="-570960"/>
                  <a:ext cx="727920" cy="662040"/>
                  <a:chOff x="-1811520" y="-570960"/>
                  <a:chExt cx="727920" cy="66204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rot="18782400">
                    <a:off x="-1891800" y="-168840"/>
                    <a:ext cx="609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rot="18782400">
                    <a:off x="-1383840" y="-462240"/>
                    <a:ext cx="3268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-1821960" y="-584640"/>
                  <a:ext cx="655560" cy="710640"/>
                  <a:chOff x="-1821960" y="-584640"/>
                  <a:chExt cx="655560" cy="71064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 rot="18307200">
                    <a:off x="-1933200" y="-158040"/>
                    <a:ext cx="6091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rot="18307200">
                    <a:off x="-1452600" y="-465480"/>
                    <a:ext cx="32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" name=""/>
                <p:cNvGrpSpPr/>
                <p:nvPr/>
              </p:nvGrpSpPr>
              <p:grpSpPr>
                <a:xfrm>
                  <a:off x="-1833480" y="-583560"/>
                  <a:ext cx="516600" cy="758880"/>
                  <a:chOff x="-1833480" y="-583560"/>
                  <a:chExt cx="516600" cy="75888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 rot="17556600">
                    <a:off x="-2000880" y="-136800"/>
                    <a:ext cx="61020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17556600">
                    <a:off x="-1575720" y="-453600"/>
                    <a:ext cx="3276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" name=""/>
                <p:cNvGrpSpPr/>
                <p:nvPr/>
              </p:nvGrpSpPr>
              <p:grpSpPr>
                <a:xfrm>
                  <a:off x="-1848960" y="-581040"/>
                  <a:ext cx="384480" cy="784080"/>
                  <a:chOff x="-1848960" y="-581040"/>
                  <a:chExt cx="384480" cy="78408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 rot="16920000">
                    <a:off x="-2072160" y="-126000"/>
                    <a:ext cx="6184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16920000">
                    <a:off x="-1699200" y="-445680"/>
                    <a:ext cx="33264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-1902600" y="-376200"/>
                  <a:ext cx="270720" cy="431280"/>
                  <a:chOff x="-1902600" y="-376200"/>
                  <a:chExt cx="270720" cy="43128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rot="16111200">
                    <a:off x="-1960560" y="-113400"/>
                    <a:ext cx="22824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6111200">
                    <a:off x="-1778040" y="-396360"/>
                    <a:ext cx="12240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" name=""/>
                <p:cNvGrpSpPr/>
                <p:nvPr/>
              </p:nvGrpSpPr>
              <p:grpSpPr>
                <a:xfrm>
                  <a:off x="-1991880" y="-321120"/>
                  <a:ext cx="234720" cy="416880"/>
                  <a:chOff x="-1991880" y="-321120"/>
                  <a:chExt cx="234720" cy="41688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rot="15457800">
                    <a:off x="-2026080" y="-75960"/>
                    <a:ext cx="21960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5457800">
                    <a:off x="-1910160" y="-328680"/>
                    <a:ext cx="11808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-2878200" y="179280"/>
                  <a:ext cx="873000" cy="344520"/>
                  <a:chOff x="-2878200" y="179280"/>
                  <a:chExt cx="873000" cy="34452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flipH="1" rot="20910600">
                    <a:off x="-2612880" y="239400"/>
                    <a:ext cx="60912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 rot="20910600">
                    <a:off x="-2874600" y="421560"/>
                    <a:ext cx="3268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" name=""/>
                <p:cNvGrpSpPr/>
                <p:nvPr/>
              </p:nvGrpSpPr>
              <p:grpSpPr>
                <a:xfrm>
                  <a:off x="-2818800" y="180000"/>
                  <a:ext cx="865440" cy="222120"/>
                  <a:chOff x="-2818800" y="180000"/>
                  <a:chExt cx="865440" cy="22212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 flipH="1" rot="21505800">
                    <a:off x="-2563920" y="188280"/>
                    <a:ext cx="6102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 rot="21505800">
                    <a:off x="-2818080" y="327240"/>
                    <a:ext cx="3276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3" name=""/>
                <p:cNvSpPr/>
                <p:nvPr/>
              </p:nvSpPr>
              <p:spPr>
                <a:xfrm rot="15006000">
                  <a:off x="-2083680" y="-13320"/>
                  <a:ext cx="213120" cy="716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rot="15006000">
                  <a:off x="-2027160" y="-216360"/>
                  <a:ext cx="114120" cy="1134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625" name=""/>
                <p:cNvGrpSpPr/>
                <p:nvPr/>
              </p:nvGrpSpPr>
              <p:grpSpPr>
                <a:xfrm>
                  <a:off x="-2429280" y="-8280"/>
                  <a:ext cx="453240" cy="198360"/>
                  <a:chOff x="-2429280" y="-8280"/>
                  <a:chExt cx="453240" cy="19836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 flipH="1" rot="1842600">
                    <a:off x="-2204280" y="48960"/>
                    <a:ext cx="22032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5360" bIns="45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 rot="1842600">
                    <a:off x="-2400840" y="11880"/>
                    <a:ext cx="11808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8" name=""/>
                <p:cNvGrpSpPr/>
                <p:nvPr/>
              </p:nvGrpSpPr>
              <p:grpSpPr>
                <a:xfrm>
                  <a:off x="-2592720" y="55800"/>
                  <a:ext cx="558360" cy="290160"/>
                  <a:chOff x="-2592720" y="55800"/>
                  <a:chExt cx="558360" cy="290160"/>
                </a:xfrm>
              </p:grpSpPr>
              <p:sp>
                <p:nvSpPr>
                  <p:cNvPr id="629" name=""/>
                  <p:cNvSpPr/>
                  <p:nvPr/>
                </p:nvSpPr>
                <p:spPr>
                  <a:xfrm flipH="1" rot="762000">
                    <a:off x="-2285280" y="80280"/>
                    <a:ext cx="23940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 rot="762000">
                    <a:off x="-2571480" y="126000"/>
                    <a:ext cx="12852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-2245320" y="-91440"/>
                  <a:ext cx="278640" cy="237240"/>
                  <a:chOff x="-2245320" y="-91440"/>
                  <a:chExt cx="278640" cy="23724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 flipH="1" rot="2888400">
                    <a:off x="-2147040" y="36720"/>
                    <a:ext cx="19764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 rot="2888400">
                    <a:off x="-2238480" y="-63000"/>
                    <a:ext cx="1058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4" name=""/>
                <p:cNvGrpSpPr/>
                <p:nvPr/>
              </p:nvGrpSpPr>
              <p:grpSpPr>
                <a:xfrm>
                  <a:off x="-1684440" y="-47880"/>
                  <a:ext cx="736920" cy="294120"/>
                  <a:chOff x="-1684440" y="-47880"/>
                  <a:chExt cx="736920" cy="29412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 rot="1248600">
                    <a:off x="-1668600" y="14760"/>
                    <a:ext cx="35712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rot="1248600">
                    <a:off x="-1175760" y="-21600"/>
                    <a:ext cx="19188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7" name=""/>
                <p:cNvGrpSpPr/>
                <p:nvPr/>
              </p:nvGrpSpPr>
              <p:grpSpPr>
                <a:xfrm>
                  <a:off x="-1738080" y="5040"/>
                  <a:ext cx="602280" cy="405000"/>
                  <a:chOff x="-1738080" y="5040"/>
                  <a:chExt cx="602280" cy="40500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2041800">
                    <a:off x="-1723320" y="84240"/>
                    <a:ext cx="3304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2041800">
                    <a:off x="-1365120" y="139320"/>
                    <a:ext cx="17712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0" name=""/>
                <p:cNvGrpSpPr/>
                <p:nvPr/>
              </p:nvGrpSpPr>
              <p:grpSpPr>
                <a:xfrm>
                  <a:off x="-1817640" y="72360"/>
                  <a:ext cx="475560" cy="465840"/>
                  <a:chOff x="-1817640" y="72360"/>
                  <a:chExt cx="475560" cy="46584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 rot="2713800">
                    <a:off x="-1815120" y="164160"/>
                    <a:ext cx="316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2713800">
                    <a:off x="-1564560" y="291600"/>
                    <a:ext cx="17028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-2463840" y="341280"/>
                  <a:ext cx="390600" cy="676800"/>
                  <a:chOff x="-2463840" y="341280"/>
                  <a:chExt cx="390600" cy="6768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 flipH="1" rot="16440600">
                    <a:off x="-2341800" y="447480"/>
                    <a:ext cx="35748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H="1" rot="16440600">
                    <a:off x="-2432160" y="792360"/>
                    <a:ext cx="1915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-2283120" y="323280"/>
                  <a:ext cx="290520" cy="617760"/>
                  <a:chOff x="-2283120" y="323280"/>
                  <a:chExt cx="290520" cy="61776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 flipH="1" rot="15839400">
                    <a:off x="-2254680" y="426960"/>
                    <a:ext cx="34200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 rot="15839400">
                    <a:off x="-2249640" y="721800"/>
                    <a:ext cx="18324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9" name=""/>
                <p:cNvGrpSpPr/>
                <p:nvPr/>
              </p:nvGrpSpPr>
              <p:grpSpPr>
                <a:xfrm>
                  <a:off x="-2099160" y="285840"/>
                  <a:ext cx="230760" cy="569160"/>
                  <a:chOff x="-2099160" y="285840"/>
                  <a:chExt cx="230760" cy="56916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 flipH="1" rot="15298200">
                    <a:off x="-2157480" y="401040"/>
                    <a:ext cx="33156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H="1" rot="15298200">
                    <a:off x="-2072880" y="648720"/>
                    <a:ext cx="17784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-2027880" y="255960"/>
                  <a:ext cx="329400" cy="491040"/>
                  <a:chOff x="-2027880" y="255960"/>
                  <a:chExt cx="329400" cy="49104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 flipH="1" rot="14686200">
                    <a:off x="-2060280" y="358920"/>
                    <a:ext cx="30492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flipH="1" rot="14686200">
                    <a:off x="-1901520" y="536400"/>
                    <a:ext cx="16380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-1908000" y="193320"/>
                  <a:ext cx="438480" cy="388440"/>
                  <a:chOff x="-1908000" y="193320"/>
                  <a:chExt cx="438480" cy="38844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 flipH="1" rot="13829400">
                    <a:off x="-1926000" y="291240"/>
                    <a:ext cx="2980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 rot="13829400">
                    <a:off x="-1656360" y="400320"/>
                    <a:ext cx="15984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8" name=""/>
              <p:cNvSpPr/>
              <p:nvPr/>
            </p:nvSpPr>
            <p:spPr>
              <a:xfrm rot="19585200">
                <a:off x="-1645920" y="90720"/>
                <a:ext cx="240480" cy="306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9585200">
                <a:off x="-2878920" y="205920"/>
                <a:ext cx="2100600" cy="9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 flipV="1" rot="19585200">
                <a:off x="-3182400" y="270000"/>
                <a:ext cx="1492920" cy="84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9585200">
                <a:off x="-1915200" y="-113760"/>
                <a:ext cx="915840" cy="955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9585200">
                <a:off x="-1995120" y="-195840"/>
                <a:ext cx="1413720" cy="9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9585200">
                <a:off x="-2025720" y="-302760"/>
                <a:ext cx="147312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 rot="19584600">
                <a:off x="-1896480" y="105840"/>
                <a:ext cx="232200" cy="95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 rot="19584600">
                <a:off x="-2228040" y="196200"/>
                <a:ext cx="61560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 rot="19584600">
                <a:off x="-2496240" y="210960"/>
                <a:ext cx="87408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 rot="19584600">
                <a:off x="-2181240" y="508680"/>
                <a:ext cx="239400" cy="306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 flipV="1" rot="21524400">
                <a:off x="-1942560" y="223200"/>
                <a:ext cx="217800" cy="1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9585200">
                <a:off x="-2009880" y="-401760"/>
                <a:ext cx="147276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9585200">
                <a:off x="-1957680" y="-482760"/>
                <a:ext cx="1238040" cy="95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 rot="19584600">
                <a:off x="-2109600" y="95760"/>
                <a:ext cx="522360" cy="95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9585200">
                <a:off x="-1305720" y="-201600"/>
                <a:ext cx="535680" cy="316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9585200">
                <a:off x="-1524960" y="-393120"/>
                <a:ext cx="344160" cy="31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9585200">
                <a:off x="-1780920" y="-290520"/>
                <a:ext cx="20664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rot="19584600">
                <a:off x="-2903760" y="817560"/>
                <a:ext cx="497880" cy="331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 rot="19584600">
                <a:off x="-3043440" y="613800"/>
                <a:ext cx="750240" cy="221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 rot="19584600">
                <a:off x="-2788920" y="310320"/>
                <a:ext cx="327960" cy="297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 rot="20931600">
                <a:off x="-2316240" y="316800"/>
                <a:ext cx="219600" cy="1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8238200">
                <a:off x="-1668600" y="-118440"/>
                <a:ext cx="218520" cy="1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71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2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2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2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3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3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3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4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4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4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5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5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5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5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6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6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6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7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7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7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8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8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9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9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0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0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0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0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1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1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1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2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2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2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2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2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3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0785-87E8-4EAD-8ABB-ABBEBCF0E5B0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3456000"/>
          </a:xfrm>
          <a:prstGeom prst="rect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9" name=""/>
          <p:cNvSpPr/>
          <p:nvPr/>
        </p:nvSpPr>
        <p:spPr>
          <a:xfrm>
            <a:off x="3276720" y="6093000"/>
            <a:ext cx="5867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28440" rIns="28440" tIns="28440" bIns="2844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title"/>
          </p:nvPr>
        </p:nvSpPr>
        <p:spPr>
          <a:xfrm>
            <a:off x="0" y="-28440"/>
            <a:ext cx="1116000" cy="691488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28440" rIns="28440" tIns="28440" bIns="2844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Arial Black"/>
              <a:ea typeface="黑体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4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5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6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7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09" name="" descr=""/>
          <p:cNvPicPr/>
          <p:nvPr/>
        </p:nvPicPr>
        <p:blipFill>
          <a:blip r:embed="rId8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9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10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11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12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13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号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选手名称 参赛内容 分值 所属单位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冠军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3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5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6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7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9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10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11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12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13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14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2:09:34Z</dcterms:created>
  <dc:creator>行易软件</dc:creator>
  <dc:description/>
  <dc:language>en-US</dc:language>
  <cp:lastModifiedBy>行易软件</cp:lastModifiedBy>
  <dcterms:modified xsi:type="dcterms:W3CDTF">2017-02-19T02:28:42Z</dcterms:modified>
  <cp:revision>371</cp:revision>
  <dc:subject/>
  <dc:title>模板</dc:title>
</cp:coreProperties>
</file>