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2A91-619F-4184-ABB9-F774E79CE0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C1E-A6F0-4598-A26F-7DCED602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CFA-EED0-4A2F-8181-5CA23EC7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4FE-871A-4CB5-8C21-2B395CE2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A19-D817-4F5A-BDBB-F9C58622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53D-5BF4-4330-A5FF-80277E23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B4F-AC3B-4C44-A32C-18DB3489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522-B582-43A8-8E81-C1AED5E8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F7C-02D8-4331-BD24-79626898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ACA-439A-4ECA-8F4E-60A053FE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6A4-D46E-488C-8739-5DCAA5B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CB5-421F-45EE-81C7-9FBA6A0E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438-7E92-474B-9778-219D257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CC7E-359D-4E2D-B3F3-BDD5DCBF29ED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590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</a:rPr>
              <a:t>赞助单位</a:t>
            </a:r>
            <a:endParaRPr b="0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1438200"/>
            <a:ext cx="80629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六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祺创太阳能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神光新能源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远征流体控制股份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4382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铭越信息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华阳印刷包装设备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四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五研究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0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兵器工业集团公司第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天惠科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22Z</dcterms:modified>
  <cp:revision>3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