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4C2A-6EA6-4D3B-B955-91153116E1B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FC4D-6665-4BE0-ADF9-130206C0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4DC9-5EAC-494E-B9BE-5761350C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E105-F1C4-438E-9AF8-A872AA3A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934E-1F24-456D-8E2A-25E71F68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48FC-7E12-4A67-B36D-AF310795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478A-3DF1-4679-8ED4-0E0CA676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ED35-DE3A-4A50-B4B3-03B281DD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4583-59DB-408F-B9DB-4BABC443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77A6-9907-407E-B9E8-DA6D7730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7D8F-81BA-40A9-BB0F-BB7017AA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CB9A-A7D2-405F-91C2-6696D8F0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1B0D-C80F-4649-8106-E1FFE5E0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7BDE-5B2A-45EF-A32F-3974821D6464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8560" y="719280"/>
            <a:ext cx="709308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开根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和谐网络科技公司总经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何惠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航天大学计算机系主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张建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行易软件总经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765000"/>
            <a:ext cx="1332000" cy="381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评审组成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-720720" y="0"/>
            <a:ext cx="1441440" cy="98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0000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8560" y="719280"/>
            <a:ext cx="69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简勇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旅游局副主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易艳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陕西旅游局副主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黄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大学科技部经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765000"/>
            <a:ext cx="1332000" cy="381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监审组成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-324000" y="386064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54Z</dcterms:modified>
  <cp:revision>13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