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D752-F3CB-4EE4-8AF1-46F0E581AC5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B087-C8FD-42C0-9842-4F0808F44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9905-7D3C-40F1-A9F8-63E05281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5531-3B37-48BC-8197-0A58DB3CE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9E50-2641-40C3-92AF-DA4643532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1A29-DD44-4C0D-88B0-7AA7BEA2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D8EB-D0CA-44FF-BB29-31CCC39C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CED4-ABFA-4CF0-B4A3-2B5DD6F9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2E3B-D5E3-4CEF-9912-8527F02F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10D4-67F6-40C2-B4EB-5E495038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8E59-5F4A-4D9D-9E49-E913667C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F53E-CCA8-4485-84B9-946B7CA3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B359-4C9A-4865-B2F4-F4A12277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1" marL="653760" indent="-2512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2" marL="1005840" indent="-2008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3" marL="1407960" indent="-2008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4" marL="1810440" indent="-200880">
              <a:spcBef>
                <a:spcPts val="1001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6FC4-2FBB-4429-95CB-EB54D0EA198A}" type="slidenum"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09480" y="2362320"/>
            <a:ext cx="69343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国航天科技集团公司行易软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西安和谐网络科技有限责任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106668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现场计分团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4:03Z</dcterms:modified>
  <cp:revision>16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