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黑体"/>
              </a:rPr>
              <a:t>Click to move the slide</a:t>
            </a: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953FA-0859-49C4-BFF9-500412966E03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幻灯随便修改、删除、增加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切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保证至少一个幻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幻灯随便修改、删除、增加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切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保证至少一个幻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FE903-F0B3-4250-B916-A9220AE52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8613E-F4C2-4FD6-860B-583B14D96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0EEF7-8EAE-4A97-A742-B879C2B09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010E9-2135-45B4-BD83-0891892CC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DBE70-F70F-42F9-A372-C1F180C7E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3BD31-A1CA-42B1-8D5F-E12391EC0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4FCE2-55E6-422A-8F18-9FC16201C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C4A7B-94E8-47D3-A563-32218B05D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06B70-6DEC-4EF8-8869-8EAA443B9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F1F04-2474-4D0D-BD0A-2961FAEFC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36559-47FB-416C-A63E-B906FCC4E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295F4-AC71-442E-9FA7-D527411A6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001"/>
              </a:spcBef>
              <a:buClr>
                <a:srgbClr val="ffff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黑体"/>
              </a:rPr>
              <a:t>Click to edit the outline text format</a:t>
            </a: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  <a:p>
            <a:pPr lvl="1" marL="653760" indent="-251280">
              <a:spcBef>
                <a:spcPts val="1001"/>
              </a:spcBef>
              <a:buClr>
                <a:srgbClr val="ffffff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黑体"/>
              </a:rPr>
              <a:t>Second Outline Level</a:t>
            </a: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  <a:p>
            <a:pPr lvl="2" marL="1005840" indent="-200880">
              <a:spcBef>
                <a:spcPts val="1001"/>
              </a:spcBef>
              <a:buClr>
                <a:srgbClr val="ffff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黑体"/>
              </a:rPr>
              <a:t>Third Outline Level</a:t>
            </a: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  <a:p>
            <a:pPr lvl="3" marL="1407960" indent="-200880">
              <a:spcBef>
                <a:spcPts val="1001"/>
              </a:spcBef>
              <a:buClr>
                <a:srgbClr val="ffffff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黑体"/>
              </a:rPr>
              <a:t>Fourth Outline Level</a:t>
            </a: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  <a:p>
            <a:pPr lvl="4" marL="1810440" indent="-200880">
              <a:spcBef>
                <a:spcPts val="1001"/>
              </a:spcBef>
              <a:buClr>
                <a:srgbClr val="ffffff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黑体"/>
              </a:rPr>
              <a:t>Fifth Outline Level</a:t>
            </a: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  <a:p>
            <a:pPr lvl="5" marL="1810440" indent="-200880">
              <a:spcBef>
                <a:spcPts val="1001"/>
              </a:spcBef>
              <a:buClr>
                <a:srgbClr val="ffffff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黑体"/>
              </a:rPr>
              <a:t>Sixth Outline Level</a:t>
            </a: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  <a:p>
            <a:pPr lvl="6" marL="1810440" indent="-200880">
              <a:spcBef>
                <a:spcPts val="1001"/>
              </a:spcBef>
              <a:buClr>
                <a:srgbClr val="ffffff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黑体"/>
              </a:rPr>
              <a:t>Seventh Outline Level</a:t>
            </a: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4000" spc="-1" strike="noStrike">
                <a:solidFill>
                  <a:srgbClr val="ffffff"/>
                </a:solidFill>
                <a:latin typeface="黑体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&lt;date/time&gt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4000" spc="-1" strike="noStrike">
                <a:solidFill>
                  <a:srgbClr val="ffffff"/>
                </a:solidFill>
                <a:latin typeface="黑体"/>
                <a:ea typeface="黑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&lt;footer&gt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4000" spc="-1" strike="noStrike">
                <a:solidFill>
                  <a:srgbClr val="ffffff"/>
                </a:solidFill>
                <a:latin typeface="黑体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4D403-CC19-446D-9672-85DCFE37C34E}" type="slidenum">
              <a:rPr b="0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&lt;number&gt;</a:t>
            </a:fld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979640" y="617400"/>
            <a:ext cx="6769080" cy="583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本次大赛采用百分制，选手满分为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100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分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本次大赛专家评审团，去掉一个最高分及一个最低分后的剩余评委的平均值，再取重为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80%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，即满分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=80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分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本次大赛大众评审团打分总分占选手最终实际总分的权重为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20%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，即满分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=20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分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大众评审团每位成员有三张打分牌：优秀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=20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分、良好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=16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分、一般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=12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分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50920" y="692280"/>
            <a:ext cx="1296720" cy="3024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计分细则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5"/>
          <a:stretch/>
        </p:blipFill>
        <p:spPr>
          <a:xfrm>
            <a:off x="0" y="260280"/>
            <a:ext cx="1008000" cy="8827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6"/>
          <a:stretch/>
        </p:blipFill>
        <p:spPr>
          <a:xfrm>
            <a:off x="7812000" y="5589720"/>
            <a:ext cx="1663920" cy="1485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979640" y="620640"/>
            <a:ext cx="6769080" cy="623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每位选手演讲完毕后，大众评审团当场亮分，大会主持分别宣布优秀、良好、一般票数。举牌即为有效分数，不举牌即视为弃权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根据有效票数，计算大众评审团总分，除以有效票数相应的满分总分，再乘以大众评审团占选手最终实际总分的满分权重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20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分，即为该选手大众评审团部分的最终得分。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(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保留小数点后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位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0920" y="692280"/>
            <a:ext cx="1296720" cy="302400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计分细则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-324000" y="3213000"/>
            <a:ext cx="1152720" cy="12240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812000" y="5589720"/>
            <a:ext cx="1663920" cy="1485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行易软件</dc:creator>
  <dc:description/>
  <dc:language>en-US</dc:language>
  <cp:lastModifiedBy>行易软件 http://www.ExeSoft.cn</cp:lastModifiedBy>
  <dcterms:modified xsi:type="dcterms:W3CDTF">2014-08-15T06:04:14Z</dcterms:modified>
  <cp:revision>17</cp:revision>
  <dc:subject/>
  <dc:title>自定义文件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