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7C01-8941-4D63-BB31-35FB6EBEA22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后面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抽签结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抽签结果展示幻灯。里面的文本框及图片框不能删除，但可以随意拖动。此模板要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3DAD-34E5-4C28-9C9C-225D9F84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2C0A-92FC-4E35-A4C3-D92F2568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0FA6-F5DA-499D-B67C-B2A657EC4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1E81-0315-4BD3-8ADF-0330D7227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DBF3-2350-4D0F-9384-985579A5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EFE2-0B0D-4EDD-86D3-17084B0E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8AB7-7829-4379-A180-50880127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016B-749E-47CE-BB6E-C08F2DEF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C128-F5AA-46B3-BDE1-F27EACF0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AEE8-2B97-4D3D-BE10-AD28C00A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C19C-ACFC-4D0F-91D8-5D817780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7A1B-3EDF-4B30-BF3D-9C8AFD5E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CC5A-02F2-4DE2-B228-42AF0C0ED683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抽签结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760" y="6937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81280" y="69048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6360" y="690480"/>
            <a:ext cx="41450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0" y="14670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1280" y="146196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65840" y="146052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0" y="22399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1280" y="224460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65840" y="224460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0" y="30132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81280" y="3013200"/>
            <a:ext cx="3133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65840" y="3013200"/>
            <a:ext cx="41781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0" y="37861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81280" y="378288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65840" y="378288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60" y="45594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81280" y="454644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65840" y="454968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0" y="53323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81280" y="532440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65840" y="532116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60" y="61056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81280" y="6093000"/>
            <a:ext cx="3132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65840" y="608472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0332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0332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332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0332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0332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0332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332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0332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5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出场顺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81280" y="0"/>
            <a:ext cx="278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15080" y="0"/>
            <a:ext cx="4473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送单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9:44:18Z</dcterms:modified>
  <cp:revision>16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