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058E-858B-4161-A75A-C70BE18BEB4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后面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抽签结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抽签结果展示幻灯。里面的文本框及图片框不能删除，但可以随意拖动。此模板要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AF49-F951-4F1B-92E3-92ED2C15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23E3-1950-4529-A00E-A763A661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1A11-0704-45B6-B4B3-E3C6762E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C05F-01B9-4ADA-AFF9-FA36C914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6FB9-8F9B-4553-8A64-67DCC7AA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B4D-C552-4C18-9EDF-977DA366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67DC-FEBB-4F5A-AC1E-1C966E58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6768-979C-4B95-93B8-A3DEFCEC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7A7A-B9A0-4344-94B7-40A1251D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C0BD-D415-4512-9767-60093536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D11A-C006-4F41-9536-A6CC7A32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D6E9-48A3-4BDE-AC03-6CB2FAB4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2B6C-064D-41EB-A145-30ABB7AAB6F7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抽签结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60" y="6937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81280" y="69048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6360" y="690480"/>
            <a:ext cx="41450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14670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1280" y="146196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65840" y="146052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0" y="22399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1280" y="224460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65840" y="224460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0" y="30132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81280" y="3013200"/>
            <a:ext cx="3133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65840" y="3013200"/>
            <a:ext cx="41781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0" y="37861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81280" y="378288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65840" y="378288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0" y="45594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81280" y="454644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65840" y="454968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" y="53323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81280" y="532440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65840" y="532116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0" y="61056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81280" y="6093000"/>
            <a:ext cx="3132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65840" y="608472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0332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0332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332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332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0332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0332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332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332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5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出场顺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81280" y="0"/>
            <a:ext cx="278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15080" y="0"/>
            <a:ext cx="447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送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44:18Z</dcterms:modified>
  <cp:revision>16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