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CAFF-7EC9-4B1A-AD78-DA50C0B380E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模板不展示选手照片，所以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060720" y="333360"/>
            <a:ext cx="2016000" cy="295128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63640" y="475920"/>
            <a:ext cx="194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476280"/>
            <a:ext cx="3674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177336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2036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565440" y="4581360"/>
            <a:ext cx="3241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0920"/>
            <a:ext cx="9144000" cy="2422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20360" y="3933720"/>
            <a:ext cx="3492360" cy="865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30T02:57:59Z</dcterms:modified>
  <cp:revision>52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