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W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8427-A107-491A-898B-723E5CFE972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评委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评委信息展示幻灯。里面的文本框及图片框不能删除，但可以随意拖动。此模板不展示选手照片，所以照片框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E18F-F9AA-49B2-B16B-078E8D2F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4E5A-170A-418B-AAF5-6C91B157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550B-061B-4C1B-BEDE-1D0DB775C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E1E3-2BC1-4467-890E-598928E37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5F12-AE8E-4E1E-A739-4EAED5D7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EB6D-2081-4919-8161-46D4E16B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0869-1A77-4A7C-87E9-BCA8ADCC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3AFE-0213-4E99-89F0-1F4CAB00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D9E5-DA69-47C5-AAD3-21799DF3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498A-ED84-401C-AFCA-9EB3B7D9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3A4E-9EE7-423B-ADC0-57656EE0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73B9-D1AF-4A85-A958-5EA32E54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F923-BD55-415A-B2F4-C7284969F7F3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专家评委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2484360" y="765000"/>
            <a:ext cx="2160360" cy="266400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92280"/>
            <a:ext cx="9144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评委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3716280"/>
            <a:ext cx="698508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评委描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28T11:16:37Z</dcterms:modified>
  <cp:revision>12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