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W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BA96-DBBD-4D00-A77A-28BCDA7D05D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评委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评委信息展示幻灯。里面的文本框及图片框不能删除，但可以随意拖动。此模板展示评委照片，所以照片框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D817-38FC-4DD8-927A-319B9644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9C5D-D476-48A5-8C1F-C3A1ABE2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2570-7F7E-492C-A7F1-7A0EE5FD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44E3-1504-43E6-945C-DF4860575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EDD9-9165-4CE7-99AA-7BCADAC6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E652-04E2-4922-BD51-B25BA604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75BF-B5C2-4A66-B778-70A5E6DE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10E6-0C63-4AA2-8989-C8F6095B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BBB5-441E-4CC3-AB2D-CAF6B804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D2B3-4943-4D76-BE20-744048BD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760C-E1AE-4116-BE32-F124B63C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B6C3-0E7E-4C68-8B4A-921DCE22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EFBF-5975-43D6-9218-52A1E43EDA63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专家评委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692280"/>
            <a:ext cx="2089080" cy="266364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3640" y="692280"/>
            <a:ext cx="49687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评委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3716280"/>
            <a:ext cx="720072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评委描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28T11:16:22Z</dcterms:modified>
  <cp:revision>11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