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7221-4E8F-4E1B-ABE8-CDB07DE195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BE0-4C3B-472F-9E72-587FCB76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CEA-3EBA-4F7D-A8D2-BBC2C8DF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31B-4BBF-4088-B3E9-A01DE54C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60A-12E5-41B6-8145-B8E457DA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B70-37FA-4F4E-84DB-1E49FB78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4EB-889B-4980-8E6F-403BD08B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A66-2E43-42D2-B471-C27B303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B76-EFCD-4B09-A77F-5B7C4DCB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C0A-F06A-4559-A339-42788893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EFA-0904-493D-BFC4-29A6137E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45C-961E-4BE2-AA49-FD31E110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614-1633-4CE7-80F4-EA47CCD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37C1-A44A-4E36-BB13-B8C76F9B7A4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</cp:lastModifiedBy>
  <dcterms:modified xsi:type="dcterms:W3CDTF">2017-02-19T02:05:45Z</dcterms:modified>
  <cp:revision>305</cp:revision>
  <dc:subject/>
  <dc:title>幻灯片 1</dc:title>
</cp:coreProperties>
</file>