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5B24-B749-4F72-9AD6-A04EAEACD8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008000" cy="1295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76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620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656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6560" y="314172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33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33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29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29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51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7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58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58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6720" y="-2619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96720" y="-1251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921280"/>
            <a:ext cx="3168720" cy="603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演唱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33336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360" y="260280"/>
            <a:ext cx="169236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907920"/>
            <a:ext cx="1584360" cy="5050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80" y="5373720"/>
            <a:ext cx="3598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1:19:05Z</dcterms:modified>
  <cp:revision>68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