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FD71-DD93-47AE-8286-4B8FE327741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所有项目得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48000" y="898560"/>
            <a:ext cx="172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836640"/>
            <a:ext cx="360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7120" y="90792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3528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1636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974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956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72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3789360"/>
            <a:ext cx="10098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5780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5780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3888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2876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2876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0840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0840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8948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8948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4984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4984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092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3092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1200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1200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149440" y="-261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149440" y="-1251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00080"/>
            <a:ext cx="1150920" cy="4633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469440" y="4365720"/>
            <a:ext cx="734364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476360" y="7101000"/>
            <a:ext cx="504036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5581800" y="191628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3708360" y="5013360"/>
            <a:ext cx="31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9856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40464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7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15600" y="227664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61236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684360" y="990900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45000"/>
            <a:ext cx="3598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19708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53264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2403360"/>
            <a:ext cx="3602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468360" y="-427500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2-01T00:39:51Z</dcterms:modified>
  <cp:revision>668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