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0DA2-46A9-4ABB-BEC8-6BBF7E56A99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133720"/>
            <a:ext cx="9144000" cy="2971800"/>
          </a:xfrm>
          <a:prstGeom prst="rect">
            <a:avLst/>
          </a:prstGeom>
          <a:solidFill>
            <a:srgbClr val="ff00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航天六院 行易软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http://www.ExeSoft.c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为比赛现场提供计分相关技术支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3-06-22T10:13:07Z</dcterms:modified>
  <cp:revision>9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