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4458-0BBE-4CEA-B043-11D2B0A79D0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BBE8-F0C4-4D3A-94AF-96C09145B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2513-E9B6-443A-8963-EB00D7C9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DC7F-7261-4A40-A928-4AA4139D4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438C-F1BB-4B83-8DC5-F9FAEC5D0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D33D-B16A-4CB5-A35B-29243855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9368-17BF-42C4-9067-7719E5EB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5512-3100-4818-A4F2-40CA55E7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F837-2289-45E5-81F8-9E957C81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7B6A-D116-4DC8-94CF-942AB2D7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6D44-0141-41D1-A409-011AF906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603B-DEF8-4ADC-8E38-0428BBDD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9EF8-8BA1-4B83-8F1D-8081A492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A60F-1181-41EE-AC6B-B4B35FF80A29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Garamond"/>
              <a:ea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Garamond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244600"/>
            <a:ext cx="914544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013200"/>
            <a:ext cx="914544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782880"/>
            <a:ext cx="914544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90480"/>
            <a:ext cx="914544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330120" y="95400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2280" y="6937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04840" y="69048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97640" y="690480"/>
            <a:ext cx="1582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14670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04840" y="146196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6200" y="146052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22399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04840" y="224460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96200" y="224460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30132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04840" y="3013200"/>
            <a:ext cx="25956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96200" y="3013200"/>
            <a:ext cx="15825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37861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04840" y="378288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96200" y="378288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45594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04840" y="454644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396200" y="454968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53323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04840" y="532440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96200" y="532116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61056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04840" y="6093000"/>
            <a:ext cx="25956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96200" y="608472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918720" y="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918720" y="7732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918720" y="1550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18720" y="23194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918720" y="30924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18720" y="38656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18720" y="4638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18720" y="54118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4840" y="0"/>
            <a:ext cx="900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04840" y="0"/>
            <a:ext cx="264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6200" y="0"/>
            <a:ext cx="1604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51200" y="69372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6 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各项分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51200" y="1463760"/>
            <a:ext cx="36068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51200" y="224784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51200" y="301608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51200" y="378612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1200" y="455292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51200" y="532440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51200" y="608796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51200" y="0"/>
            <a:ext cx="2468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各项得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6-29T09:07:36Z</dcterms:modified>
  <cp:revision>160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