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F9DE-8459-440E-A2A0-6974197B396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912-1D71-453F-A068-3760B2F2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69F3-0FC9-4B16-AE4D-15DF7D76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3DE-9E05-474C-BFAC-1DE38428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26A-B6DD-402B-839C-9D9536DC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F4C-C249-4CDD-B2E8-47C488A5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F47-926A-4C87-B08C-7EC7A837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A63-6B43-43B3-8A10-A791A209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79C-2981-4459-9CA0-15A804A7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CED-21FD-47F6-B776-F9E31C9E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5F71-641B-4BD9-BFD9-52E16A5B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A69-BF7C-4DAD-9266-540E7DA7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4FA-962D-4587-B491-E6A380CF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75B1-A0AF-4210-8DEC-B5757DB865B7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张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46880" y="690480"/>
            <a:ext cx="16318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46880" y="14605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46880" y="224460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46880" y="3013200"/>
            <a:ext cx="1644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6880" y="37828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46880" y="45496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46880" y="532116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46880" y="60847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46880" y="0"/>
            <a:ext cx="2041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690480"/>
            <a:ext cx="2681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6680" y="14605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6680" y="224460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6680" y="3013200"/>
            <a:ext cx="2703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6680" y="37828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6680" y="45496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6680" y="532116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6680" y="60847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0"/>
            <a:ext cx="277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8:28Z</dcterms:modified>
  <cp:revision>17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