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4764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29600" y="0"/>
            <a:ext cx="914400" cy="8380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7696080" y="0"/>
            <a:ext cx="830520" cy="99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762120"/>
            <a:ext cx="89917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下列哪一项可以保护淘宝、支付宝账户的安全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A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使用安全浏览器，安装杀毒软件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B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安装使用安全产品（建议安装数字证书、开通登录保护）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C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账户登录密码与交易支付密码区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D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以上都需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21589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单选题 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7347000">
            <a:off x="10342440" y="69840"/>
            <a:ext cx="533520" cy="8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7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 rot="10710000">
            <a:off x="9622440" y="3105720"/>
            <a:ext cx="685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宋体"/>
              </a:rPr>
              <a:t>0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新宋体"/>
              <a:ea typeface="新宋体"/>
            </a:endParaRPr>
          </a:p>
        </p:txBody>
      </p:sp>
      <p:sp>
        <p:nvSpPr>
          <p:cNvPr id="45" name=""/>
          <p:cNvSpPr/>
          <p:nvPr/>
        </p:nvSpPr>
        <p:spPr>
          <a:xfrm>
            <a:off x="9448920" y="1905120"/>
            <a:ext cx="1143000" cy="53316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2600" dir="54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 rot="10694400">
            <a:off x="9627120" y="4471920"/>
            <a:ext cx="7621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x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7" name=""/>
          <p:cNvSpPr/>
          <p:nvPr/>
        </p:nvSpPr>
        <p:spPr>
          <a:xfrm>
            <a:off x="9524880" y="5791320"/>
            <a:ext cx="13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答案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762120"/>
            <a:ext cx="89917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下列哪一项可以保护淘宝、支付宝账户的安全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A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使用安全浏览器，安装杀毒软件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B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安装使用安全产品（建议安装数字证书、开通登录保护）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C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账户登录密码与交易支付密码区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D.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以上都需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1589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单选题 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 rot="7347000">
            <a:off x="4246200" y="4794120"/>
            <a:ext cx="533520" cy="8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7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 rot="10710000">
            <a:off x="9622440" y="3105720"/>
            <a:ext cx="685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宋体"/>
              </a:rPr>
              <a:t>0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新宋体"/>
              <a:ea typeface="新宋体"/>
            </a:endParaRPr>
          </a:p>
        </p:txBody>
      </p:sp>
      <p:sp>
        <p:nvSpPr>
          <p:cNvPr id="52" name=""/>
          <p:cNvSpPr/>
          <p:nvPr/>
        </p:nvSpPr>
        <p:spPr>
          <a:xfrm>
            <a:off x="9448920" y="1905120"/>
            <a:ext cx="1143000" cy="53316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2600" dir="54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 rot="10694400">
            <a:off x="9627120" y="4471920"/>
            <a:ext cx="7621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x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4" name=""/>
          <p:cNvSpPr/>
          <p:nvPr/>
        </p:nvSpPr>
        <p:spPr>
          <a:xfrm>
            <a:off x="9524880" y="5791320"/>
            <a:ext cx="13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答案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12-10T06:44:30Z</dcterms:modified>
  <cp:revision>1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