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96D7-6D03-4659-A7D7-F00A1B1B18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66A-5263-4EBE-9BF1-10022D99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97D-67BF-4D69-B485-D12DB6B5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111-3AEC-4044-AE20-0CB8B9F2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A91-CDE8-4052-B69A-549172D9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2302-522B-4A6A-9F52-DBAC793D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01C-F5B0-432D-AB13-74391496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B2FD-E504-4067-B6D2-B640A2FD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E00-C00F-4409-88A5-3FD7C775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C756-15BE-4253-B242-B654FF4F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60E-83D6-4377-95B6-B21D6D0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7AD-A6CE-4CB3-8432-ADB84542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E85E-145B-41A1-88C5-37A0AE44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8EE4-499F-46F8-A82E-F64B09E30FFA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590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</a:rPr>
              <a:t>赞助单位</a:t>
            </a:r>
            <a:endParaRPr b="0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1438200"/>
            <a:ext cx="80629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六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祺创太阳能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神光新能源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远征流体控制股份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4382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铭越信息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华阳印刷包装设备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四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五研究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0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兵器工业集团公司第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天惠科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22Z</dcterms:modified>
  <cp:revision>3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