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7984-3169-4FDB-982C-493D1725900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5D46-985E-4EB0-BB65-98D308A4D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50B4-4C8D-49D6-B3AD-046E1E34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BDEF-0993-4775-8093-7A3B67EE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ABAE-45EB-4AA4-A2EA-74100960A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1D5E-7525-4154-9D09-CD628A5D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B12E-138B-4D6E-ABF4-B837C3A1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1F0C-A9C7-4430-81FE-A3EEE724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C544-1C60-451F-A502-1ABBBDE8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C25D-340E-413A-AF2B-4A0196D2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6A7D-62DE-4E1E-8229-CF1C19DD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5DF6-EBF7-4EE9-94A6-C8820235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55F8-8DEA-47E8-A67F-A94353CA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1" marL="653760" indent="-2512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2" marL="1005840" indent="-2008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3" marL="1407960" indent="-2008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4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7643-2D8E-4140-8108-1F686D428D9F}" type="slidenum"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9480" y="2362320"/>
            <a:ext cx="6934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行易软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和谐网络科技有限责任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06668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现场计分团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4:03Z</dcterms:modified>
  <cp:revision>16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