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14B1-0373-4EAC-8D7C-BDEE778F09A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A3B-48DC-4680-B3D7-AF2CB2D2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F82-07C2-47E8-B99D-D5DC8A18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840-47E2-4B66-A1B3-8BE39C4A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ED7-4DFD-4BFF-9BB5-870BA28E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BBC-B1AD-4C10-A2C6-1CD68CFD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349-70E2-49B7-AAA2-902C2624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07C-2282-42A8-9FB6-F4F6D6EB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2B76-25B8-4F44-8E81-319BCF6B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5E3B-2B3A-4D40-A1E2-0941BE23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732-77B4-4938-B7F8-79ECBBBF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F5E6-16E5-4E0D-A532-AB8E587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C4C-9EF8-4BF1-9517-AC575969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C1E3-B1CD-4839-AAFA-520485B7E884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采用百分制，选手满分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专家评审团，去掉一个最高分及一个最低分后的剩余评委的平均值，再取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8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大众评审团打分总分占选手最终实际总分的权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众评审团每位成员有三张打分牌：优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良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一般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620640"/>
            <a:ext cx="67690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位选手演讲完毕后，大众评审团当场亮分，大会主持分别宣布优秀、良好、一般票数。举牌即为有效分数，不举牌即视为弃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有效票数，计算大众评审团总分，除以有效票数相应的满分总分，再乘以大众评审团占选手最终实际总分的满分权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，即为该选手大众评审团部分的最终得分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保留小数点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14Z</dcterms:modified>
  <cp:revision>1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