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1BC2-7FA0-40B0-BABD-448FDF75A39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7AF6-1E1C-4682-8EC4-27CC74E95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DB32-D5F0-4360-B455-935754C2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8052-EA30-471A-B7F2-88BA3F187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63D0-65A3-483B-BBD1-4AF13684E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0A27-CA85-4545-8FB8-E6E5CA5F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C2D4-7F1B-4606-A768-C29FC85F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BD07-9B64-425F-9538-E62FC9E2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76D6-BD82-473B-81AF-2C49C69D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358D-9757-4D52-9D9D-2442165C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C9B4-263B-41A1-B82E-5AAA1DD4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AA10-94CF-402A-BFC1-4A92E96F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76DF-D007-48FB-82C8-1682A457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1" marL="653760" indent="-2512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2" marL="1005840" indent="-2008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3" marL="1407960" indent="-2008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4" marL="1810440" indent="-200880">
              <a:spcBef>
                <a:spcPts val="1001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6B41-7C3D-4C6A-9ADF-68318A8BBC57}" type="slidenum"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2133720"/>
            <a:ext cx="7848720" cy="21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通知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比赛结束后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领队管理好自己的队员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请循就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4:23Z</dcterms:modified>
  <cp:revision>14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