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5129-A63E-4579-B9CE-A2BB42A18CF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抽签仪式活动主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及抽签滚动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此模板不展示选手照片，所以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3527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抽签仪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060720" y="333360"/>
            <a:ext cx="2016000" cy="295128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63640" y="475920"/>
            <a:ext cx="194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编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476280"/>
            <a:ext cx="3674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1773360"/>
            <a:ext cx="65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20360" y="2349360"/>
            <a:ext cx="280836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565440" y="4581360"/>
            <a:ext cx="3241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90920"/>
            <a:ext cx="9144000" cy="2422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黑体"/>
              </a:rPr>
              <a:t>抽签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20360" y="3933720"/>
            <a:ext cx="3492360" cy="865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1708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30T02:57:59Z</dcterms:modified>
  <cp:revision>52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