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0C86-1DD3-4438-9667-E5DC2ACC378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空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画面越简单越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一般作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启动时的画面过渡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为抽签仪式活动主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随意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具体方法见打分软件系统帮助文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三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页默认为选手信息及抽签滚动展示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里面的文本框及图片框不能删除，但可以随意拖动。此幻灯展示选手照片，照片框位于可视界面之内。文字、颜色、形状、布局可调整修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每个矩形或文本框上面的开始数字编号是他们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坐标的层位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所以不能随意修对象上下之间的层的上下关系。数字大的层在数字小的层之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层关系乱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可以通过恢复默认模板方法或者根据帮助文档的提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修改层的上下关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切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件的中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个幻灯页的前后次序不能随意改动，不能删除幻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能添加幻灯。自己后来添加的任何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只要层号是超越最大的编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是允许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越是后来添加的对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默认层编号往往是最大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32000" cy="234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41360"/>
            <a:ext cx="9144000" cy="3527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2010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全国导游大赛决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抽签仪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333360"/>
            <a:ext cx="2016360" cy="29512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黑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 Black"/>
                <a:ea typeface="黑体"/>
              </a:rPr>
              <a:t>照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32000" y="404640"/>
            <a:ext cx="194472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编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4788000" y="404640"/>
            <a:ext cx="36748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选手名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651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所属单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56720" y="2349360"/>
            <a:ext cx="2808360" cy="10810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领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781440" y="4724280"/>
            <a:ext cx="3565440" cy="11527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内容类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92720"/>
            <a:ext cx="9144000" cy="2421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>
                  <a:alpha val="0"/>
                </a:srgbClr>
              </a:gs>
              <a:gs pos="100000">
                <a:srgbClr val="000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黑体"/>
              </a:rPr>
              <a:t>7</a:t>
            </a:r>
            <a:r>
              <a:rPr b="1" lang="zh-CN" sz="9600" spc="-1" strike="noStrike">
                <a:solidFill>
                  <a:srgbClr val="ffffff"/>
                </a:solidFill>
                <a:latin typeface="Arial Black"/>
                <a:ea typeface="黑体"/>
              </a:rPr>
              <a:t>抽签号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56720" y="3789360"/>
            <a:ext cx="457200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自己文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117080" y="-782640"/>
            <a:ext cx="1692360" cy="1565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5:16:28Z</dcterms:created>
  <dc:creator>行易软件</dc:creator>
  <dc:description/>
  <cp:keywords/>
  <dc:language>en-US</dc:language>
  <cp:lastModifiedBy>行易软件 http://www.ExeSoft.cn</cp:lastModifiedBy>
  <dcterms:modified xsi:type="dcterms:W3CDTF">2013-07-14T03:26:44Z</dcterms:modified>
  <cp:revision>521</cp:revision>
  <dc:subject/>
  <dc:title>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26137008</vt:r8>
  </property>
  <property fmtid="{D5CDD505-2E9C-101B-9397-08002B2CF9AE}" pid="3" name="_ReviewingToolsShownOnce">
    <vt:lpwstr/>
  </property>
  <property fmtid="{D5CDD505-2E9C-101B-9397-08002B2CF9AE}" pid="4" name="_TemplateID">
    <vt:lpwstr>TC100690501033</vt:lpwstr>
  </property>
</Properties>
</file>