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ShowIndex" id="0">
      <p:sldLst>
        <p:sld r:id="rId5"/>
      </p:sldLst>
    </p:custShow>
    <p:custShow name="ShowRank" id="1">
      <p:sldLst>
        <p:sld r:id="rId7"/>
      </p:sldLst>
    </p:custShow>
    <p:custShow name="ShowBlank" id="2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3B16-B01F-4762-B8E5-EFFACA04980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后面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抽签结果主题幻灯。其中唯一的文本框会被打分软件自动填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用户可以随意修改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保证标题文本框层次号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即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它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画面过渡刷新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其风格与第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要匹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第四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页为抽签结果展示幻灯。里面的文本框及图片框不能删除，但可以随意拖动。此模板不展示选手照片，所以照片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[25-32]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在可视界面之外。文字、颜色、形状、布局可调整修改。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通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软件菜单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片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命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自定义放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howIndex,ShowRank,ShowBlank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别严格对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DE4-AA0A-46A0-8214-3BF264E4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80E-EE56-43E2-971A-AEB1CB3B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CDF-06EA-4DF9-A1A4-CC1C1072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205740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182840"/>
            <a:ext cx="255168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340-7256-4513-B9F6-AD7D3F4A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6108-2C87-45C5-A7D9-F635C7A6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A59C-2FCA-47F5-958F-708B207C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F67-B872-4803-A1B7-09FDCF8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F64-1E0D-406A-A648-08968D0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837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7AA-1976-4B74-AF50-C3124EAD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84B-CE87-497E-A8FC-735A654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8284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8CF-C097-4557-8E1E-5E1ED49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2057400"/>
            <a:ext cx="386712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182840"/>
            <a:ext cx="792504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BFA-846D-4997-964B-4048EA89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057400"/>
            <a:ext cx="792504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E9E0-B375-4B48-ABB7-B3A33ED44A02}" type="slidenum">
              <a:rPr b="0" lang="en-US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76640"/>
            <a:ext cx="9144000" cy="24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黑体"/>
              </a:rPr>
              <a:t>抽签结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196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446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132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7828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4644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32440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90480"/>
            <a:ext cx="9144000" cy="7192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330120" y="598320"/>
            <a:ext cx="9817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093000"/>
            <a:ext cx="9144000" cy="718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24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6937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4840" y="6904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号 选手名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48240" y="690480"/>
            <a:ext cx="35276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  <a:ea typeface="黑体"/>
              </a:rPr>
              <a:t>所属单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4670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04840" y="146196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48240" y="14605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22399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4840" y="22446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224460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132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30132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48240" y="3013200"/>
            <a:ext cx="353844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861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04840" y="378288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48240" y="37828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45594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04840" y="454644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48240" y="454968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5332320"/>
            <a:ext cx="9003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04840" y="5324400"/>
            <a:ext cx="434340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48240" y="532116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6105600"/>
            <a:ext cx="9003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04840" y="6093000"/>
            <a:ext cx="434340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48240" y="6084720"/>
            <a:ext cx="353844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18720" y="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18720" y="7732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18720" y="155088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918720" y="23194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18720" y="30924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18720" y="38656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18720" y="4638600"/>
            <a:ext cx="777960" cy="71928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18720" y="5411880"/>
            <a:ext cx="777960" cy="718920"/>
          </a:xfrm>
          <a:prstGeom prst="rect">
            <a:avLst/>
          </a:prstGeom>
          <a:solidFill>
            <a:srgbClr val="800000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黑体"/>
              </a:rPr>
              <a:t>3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9680" y="0"/>
            <a:ext cx="105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3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出场顺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04840" y="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4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手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0"/>
            <a:ext cx="3527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  <a:ea typeface="黑体"/>
              </a:rPr>
              <a:t>35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黑体"/>
              </a:rPr>
              <a:t>选送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/>
  <dc:description/>
  <cp:keywords/>
  <dc:language>en-US</dc:language>
  <cp:lastModifiedBy>行易软件 http://www.ExeSoft.cn</cp:lastModifiedBy>
  <dcterms:modified xsi:type="dcterms:W3CDTF">2013-07-14T09:45:19Z</dcterms:modified>
  <cp:revision>176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501033</vt:lpwstr>
  </property>
</Properties>
</file>