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8DC2-D886-49A9-80F9-1FB5F8E49A3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要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内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D86-876E-4319-8DAE-63E52959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275-7B3C-4C08-8703-2FDA87E3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D02-0AE5-4DA1-A4A5-DDEA7ADE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253-1154-4B56-A724-3A4F769F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407-A30E-4873-8772-A1FDBB57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F12-AF96-4255-BC48-22E72E1B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3B3-3CE2-4803-83F5-CFDC4ECB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D34-D419-402E-8251-3D9A1BD6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4AF-F449-45B1-BD22-49FD3B0A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F31-2DE3-43AC-BE92-65A2CF18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EBE-AD1E-485B-B45D-8B24871C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624-E788-4A73-BCB9-3EE3DD73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6AE2-1E91-4A32-880C-EDF9F981DE21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60" y="6937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81280" y="6904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6360" y="690480"/>
            <a:ext cx="41450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60" y="14670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146196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65840" y="14605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0" y="22399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1280" y="224460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65840" y="224460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0" y="30132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81280" y="3013200"/>
            <a:ext cx="31338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65840" y="3013200"/>
            <a:ext cx="41781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760" y="37861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81280" y="3782880"/>
            <a:ext cx="31338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5840" y="37828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760" y="45594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81280" y="454644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65840" y="454968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0" y="5332320"/>
            <a:ext cx="900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81280" y="5324400"/>
            <a:ext cx="31320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532116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0" y="6105600"/>
            <a:ext cx="900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6093000"/>
            <a:ext cx="31320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65840" y="6084720"/>
            <a:ext cx="41781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03320" y="6904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03320" y="14637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3320" y="224172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03320" y="300996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03320" y="3782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3320" y="45561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3320" y="53290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3320" y="610236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5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81280" y="0"/>
            <a:ext cx="278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15080" y="0"/>
            <a:ext cx="447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9:44:18Z</dcterms:modified>
  <cp:revision>16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