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464F-29D3-47F4-8480-2B4E3E0CD88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模板不展示选手照片，所以照片框拖到可视界面之外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060720" y="333360"/>
            <a:ext cx="2016000" cy="2951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3640" y="475920"/>
            <a:ext cx="194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476280"/>
            <a:ext cx="3674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7336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2036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565440" y="4581360"/>
            <a:ext cx="3241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0920"/>
            <a:ext cx="9144000" cy="2422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360" y="3933720"/>
            <a:ext cx="3492360" cy="865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自己文字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</cp:lastModifiedBy>
  <dcterms:modified xsi:type="dcterms:W3CDTF">2013-06-30T02:57:59Z</dcterms:modified>
  <cp:revision>52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