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F4EB1-69EE-400A-8282-2D0ED5A15D89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一般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启动时的画面过渡使用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为抽签仪式活动主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随意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信息及抽签滚动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的文本框及图片框不能删除，但可以随意拖动。此幻灯展示选手照片，照片框位于可视界面之内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32000" cy="2344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277164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32000" cy="2344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2771640" cy="2565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1341360"/>
            <a:ext cx="9144000" cy="35276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黑体"/>
              </a:rPr>
              <a:t>2010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全国导游大赛决赛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抽签仪式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826920" y="333360"/>
            <a:ext cx="2016360" cy="2951280"/>
          </a:xfrm>
          <a:prstGeom prst="rect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照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132000" y="404640"/>
            <a:ext cx="1944720" cy="10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编号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"/>
          <p:cNvSpPr/>
          <p:nvPr/>
        </p:nvSpPr>
        <p:spPr>
          <a:xfrm>
            <a:off x="4788000" y="404640"/>
            <a:ext cx="3674880" cy="10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32000" y="1700280"/>
            <a:ext cx="6516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756720" y="2349360"/>
            <a:ext cx="280836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领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3781440" y="4724280"/>
            <a:ext cx="3565440" cy="115272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4392720"/>
            <a:ext cx="9144000" cy="24210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  <a:ea typeface="黑体"/>
              </a:rPr>
              <a:t>7</a:t>
            </a:r>
            <a:r>
              <a:rPr b="1" lang="zh-CN" sz="9600" spc="-1" strike="noStrike">
                <a:solidFill>
                  <a:srgbClr val="ffffff"/>
                </a:solidFill>
                <a:latin typeface="Arial"/>
                <a:ea typeface="黑体"/>
              </a:rPr>
              <a:t>抽签号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756720" y="3789360"/>
            <a:ext cx="4572000" cy="865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8</a:t>
            </a: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自己文字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0117080" y="-782640"/>
            <a:ext cx="1692360" cy="1565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</cp:lastModifiedBy>
  <dcterms:modified xsi:type="dcterms:W3CDTF">2013-06-30T02:57:37Z</dcterms:modified>
  <cp:revision>520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26137008</vt:r8>
  </property>
  <property fmtid="{D5CDD505-2E9C-101B-9397-08002B2CF9AE}" pid="3" name="_ReviewingToolsShownOnce">
    <vt:lpwstr/>
  </property>
  <property fmtid="{D5CDD505-2E9C-101B-9397-08002B2CF9AE}" pid="4" name="_TemplateID">
    <vt:lpwstr>TC100690501033</vt:lpwstr>
  </property>
</Properties>
</file>