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Blank" id="1">
      <p:sldLst>
        <p:sld r:id="rId6"/>
      </p:sldLst>
    </p:custShow>
    <p:custShow name="ShowPlay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DF6C-C07C-4DEF-89B2-E2FE1A5AC68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其它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选手信息展示主题幻灯。内容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会被打分软件动态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最好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选手信息展示幻灯。里面的文本框及图片框不能删除，但可以随意拖动。此模板不展示评委照片，所以照片框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 ShowBlank,ShowPlayer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EC1-65A8-4BFD-8C5E-469CC54D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06E-A420-40B7-B67C-278526B3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4451-1013-432A-B47D-0BC1AC9F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E85-8C3A-4293-94CF-786E98FD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AEF2-0BF7-4A61-91E7-7F186564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E993-8CF4-45F4-9FE6-9AE2300E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44A8-1F53-491C-ACD1-67979CA0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D2A-6E75-4FB7-BD80-5D5A4778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1A6-E7AC-40AF-AF7C-E39BDCE9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D4F-0160-4D5E-928F-43D1628E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8F3-BDA0-4283-8596-5612C19F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1CBD-7F44-4654-ACF0-D514710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1128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FD55-92CF-4D56-ADA5-18BE32FFB6E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5000"/>
            <a:ext cx="91440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选手参赛信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2484360" y="836640"/>
            <a:ext cx="2016000" cy="2592360"/>
          </a:xfrm>
          <a:prstGeom prst="rect">
            <a:avLst/>
          </a:prstGeom>
          <a:solidFill>
            <a:srgbClr val="d29f2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92280"/>
            <a:ext cx="91440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号  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16280"/>
            <a:ext cx="9144000" cy="2737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参赛内容及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68000" y="3789360"/>
            <a:ext cx="3024000" cy="1341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r>
              <a:rPr b="0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620640"/>
            <a:ext cx="1548000" cy="5763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类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6-11-30T08:21:22Z</dcterms:modified>
  <cp:revision>125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