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35E4-5E63-4FE0-B3A1-C251DC0BA4D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展示选手照片，所以照片框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10C-6251-4A5C-A483-8080D805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A70B-859A-4A14-918A-D533CFBA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778-679B-4A1D-861E-7EAAB4F2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801-8C72-4B52-93E5-E988E39C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BCA-3BB1-43CB-89F4-FF6F1BC3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99B-3178-4430-86C4-FA5AA750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814-EFE6-40D8-BC44-2F4381A5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66B-7034-47B4-BF56-95F4DB77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2B8-4A05-4B5B-9C59-C01F9889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A94A-184C-4436-9B0D-7C1D2445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324-7B78-4100-B907-40FBD86B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76C-84C2-4F2D-8B96-6482FD61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CCF1-2E47-4DC4-A0F6-1991073DA8B5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692280"/>
            <a:ext cx="2089080" cy="26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692280"/>
            <a:ext cx="496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97080" cy="1008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117080" y="0"/>
            <a:ext cx="1692360" cy="620640"/>
          </a:xfrm>
          <a:prstGeom prst="foldedCorner">
            <a:avLst>
              <a:gd name="adj" fmla="val 1250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2-02T02:52:25Z</dcterms:modified>
  <cp:revision>114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