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5242-D341-4F1D-94CF-6693C9A3C3B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C843-7BA6-435B-B2A3-0E98F334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017-C333-4548-AB63-F34B3513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43B-82AC-4167-AC19-715FB6B0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BF2-BE15-42F7-8D47-0534E107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E84C-50C3-4AF2-95B1-5B581943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80D-3606-4389-8005-E49C5BA1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CCE-9F07-4289-BC51-7E8EC933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93C6-3199-4DB4-A982-64FD0244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9E8-8018-4B89-AD47-BEEFD20F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C35-2494-4460-83FE-810C534A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1783-716E-4A9D-8E72-DE85B5DF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FA4-34F2-4FE1-8882-7206E4E8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DB2C-78D2-4961-A6BD-E41D03B80FB2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2484360" y="836640"/>
            <a:ext cx="2016000" cy="259236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24000" cy="1341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620640"/>
            <a:ext cx="154800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1-30T08:21:22Z</dcterms:modified>
  <cp:revision>12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