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lay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D482-58EE-4524-BF64-3A4EF97D51A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选手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选手信息展示幻灯。里面的文本框及图片框不能删除，但可以随意拖动。此模板展示选手照片，所以照片框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85EE-0C25-448F-A13F-43527E37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0E5E-DBE3-4243-941C-0B8868FF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2333-63B7-4A95-8DAE-8AF86104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1034-F20D-4ED0-A5EA-30A4BCBC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8FE6-C907-4BF8-8ED7-EC0068A9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53C2-9FB3-48BA-A3D0-3DA6A48E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52C1-2104-43E7-B061-5145B88A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4E95-CC3B-4F27-9584-22DD9D33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88B9-E44C-475C-B138-65B9862D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1DC0-1148-4A0E-82CE-8BC67899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BF63-4F3C-4667-B372-F17DEAF2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5A0C-6564-42FC-AC41-551FF706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0023-BF9E-450E-9A3F-4C38978BB868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选手参赛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692280"/>
            <a:ext cx="2089080" cy="266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692280"/>
            <a:ext cx="496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及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8000" y="3789360"/>
            <a:ext cx="3097080" cy="1008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117080" y="0"/>
            <a:ext cx="1692360" cy="620640"/>
          </a:xfrm>
          <a:prstGeom prst="foldedCorner">
            <a:avLst>
              <a:gd name="adj" fmla="val 1250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6-11-30T08:20:26Z</dcterms:modified>
  <cp:revision>11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