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W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5795-DB08-49CC-8A07-CADA74F2D77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评委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评委信息展示幻灯。里面的文本框及图片框不能删除，但可以随意拖动。此模板不展示选手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W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FA1-2A12-4C57-8529-47EA8185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86CE-35A8-46BC-A970-40D0BBE7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76D-CBB4-40CE-8F52-A95723EA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B088-BFB9-4292-88D6-EF171F50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95A-27EC-4D4A-BA2B-F7205A23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925-7DAA-4C3D-838A-83151BED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4B6-4C2F-4C1E-950E-671454A7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088-12F8-4825-82CA-428F37E4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896-900E-4C32-8F8E-48140A84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646-1078-4714-BBB1-D4E49BD9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7CD-D53E-4947-B5A0-8F29C5FA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F0B-FED6-4554-992B-56ABEBD6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B053-5887-403F-ADAF-0B079ED68D2D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专家评委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2484360" y="765000"/>
            <a:ext cx="2160360" cy="266400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评委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3716280"/>
            <a:ext cx="698508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评委描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28T11:16:37Z</dcterms:modified>
  <cp:revision>12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