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C0D4-F816-4EA9-A681-723AF1845E8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不展示选手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C829-AD47-4A98-8569-36934335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7AD-9B9A-4828-9C2E-43BD08FB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96D-407B-404B-B0D9-2F9FCE3C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264-9600-422D-86DB-C6DA38D8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6BC-74F4-4407-90B7-7AF71E32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7FF-8785-44C1-B17E-2DA45363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5EB4-318E-491C-800B-FB4F8E80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DCD-DAD2-45E1-AD47-1DE45209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241-284D-49C1-906D-2B3CD550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37AA-DF8D-412D-A74F-4A13AF70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663-980B-48FD-B868-58024A3E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C25-17CE-4D32-97FF-68609302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DEE5-7A3A-45CB-ACA0-DE841CAD6C86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484360" y="765000"/>
            <a:ext cx="2160360" cy="266400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716280"/>
            <a:ext cx="698508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37Z</dcterms:modified>
  <cp:revision>12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