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BlankShow" id="0">
      <p:sldLst>
        <p:sld r:id="rId4"/>
      </p:sldLst>
    </p:custShow>
    <p:custShow name="ThemeShow" id="1">
      <p:sldLst>
        <p:sld r:id="rId10"/>
      </p:sldLst>
    </p:custShow>
    <p:custShow name="InfoShow" id="2">
      <p:sldLst>
        <p:sld r:id="rId5"/>
      </p:sldLst>
    </p:custShow>
    <p:custShow name="ScoreShow" id="3">
      <p:sldLst>
        <p:sld r:id="rId6"/>
      </p:sldLst>
    </p:custShow>
    <p:custShow name="ResultShow" id="4">
      <p:sldLst>
        <p:sld r:id="rId7"/>
      </p:sldLst>
    </p:custShow>
    <p:custShow name="DResultShow" id="5">
      <p:sldLst>
        <p:sld r:id="rId8"/>
      </p:sldLst>
    </p:custShow>
    <p:custShow name="ItemShow" id="6">
      <p:sldLst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122D-4E54-4C20-91E6-BFDDE0EC35E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，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过渡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通过它可以有效地防止某些情况下界面刷新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评委打分信息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最后得分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假设不展示选手照片，可以把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五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所有项目得分等信息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六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每项得分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所有文本框及图片框不能删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但可以随意拖动。可以把多余的评委照片框及打分框拖到可视界面之外。文字、颜色、形状、大小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主项名和附加名用户可以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受软件系统影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随意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确实需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联系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给以指导或自己学习一下帮助文档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动手修改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七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活动主题幻灯，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修改完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先保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然后另存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放映格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覆盖原有的文件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特殊问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和我方技术人员沟通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方可自己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976320" y="-316080"/>
            <a:ext cx="1952640" cy="2176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758000" y="5084640"/>
            <a:ext cx="277200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9856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5037120" y="898560"/>
            <a:ext cx="381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98920" y="191628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68000" y="1989000"/>
            <a:ext cx="280800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76720" y="-3195720"/>
            <a:ext cx="342108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933720"/>
            <a:ext cx="7272360" cy="1511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40720" y="-2692440"/>
            <a:ext cx="19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29672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303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e51303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98920" y="898560"/>
            <a:ext cx="1439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32360" y="907920"/>
            <a:ext cx="3603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4-0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9220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6-0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9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8-0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456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0-0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08720" y="3862440"/>
            <a:ext cx="117324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1280" y="2349360"/>
            <a:ext cx="1173240" cy="144000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2-0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3862440"/>
            <a:ext cx="1172880" cy="50328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9094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4-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094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990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6-07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990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06836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18-08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06836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11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0-09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19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2-10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274880" y="44280"/>
            <a:ext cx="100836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4-11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74880" y="1413000"/>
            <a:ext cx="100836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3545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6-12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3545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43560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28-13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56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51524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0-14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51524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96320" y="44280"/>
            <a:ext cx="1008000" cy="129564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2-15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9632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37800" y="46080"/>
            <a:ext cx="1008000" cy="1295280"/>
          </a:xfrm>
          <a:prstGeom prst="rect">
            <a:avLst/>
          </a:prstGeom>
          <a:solidFill>
            <a:srgbClr val="d29f2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1303"/>
                </a:solidFill>
                <a:latin typeface="黑体"/>
                <a:ea typeface="黑体"/>
              </a:rPr>
              <a:t>34-16</a:t>
            </a:r>
            <a:r>
              <a:rPr b="1" lang="zh-CN" sz="1400" spc="-1" strike="noStrike">
                <a:solidFill>
                  <a:srgbClr val="e51303"/>
                </a:solidFill>
                <a:latin typeface="黑体"/>
                <a:ea typeface="黑体"/>
              </a:rPr>
              <a:t>号评委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637800" y="1413000"/>
            <a:ext cx="1008000" cy="5032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6180000">
            <a:off x="-78408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 rot="6180000">
            <a:off x="-207720" y="3389040"/>
            <a:ext cx="54000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6181200">
            <a:off x="9656640" y="3279960"/>
            <a:ext cx="539640" cy="36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 rot="6180000">
            <a:off x="10160280" y="3279960"/>
            <a:ext cx="539640" cy="3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9880" y="-1971720"/>
            <a:ext cx="1266840" cy="463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5120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3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792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5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8640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7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6916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4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2596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49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08720" y="-1324080"/>
            <a:ext cx="1150920" cy="576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黑体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65880" y="-1971720"/>
            <a:ext cx="1266840" cy="4604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51</a:t>
            </a:r>
            <a:r>
              <a:rPr b="1" lang="zh-CN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附加分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  <a:ea typeface="华文新魏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20720" y="-1467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4581360"/>
            <a:ext cx="7490160" cy="86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7245360"/>
            <a:ext cx="5041800" cy="1008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516640"/>
            <a:ext cx="4932360" cy="10080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540720" y="5445000"/>
            <a:ext cx="5148360" cy="1008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540720" y="674208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数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540720" y="7893000"/>
            <a:ext cx="518508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0" y="-1251000"/>
            <a:ext cx="3130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9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612720" y="5589720"/>
            <a:ext cx="403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歌曲演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1297080" cy="12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2266920" cy="2879640"/>
          </a:xfrm>
          <a:prstGeom prst="rect">
            <a:avLst/>
          </a:prstGeom>
          <a:solidFill>
            <a:srgbClr val="0000ff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19280" y="1700280"/>
            <a:ext cx="1439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5037120" y="1628640"/>
            <a:ext cx="4106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685440" y="0"/>
            <a:ext cx="31687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685440" y="1268280"/>
            <a:ext cx="316692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81360" y="-1684440"/>
            <a:ext cx="3581280" cy="838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645080" y="2637000"/>
            <a:ext cx="38894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参赛内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836720" y="7174080"/>
            <a:ext cx="5005440" cy="10810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836720" y="8397720"/>
            <a:ext cx="504036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9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主项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685440" y="2492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685440" y="3716280"/>
            <a:ext cx="619128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7174080"/>
            <a:ext cx="575784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未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86160" y="3789360"/>
            <a:ext cx="5757840" cy="107964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56720" y="530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超时扣分提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12360" y="6318360"/>
            <a:ext cx="3097080" cy="107928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0" y="-2403360"/>
            <a:ext cx="2268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93372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16920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36360" y="-1251000"/>
            <a:ext cx="287964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83040" y="-1251000"/>
            <a:ext cx="172872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76720" y="-139536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83640" y="-1251000"/>
            <a:ext cx="2520720" cy="900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主项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2728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2728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43640" y="2421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436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51640" y="187200"/>
            <a:ext cx="1297080" cy="505080"/>
          </a:xfrm>
          <a:prstGeom prst="rect">
            <a:avLst/>
          </a:prstGeom>
          <a:noFill/>
          <a:ln w="6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14</a:t>
            </a:r>
            <a:r>
              <a:rPr b="1" lang="zh-CN" sz="2000" spc="-1" strike="noStrike">
                <a:solidFill>
                  <a:srgbClr val="ffff00"/>
                </a:solidFill>
                <a:latin typeface="Arial Black"/>
                <a:ea typeface="黑体"/>
              </a:rPr>
              <a:t>附加名</a:t>
            </a:r>
            <a:r>
              <a:rPr b="1" lang="en-US" sz="2000" spc="-1" strike="noStrike">
                <a:solidFill>
                  <a:srgbClr val="ffff00"/>
                </a:solidFill>
                <a:latin typeface="Arial Black"/>
                <a:ea typeface="黑体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451640" y="765000"/>
            <a:ext cx="1297080" cy="36036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隶书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98872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98872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29380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29380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1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597440" y="2278080"/>
            <a:ext cx="2232000" cy="174924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597440" y="4149720"/>
            <a:ext cx="2232000" cy="6476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华文新魏"/>
              </a:rPr>
              <a:t>2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5006880" y="5300640"/>
            <a:ext cx="4825800" cy="79236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主项得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28720" y="7101000"/>
            <a:ext cx="4321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6920" y="8109000"/>
            <a:ext cx="4608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7101000"/>
            <a:ext cx="453708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67640" y="8109000"/>
            <a:ext cx="540072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836360" y="7101000"/>
            <a:ext cx="504036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89080" y="8109000"/>
            <a:ext cx="53276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6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468000" y="5300640"/>
            <a:ext cx="575928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-2763720"/>
            <a:ext cx="720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3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定制算法分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-2557440" y="-3267000"/>
            <a:ext cx="5113440" cy="792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未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4000" y="5157720"/>
            <a:ext cx="5111640" cy="79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3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最后分值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隶书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589080" y="5373720"/>
            <a:ext cx="4896000" cy="1152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合计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260000" y="-2763720"/>
            <a:ext cx="2160720" cy="100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名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-3916440"/>
            <a:ext cx="1800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5084640"/>
            <a:ext cx="30211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最后得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4292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98560" y="179280"/>
            <a:ext cx="1511280" cy="1943280"/>
          </a:xfrm>
          <a:prstGeom prst="rect">
            <a:avLst/>
          </a:prstGeom>
          <a:solidFill>
            <a:srgbClr val="0000ff"/>
          </a:solidFill>
          <a:ln w="28440">
            <a:solidFill>
              <a:srgbClr val="e51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98920" y="898560"/>
            <a:ext cx="100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33800" y="906480"/>
            <a:ext cx="360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选手名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515880" y="-2475000"/>
            <a:ext cx="287964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03520" y="-2475000"/>
            <a:ext cx="1728720" cy="90036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1297080" y="-3700440"/>
            <a:ext cx="2592360" cy="900000"/>
          </a:xfrm>
          <a:prstGeom prst="rect">
            <a:avLst/>
          </a:prstGeom>
          <a:gradFill rotWithShape="0">
            <a:gsLst>
              <a:gs pos="0">
                <a:srgbClr val="e51303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04120" y="-2475000"/>
            <a:ext cx="2521080" cy="9003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参赛内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2637000"/>
            <a:ext cx="2232000" cy="1511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附加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56000" y="4581360"/>
            <a:ext cx="2232000" cy="648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隶书"/>
              </a:rPr>
              <a:t>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-7597800" y="4581360"/>
            <a:ext cx="4753080" cy="12240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附加分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-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已加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-3627360"/>
            <a:ext cx="2016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5581800" y="404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56720" y="5526000"/>
            <a:ext cx="1439640" cy="1332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1550880" cy="1629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1341360"/>
            <a:ext cx="9144000" cy="2303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2016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全国大赛</a:t>
            </a:r>
            <a:r>
              <a:rPr b="1" lang="en-US" sz="6000" spc="-1" strike="noStrike">
                <a:solidFill>
                  <a:srgbClr val="ffffff"/>
                </a:solidFill>
                <a:latin typeface="Arial Black"/>
                <a:ea typeface="黑体"/>
              </a:rPr>
              <a:t>•</a:t>
            </a:r>
            <a:r>
              <a:rPr b="1" lang="zh-CN" sz="6000" spc="-1" strike="noStrike">
                <a:solidFill>
                  <a:srgbClr val="ffffff"/>
                </a:solidFill>
                <a:latin typeface="Arial Black"/>
                <a:ea typeface="黑体"/>
              </a:rPr>
              <a:t>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22100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国家旅游局、共青团中央、全国妇联联合承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 http://www.ExeSoft.cn</dc:creator>
  <dc:description/>
  <cp:keywords/>
  <dc:language>en-US</dc:language>
  <cp:lastModifiedBy>行易软件</cp:lastModifiedBy>
  <dcterms:modified xsi:type="dcterms:W3CDTF">2016-12-02T02:46:58Z</dcterms:modified>
  <cp:revision>715</cp:revision>
  <dc:subject/>
  <dc:title>评委打分主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