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D1FE-426B-4C19-91D5-A445F87499C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所有项目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各个项目得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6364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3664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37120" y="907920"/>
            <a:ext cx="410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1124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124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1448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1448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2276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2276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2744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2744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3068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3068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3572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3572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38960" y="2421000"/>
            <a:ext cx="79236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38960" y="3500280"/>
            <a:ext cx="792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44000" y="2421000"/>
            <a:ext cx="792000" cy="1008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44000" y="3500280"/>
            <a:ext cx="792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612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612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91640" y="4428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1640" y="1413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77308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77308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852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852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9334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9334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97492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9749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5520" y="-2187720"/>
            <a:ext cx="1150920" cy="463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3340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7332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0356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1180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4168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5136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8160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1280" y="-161136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21520" y="-2187720"/>
            <a:ext cx="115092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549080" y="2421000"/>
            <a:ext cx="496872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510080"/>
            <a:ext cx="9144000" cy="863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5734080"/>
            <a:ext cx="5867280" cy="719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684360" y="7966080"/>
            <a:ext cx="313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805360"/>
            <a:ext cx="3132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6364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63640" y="404640"/>
            <a:ext cx="1297080" cy="158292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9640" y="76500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83664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2728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227808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15600" y="2276640"/>
            <a:ext cx="2232000" cy="16556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61236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544500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0" y="-4203720"/>
            <a:ext cx="280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445000"/>
            <a:ext cx="359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6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916360" y="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51520" y="-125100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7597800" y="685800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1-30T04:07:59Z</dcterms:modified>
  <cp:revision>664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