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9330-F016-4B4A-AACE-ADD3ABD98DA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Garamond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48000" y="898560"/>
            <a:ext cx="172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836640"/>
            <a:ext cx="3600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492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008000" cy="1295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3640" y="47628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7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54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8620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6728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5480" y="3141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6560" y="1773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6560" y="3141720"/>
            <a:ext cx="10098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2764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08720" y="1773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08720" y="314172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548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033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33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829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829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40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40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4512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4512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476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2476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5840" y="378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5840" y="515772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96720" y="-2619360"/>
            <a:ext cx="100836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96720" y="-1251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149440" y="-261936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149440" y="-1251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00080"/>
            <a:ext cx="1150920" cy="4633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00080"/>
            <a:ext cx="115128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43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00080"/>
            <a:ext cx="1150920" cy="460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61236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69440" y="4365720"/>
            <a:ext cx="734364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5921280"/>
            <a:ext cx="3168720" cy="603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476360" y="7101000"/>
            <a:ext cx="504036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5581800" y="191628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928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演唱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9856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33336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610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56360" y="260280"/>
            <a:ext cx="169236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4360" y="907920"/>
            <a:ext cx="1584360" cy="5050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684360" y="990900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1080" y="5373720"/>
            <a:ext cx="3598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19708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53264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2403360"/>
            <a:ext cx="36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468360" y="-427500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1T01:19:05Z</dcterms:modified>
  <cp:revision>682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