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E86B-CDA3-45BC-8677-A25AA51B594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528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636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744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378936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7800" y="242100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7800" y="3789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38880" y="242100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78936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287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287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0840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0840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8948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8948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4984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4984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092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092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12000" y="443700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12000" y="580536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49440" y="-261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49440" y="-1251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708360" y="5013360"/>
            <a:ext cx="313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1T00:39:51Z</dcterms:modified>
  <cp:revision>668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