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  <p:custShowLst>
    <p:custShow name="BlankShow" id="0">
      <p:sldLst>
        <p:sld r:id="rId4"/>
      </p:sldLst>
    </p:custShow>
    <p:custShow name="ThemeShow" id="1">
      <p:sldLst>
        <p:sld r:id="rId10"/>
      </p:sldLst>
    </p:custShow>
    <p:custShow name="InfoShow" id="2">
      <p:sldLst>
        <p:sld r:id="rId5"/>
      </p:sldLst>
    </p:custShow>
    <p:custShow name="ScoreShow" id="3">
      <p:sldLst>
        <p:sld r:id="rId6"/>
      </p:sldLst>
    </p:custShow>
    <p:custShow name="ResultShow" id="4">
      <p:sldLst>
        <p:sld r:id="rId7"/>
      </p:sldLst>
    </p:custShow>
    <p:custShow name="DResultShow" id="5">
      <p:sldLst>
        <p:sld r:id="rId8"/>
      </p:sldLst>
    </p:custShow>
    <p:custShow name="ItemShow" id="6">
      <p:sldLst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4EC87-7B4D-43BF-BCDA-CAF8B42ECA87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，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一般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启动过渡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通过它可以有效地防止某些情况下界面刷新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评委打分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最后得分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五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所有项目得分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六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每项得分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七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为活动主题幻灯，可以随意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特殊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和我方技术人员沟通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方可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976320" y="-316080"/>
            <a:ext cx="1952640" cy="2176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758000" y="5084640"/>
            <a:ext cx="277200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598560" y="898560"/>
            <a:ext cx="1439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"/>
          <p:cNvSpPr/>
          <p:nvPr/>
        </p:nvSpPr>
        <p:spPr>
          <a:xfrm>
            <a:off x="5037120" y="898560"/>
            <a:ext cx="3816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98920" y="1916280"/>
            <a:ext cx="5400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468000" y="1989000"/>
            <a:ext cx="280800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-3195720"/>
            <a:ext cx="342108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1640" y="3933720"/>
            <a:ext cx="7272360" cy="1511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740720" y="-2692440"/>
            <a:ext cx="190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129672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1303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e51303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98920" y="898560"/>
            <a:ext cx="1439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32360" y="907920"/>
            <a:ext cx="3603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26920" y="2349360"/>
            <a:ext cx="1173240" cy="1440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4-0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26920" y="3862440"/>
            <a:ext cx="117324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隶书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92200" y="2349360"/>
            <a:ext cx="1173240" cy="1440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6-0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11280" y="3862440"/>
            <a:ext cx="117324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隶书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9280" y="2349360"/>
            <a:ext cx="1173240" cy="1440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8-0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24360" y="3862440"/>
            <a:ext cx="117324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隶书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24560" y="2349360"/>
            <a:ext cx="1173240" cy="1440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0-0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508720" y="3862440"/>
            <a:ext cx="117324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隶书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091280" y="2349360"/>
            <a:ext cx="1173240" cy="1440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2-0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3862440"/>
            <a:ext cx="117288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隶书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90944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4-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90944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99052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6-07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99052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06836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8-08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06836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11452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0-09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11452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19560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2-10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19560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274880" y="44280"/>
            <a:ext cx="100836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4-1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274880" y="141300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35452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6-1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35452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43560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8-1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43560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51524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0-1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51524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59632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2-1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059632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637800" y="4608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4-1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63780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 rot="6180000">
            <a:off x="-78408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 rot="6180000">
            <a:off x="-20772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 rot="6181200">
            <a:off x="9656640" y="3279960"/>
            <a:ext cx="539640" cy="36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 rot="6180000">
            <a:off x="10160280" y="3279960"/>
            <a:ext cx="53964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612720" y="-132408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9880" y="-1971720"/>
            <a:ext cx="1266840" cy="4636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41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51200" y="-132408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08000" y="-1971720"/>
            <a:ext cx="126684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43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90760" y="-132408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7920" y="-1971720"/>
            <a:ext cx="126684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45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29240" y="-132408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86400" y="-1971720"/>
            <a:ext cx="126684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47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69160" y="-132408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25960" y="-1971720"/>
            <a:ext cx="126684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49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08720" y="-132408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65880" y="-1971720"/>
            <a:ext cx="126684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51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420720" y="-1467000"/>
            <a:ext cx="49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26920" y="4581360"/>
            <a:ext cx="7490160" cy="863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80000" y="7245360"/>
            <a:ext cx="5041800" cy="1008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32000" y="5516640"/>
            <a:ext cx="4932360" cy="10080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540720" y="5445000"/>
            <a:ext cx="5148360" cy="100836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540720" y="674208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数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540720" y="789300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0" y="-1251000"/>
            <a:ext cx="313056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59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612720" y="5589720"/>
            <a:ext cx="4033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歌曲演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1297080" cy="128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76320">
            <a:solidFill>
              <a:srgbClr val="800000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19280" y="1700280"/>
            <a:ext cx="1439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5000"/>
          </a:bodyPr>
          <a:p>
            <a:pPr marL="3258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"/>
          <p:cNvSpPr/>
          <p:nvPr/>
        </p:nvSpPr>
        <p:spPr>
          <a:xfrm>
            <a:off x="5037120" y="1628640"/>
            <a:ext cx="41068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685440" y="0"/>
            <a:ext cx="31687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685440" y="1268280"/>
            <a:ext cx="31669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81360" y="-1684440"/>
            <a:ext cx="3581280" cy="8384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4645080" y="2637000"/>
            <a:ext cx="38894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1836720" y="7174080"/>
            <a:ext cx="5005440" cy="10810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8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-1836720" y="8397720"/>
            <a:ext cx="504036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9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685440" y="2492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685440" y="3716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635280" y="7174080"/>
            <a:ext cx="57578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12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86160" y="3789360"/>
            <a:ext cx="575784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756720" y="5300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超时扣分提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612360" y="6318360"/>
            <a:ext cx="309708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0" y="-2403360"/>
            <a:ext cx="2268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6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93372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169200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598920" y="89856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933800" y="906480"/>
            <a:ext cx="3602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-36360" y="-1251000"/>
            <a:ext cx="287964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83040" y="-1251000"/>
            <a:ext cx="172872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76720" y="-139536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883640" y="-1251000"/>
            <a:ext cx="2520720" cy="900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2421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主项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27280" y="2421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27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43640" y="2421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436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451640" y="187200"/>
            <a:ext cx="1297080" cy="505080"/>
          </a:xfrm>
          <a:prstGeom prst="rect">
            <a:avLst/>
          </a:prstGeom>
          <a:noFill/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Black"/>
                <a:ea typeface="黑体"/>
              </a:rPr>
              <a:t>14</a:t>
            </a:r>
            <a:r>
              <a:rPr b="1" lang="zh-CN" sz="2000" spc="-1" strike="noStrike">
                <a:solidFill>
                  <a:srgbClr val="ffff00"/>
                </a:solidFill>
                <a:latin typeface="Arial Black"/>
                <a:ea typeface="黑体"/>
              </a:rPr>
              <a:t>附加名</a:t>
            </a:r>
            <a:r>
              <a:rPr b="1" lang="en-US" sz="2000" spc="-1" strike="noStrike">
                <a:solidFill>
                  <a:srgbClr val="ffff00"/>
                </a:solidFill>
                <a:latin typeface="Arial Black"/>
                <a:ea typeface="黑体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451640" y="765000"/>
            <a:ext cx="1297080" cy="36036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隶书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98872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98872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29380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29380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59744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5974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5006880" y="5300640"/>
            <a:ext cx="4825800" cy="79236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-828720" y="7101000"/>
            <a:ext cx="4321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66920" y="8109000"/>
            <a:ext cx="4608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724360" y="7101000"/>
            <a:ext cx="4537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667640" y="8109000"/>
            <a:ext cx="5400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836360" y="7101000"/>
            <a:ext cx="504036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3789080" y="8109000"/>
            <a:ext cx="53276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6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468000" y="5300640"/>
            <a:ext cx="5759280" cy="11527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843280" y="-2763720"/>
            <a:ext cx="720072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3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定制算法分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-2557440" y="-3267000"/>
            <a:ext cx="51134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64000" y="5157720"/>
            <a:ext cx="5111640" cy="792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3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隶书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隶书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5589080" y="5373720"/>
            <a:ext cx="4896000" cy="1152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260000" y="-2763720"/>
            <a:ext cx="216072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-3916440"/>
            <a:ext cx="18003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35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8360" y="5084640"/>
            <a:ext cx="302112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042920" y="-78264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98920" y="89856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933800" y="906480"/>
            <a:ext cx="3602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-515880" y="-2475000"/>
            <a:ext cx="2879640" cy="90036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603520" y="-2475000"/>
            <a:ext cx="1728720" cy="90036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-1297080" y="-370044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404120" y="-2475000"/>
            <a:ext cx="2521080" cy="900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19640" y="2637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56000" y="4581360"/>
            <a:ext cx="2232000" cy="64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-7597800" y="4581360"/>
            <a:ext cx="4753080" cy="1224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19280" y="-3627360"/>
            <a:ext cx="2016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1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-5581800" y="40464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956720" y="5526000"/>
            <a:ext cx="1439640" cy="13320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1550880" cy="1629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0" y="1341360"/>
            <a:ext cx="9144000" cy="2303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Black"/>
                <a:ea typeface="黑体"/>
              </a:rPr>
              <a:t>2016</a:t>
            </a:r>
            <a:r>
              <a:rPr b="1" lang="zh-CN" sz="6000" spc="-1" strike="noStrike">
                <a:solidFill>
                  <a:srgbClr val="ffffff"/>
                </a:solidFill>
                <a:latin typeface="Arial Black"/>
                <a:ea typeface="黑体"/>
              </a:rPr>
              <a:t>全国导游大赛</a:t>
            </a:r>
            <a:r>
              <a:rPr b="1" lang="en-US" sz="6000" spc="-1" strike="noStrike">
                <a:solidFill>
                  <a:srgbClr val="ffffff"/>
                </a:solidFill>
                <a:latin typeface="Arial Black"/>
                <a:ea typeface="黑体"/>
              </a:rPr>
              <a:t>•</a:t>
            </a:r>
            <a:r>
              <a:rPr b="1" lang="zh-CN" sz="6000" spc="-1" strike="noStrike">
                <a:solidFill>
                  <a:srgbClr val="ffffff"/>
                </a:solidFill>
                <a:latin typeface="Arial Black"/>
                <a:ea typeface="黑体"/>
              </a:rPr>
              <a:t>决赛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4221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国家旅游局、共青团中央、全国妇联联合承办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 http://www.ExeSoft.cn</dc:creator>
  <dc:description/>
  <cp:keywords/>
  <dc:language>en-US</dc:language>
  <cp:lastModifiedBy>行易软件</cp:lastModifiedBy>
  <dcterms:modified xsi:type="dcterms:W3CDTF">2016-11-30T04:10:13Z</dcterms:modified>
  <cp:revision>714</cp:revision>
  <dc:subject/>
  <dc:title>评委打分主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