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967A-87EB-4443-B78E-9AB4AD921E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项目总体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92360" y="898560"/>
            <a:ext cx="144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7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789360"/>
            <a:ext cx="100944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5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5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3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73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1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1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898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898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79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79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59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59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40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140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181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81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568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01736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-204300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120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907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2924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6916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8720" y="-204300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508640"/>
            <a:ext cx="73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40720" y="4221000"/>
            <a:ext cx="50421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80000" y="5516640"/>
            <a:ext cx="504000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300640"/>
            <a:ext cx="514836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45336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53264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8974080"/>
            <a:ext cx="31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66100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28360" y="-4419720"/>
            <a:ext cx="35985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8029440" y="6858000"/>
            <a:ext cx="352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8:23Z</dcterms:modified>
  <cp:revision>66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