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8EBC-F1C0-4A27-8ADD-117C29DE77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随便修改、删除、增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保证至少一个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86D-83C9-4F30-8550-47367163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21F-961E-4369-A28D-F9241024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33F-04D9-45C5-9A74-1C51B0569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062-CF94-4AD3-A9E5-833D8A8D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40E9-BAFF-4EA9-8EEC-8A14F83D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E0B7-478B-4160-960C-4DDFD9BB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0818-35AE-4D41-83B3-27DDCC83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9AEA-2550-43B7-82FB-584B502C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FC8C-9276-4CA4-9B8A-903DEE6C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A0A1-B4E0-4799-AC5E-AB8A8A1C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4D99-5DE5-418A-AD3A-DA7737F2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027-837F-4865-B816-289B86BE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5743-9A10-4B39-BDCC-F45C374F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F058-8128-4DDD-B03F-77DFAFD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5766-27CA-4AD3-86EF-307919CA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019D-B6E2-4314-9207-8BFB1558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F0AE-26DB-41A1-AE41-71AFB1B3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777-1726-4C79-A719-A0F2C45C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BCE-E3E3-47D2-8D05-B0740839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32F-B6C9-4C68-A44A-46BBD240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297-0FD0-4E0F-B286-1B4879E5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8CB-7DDC-4B5A-ABC9-31968DC5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9F1-CDF1-4998-AEEC-5D2FA9CE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479E-7A81-4E7B-9803-BC645460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D116-E104-4F21-A1E1-171DE89E05A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187280" y="2637000"/>
            <a:ext cx="7956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0960" y="-428040"/>
            <a:ext cx="3457800" cy="4496760"/>
            <a:chOff x="-30960" y="-428040"/>
            <a:chExt cx="3457800" cy="4496760"/>
          </a:xfrm>
        </p:grpSpPr>
        <p:grpSp>
          <p:nvGrpSpPr>
            <p:cNvPr id="5" name=""/>
            <p:cNvGrpSpPr/>
            <p:nvPr/>
          </p:nvGrpSpPr>
          <p:grpSpPr>
            <a:xfrm>
              <a:off x="689400" y="-30960"/>
              <a:ext cx="457560" cy="403200"/>
              <a:chOff x="689400" y="-30960"/>
              <a:chExt cx="457560" cy="403200"/>
            </a:xfrm>
          </p:grpSpPr>
          <p:sp>
            <p:nvSpPr>
              <p:cNvPr id="6" name=""/>
              <p:cNvSpPr/>
              <p:nvPr/>
            </p:nvSpPr>
            <p:spPr>
              <a:xfrm>
                <a:off x="68940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356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-30960" y="-428040"/>
              <a:ext cx="3457800" cy="4373280"/>
              <a:chOff x="-30960" y="-428040"/>
              <a:chExt cx="3457800" cy="4373280"/>
            </a:xfrm>
          </p:grpSpPr>
          <p:grpSp>
            <p:nvGrpSpPr>
              <p:cNvPr id="9" name=""/>
              <p:cNvGrpSpPr/>
              <p:nvPr/>
            </p:nvGrpSpPr>
            <p:grpSpPr>
              <a:xfrm>
                <a:off x="-30960" y="-428040"/>
                <a:ext cx="3351240" cy="3086280"/>
                <a:chOff x="-30960" y="-428040"/>
                <a:chExt cx="3351240" cy="30862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811800" y="145800"/>
                  <a:ext cx="1742040" cy="1506960"/>
                  <a:chOff x="811800" y="145800"/>
                  <a:chExt cx="1742040" cy="15069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81180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147708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" name=""/>
                <p:cNvGrpSpPr/>
                <p:nvPr/>
              </p:nvGrpSpPr>
              <p:grpSpPr>
                <a:xfrm>
                  <a:off x="-30960" y="-428040"/>
                  <a:ext cx="3351240" cy="3086280"/>
                  <a:chOff x="-30960" y="-428040"/>
                  <a:chExt cx="3351240" cy="3086280"/>
                </a:xfrm>
              </p:grpSpPr>
              <p:grpSp>
                <p:nvGrpSpPr>
                  <p:cNvPr id="14" name=""/>
                  <p:cNvGrpSpPr/>
                  <p:nvPr/>
                </p:nvGrpSpPr>
                <p:grpSpPr>
                  <a:xfrm>
                    <a:off x="1729440" y="757440"/>
                    <a:ext cx="1335600" cy="1528920"/>
                    <a:chOff x="1729440" y="757440"/>
                    <a:chExt cx="1335600" cy="1528920"/>
                  </a:xfrm>
                </p:grpSpPr>
                <p:sp>
                  <p:nvSpPr>
                    <p:cNvPr id="15" name=""/>
                    <p:cNvSpPr/>
                    <p:nvPr/>
                  </p:nvSpPr>
                  <p:spPr>
                    <a:xfrm rot="2711400">
                      <a:off x="161712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" name=""/>
                    <p:cNvSpPr/>
                    <p:nvPr/>
                  </p:nvSpPr>
                  <p:spPr>
                    <a:xfrm rot="2711400">
                      <a:off x="240876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" name=""/>
                  <p:cNvGrpSpPr/>
                  <p:nvPr/>
                </p:nvGrpSpPr>
                <p:grpSpPr>
                  <a:xfrm>
                    <a:off x="1794240" y="701640"/>
                    <a:ext cx="1498320" cy="1353960"/>
                    <a:chOff x="1794240" y="701640"/>
                    <a:chExt cx="1498320" cy="1353960"/>
                  </a:xfrm>
                </p:grpSpPr>
                <p:sp>
                  <p:nvSpPr>
                    <p:cNvPr id="18" name=""/>
                    <p:cNvSpPr/>
                    <p:nvPr/>
                  </p:nvSpPr>
                  <p:spPr>
                    <a:xfrm rot="2103600">
                      <a:off x="176580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" name=""/>
                    <p:cNvSpPr/>
                    <p:nvPr/>
                  </p:nvSpPr>
                  <p:spPr>
                    <a:xfrm rot="2103600">
                      <a:off x="265464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" name=""/>
                  <p:cNvGrpSpPr/>
                  <p:nvPr/>
                </p:nvGrpSpPr>
                <p:grpSpPr>
                  <a:xfrm>
                    <a:off x="1792440" y="640080"/>
                    <a:ext cx="1517040" cy="1070640"/>
                    <a:chOff x="1792440" y="640080"/>
                    <a:chExt cx="1517040" cy="1070640"/>
                  </a:xfrm>
                </p:grpSpPr>
                <p:sp>
                  <p:nvSpPr>
                    <p:cNvPr id="21" name=""/>
                    <p:cNvSpPr/>
                    <p:nvPr/>
                  </p:nvSpPr>
                  <p:spPr>
                    <a:xfrm rot="1582800">
                      <a:off x="1785600" y="858960"/>
                      <a:ext cx="103608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" name=""/>
                    <p:cNvSpPr/>
                    <p:nvPr/>
                  </p:nvSpPr>
                  <p:spPr>
                    <a:xfrm rot="1582800">
                      <a:off x="27079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" name=""/>
                  <p:cNvGrpSpPr/>
                  <p:nvPr/>
                </p:nvGrpSpPr>
                <p:grpSpPr>
                  <a:xfrm>
                    <a:off x="1790280" y="572760"/>
                    <a:ext cx="1530000" cy="871920"/>
                    <a:chOff x="1790280" y="572760"/>
                    <a:chExt cx="1530000" cy="871920"/>
                  </a:xfrm>
                </p:grpSpPr>
                <p:sp>
                  <p:nvSpPr>
                    <p:cNvPr id="24" name=""/>
                    <p:cNvSpPr/>
                    <p:nvPr/>
                  </p:nvSpPr>
                  <p:spPr>
                    <a:xfrm rot="1080000">
                      <a:off x="180180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" name=""/>
                    <p:cNvSpPr/>
                    <p:nvPr/>
                  </p:nvSpPr>
                  <p:spPr>
                    <a:xfrm rot="1080000">
                      <a:off x="273888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" name=""/>
                  <p:cNvGrpSpPr/>
                  <p:nvPr/>
                </p:nvGrpSpPr>
                <p:grpSpPr>
                  <a:xfrm>
                    <a:off x="1811520" y="505440"/>
                    <a:ext cx="1429200" cy="552240"/>
                    <a:chOff x="1811520" y="505440"/>
                    <a:chExt cx="1429200" cy="55224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 rot="463200">
                      <a:off x="182196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 rot="463200">
                      <a:off x="272412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" name=""/>
                  <p:cNvGrpSpPr/>
                  <p:nvPr/>
                </p:nvGrpSpPr>
                <p:grpSpPr>
                  <a:xfrm>
                    <a:off x="1835280" y="459000"/>
                    <a:ext cx="1287720" cy="251280"/>
                    <a:chOff x="1835280" y="459000"/>
                    <a:chExt cx="1287720" cy="251280"/>
                  </a:xfrm>
                </p:grpSpPr>
                <p:sp>
                  <p:nvSpPr>
                    <p:cNvPr id="30" name=""/>
                    <p:cNvSpPr/>
                    <p:nvPr/>
                  </p:nvSpPr>
                  <p:spPr>
                    <a:xfrm rot="21515400">
                      <a:off x="183672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" name=""/>
                    <p:cNvSpPr/>
                    <p:nvPr/>
                  </p:nvSpPr>
                  <p:spPr>
                    <a:xfrm rot="21515400">
                      <a:off x="267012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" name=""/>
                  <p:cNvGrpSpPr/>
                  <p:nvPr/>
                </p:nvGrpSpPr>
                <p:grpSpPr>
                  <a:xfrm>
                    <a:off x="1802880" y="175680"/>
                    <a:ext cx="1150560" cy="424440"/>
                    <a:chOff x="1802880" y="175680"/>
                    <a:chExt cx="1150560" cy="424440"/>
                  </a:xfrm>
                </p:grpSpPr>
                <p:sp>
                  <p:nvSpPr>
                    <p:cNvPr id="33" name=""/>
                    <p:cNvSpPr/>
                    <p:nvPr/>
                  </p:nvSpPr>
                  <p:spPr>
                    <a:xfrm rot="20797200">
                      <a:off x="181008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 rot="20797200">
                      <a:off x="253656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" name=""/>
                  <p:cNvGrpSpPr/>
                  <p:nvPr/>
                </p:nvGrpSpPr>
                <p:grpSpPr>
                  <a:xfrm>
                    <a:off x="250560" y="844200"/>
                    <a:ext cx="1334520" cy="1528200"/>
                    <a:chOff x="250560" y="844200"/>
                    <a:chExt cx="1334520" cy="1528200"/>
                  </a:xfrm>
                </p:grpSpPr>
                <p:sp>
                  <p:nvSpPr>
                    <p:cNvPr id="36" name=""/>
                    <p:cNvSpPr/>
                    <p:nvPr/>
                  </p:nvSpPr>
                  <p:spPr>
                    <a:xfrm flipH="1" rot="18888600">
                      <a:off x="48924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" name=""/>
                    <p:cNvSpPr/>
                    <p:nvPr/>
                  </p:nvSpPr>
                  <p:spPr>
                    <a:xfrm flipH="1" rot="18888600">
                      <a:off x="25812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" name=""/>
                  <p:cNvGrpSpPr/>
                  <p:nvPr/>
                </p:nvGrpSpPr>
                <p:grpSpPr>
                  <a:xfrm>
                    <a:off x="-3240" y="825480"/>
                    <a:ext cx="1497600" cy="1353960"/>
                    <a:chOff x="-3240" y="825480"/>
                    <a:chExt cx="1497600" cy="1353960"/>
                  </a:xfrm>
                </p:grpSpPr>
                <p:sp>
                  <p:nvSpPr>
                    <p:cNvPr id="39" name=""/>
                    <p:cNvSpPr/>
                    <p:nvPr/>
                  </p:nvSpPr>
                  <p:spPr>
                    <a:xfrm flipH="1" rot="19496400">
                      <a:off x="43992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" name=""/>
                    <p:cNvSpPr/>
                    <p:nvPr/>
                  </p:nvSpPr>
                  <p:spPr>
                    <a:xfrm flipH="1" rot="19496400">
                      <a:off x="5328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" name=""/>
                  <p:cNvGrpSpPr/>
                  <p:nvPr/>
                </p:nvGrpSpPr>
                <p:grpSpPr>
                  <a:xfrm>
                    <a:off x="-19800" y="763920"/>
                    <a:ext cx="1517400" cy="1070640"/>
                    <a:chOff x="-19800" y="763920"/>
                    <a:chExt cx="1517400" cy="107064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 flipH="1" rot="20017200">
                      <a:off x="467280" y="982800"/>
                      <a:ext cx="1036440" cy="21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 flipH="1" rot="20017200">
                      <a:off x="2520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-30960" y="696960"/>
                    <a:ext cx="1529640" cy="872640"/>
                    <a:chOff x="-30960" y="696960"/>
                    <a:chExt cx="1529640" cy="87264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 flipH="1" rot="20520000">
                      <a:off x="48564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 flipH="1" rot="20520000">
                      <a:off x="1260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" name=""/>
                  <p:cNvGrpSpPr/>
                  <p:nvPr/>
                </p:nvGrpSpPr>
                <p:grpSpPr>
                  <a:xfrm>
                    <a:off x="48960" y="629640"/>
                    <a:ext cx="1428480" cy="552960"/>
                    <a:chOff x="48960" y="629640"/>
                    <a:chExt cx="1428480" cy="5529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 flipH="1" rot="21136800">
                      <a:off x="54432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 flipH="1" rot="21136800">
                      <a:off x="68760" y="808200"/>
                      <a:ext cx="49536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" name=""/>
                  <p:cNvGrpSpPr/>
                  <p:nvPr/>
                </p:nvGrpSpPr>
                <p:grpSpPr>
                  <a:xfrm>
                    <a:off x="166320" y="583200"/>
                    <a:ext cx="1287360" cy="251280"/>
                    <a:chOff x="166320" y="583200"/>
                    <a:chExt cx="1287360" cy="251280"/>
                  </a:xfrm>
                </p:grpSpPr>
                <p:sp>
                  <p:nvSpPr>
                    <p:cNvPr id="51" name=""/>
                    <p:cNvSpPr/>
                    <p:nvPr/>
                  </p:nvSpPr>
                  <p:spPr>
                    <a:xfrm flipH="1" rot="84600">
                      <a:off x="61416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 flipH="1" rot="84600">
                      <a:off x="16884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" name=""/>
                  <p:cNvGrpSpPr/>
                  <p:nvPr/>
                </p:nvGrpSpPr>
                <p:grpSpPr>
                  <a:xfrm>
                    <a:off x="335520" y="299520"/>
                    <a:ext cx="1150560" cy="424440"/>
                    <a:chOff x="335520" y="299520"/>
                    <a:chExt cx="1150560" cy="424440"/>
                  </a:xfrm>
                </p:grpSpPr>
                <p:sp>
                  <p:nvSpPr>
                    <p:cNvPr id="54" name=""/>
                    <p:cNvSpPr/>
                    <p:nvPr/>
                  </p:nvSpPr>
                  <p:spPr>
                    <a:xfrm flipH="1" rot="802800">
                      <a:off x="74232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" name=""/>
                    <p:cNvSpPr/>
                    <p:nvPr/>
                  </p:nvSpPr>
                  <p:spPr>
                    <a:xfrm flipH="1" rot="802800">
                      <a:off x="35712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" name=""/>
                  <p:cNvGrpSpPr/>
                  <p:nvPr/>
                </p:nvGrpSpPr>
                <p:grpSpPr>
                  <a:xfrm>
                    <a:off x="394560" y="142200"/>
                    <a:ext cx="1136160" cy="579960"/>
                    <a:chOff x="394560" y="142200"/>
                    <a:chExt cx="1136160" cy="5799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 flipH="1" rot="1278000">
                      <a:off x="79272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 flipH="1" rot="1278000">
                      <a:off x="42372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" name=""/>
                  <p:cNvGrpSpPr/>
                  <p:nvPr/>
                </p:nvGrpSpPr>
                <p:grpSpPr>
                  <a:xfrm>
                    <a:off x="524160" y="-81720"/>
                    <a:ext cx="1065960" cy="802440"/>
                    <a:chOff x="524160" y="-81720"/>
                    <a:chExt cx="1065960" cy="802440"/>
                  </a:xfrm>
                </p:grpSpPr>
                <p:sp>
                  <p:nvSpPr>
                    <p:cNvPr id="60" name=""/>
                    <p:cNvSpPr/>
                    <p:nvPr/>
                  </p:nvSpPr>
                  <p:spPr>
                    <a:xfrm flipH="1" rot="2028600">
                      <a:off x="87408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 flipH="1" rot="2028600">
                      <a:off x="55620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" name=""/>
                  <p:cNvGrpSpPr/>
                  <p:nvPr/>
                </p:nvGrpSpPr>
                <p:grpSpPr>
                  <a:xfrm>
                    <a:off x="655200" y="-300960"/>
                    <a:ext cx="982080" cy="970560"/>
                    <a:chOff x="655200" y="-300960"/>
                    <a:chExt cx="982080" cy="970560"/>
                  </a:xfrm>
                </p:grpSpPr>
                <p:sp>
                  <p:nvSpPr>
                    <p:cNvPr id="63" name=""/>
                    <p:cNvSpPr/>
                    <p:nvPr/>
                  </p:nvSpPr>
                  <p:spPr>
                    <a:xfrm flipH="1" rot="2664600">
                      <a:off x="944280" y="279720"/>
                      <a:ext cx="746640" cy="15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"/>
                    <p:cNvSpPr/>
                    <p:nvPr/>
                  </p:nvSpPr>
                  <p:spPr>
                    <a:xfrm flipH="1" rot="2664600">
                      <a:off x="680400" y="-194040"/>
                      <a:ext cx="40104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936360" y="-373320"/>
                    <a:ext cx="754200" cy="1055880"/>
                    <a:chOff x="936360" y="-373320"/>
                    <a:chExt cx="754200" cy="105588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 flipH="1" rot="3474000">
                      <a:off x="10454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 flipH="1" rot="3474000">
                      <a:off x="92412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1145880" y="-428040"/>
                    <a:ext cx="573840" cy="1096200"/>
                    <a:chOff x="1145880" y="-428040"/>
                    <a:chExt cx="573840" cy="109620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 flipH="1" rot="4126800">
                      <a:off x="115308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H="1" rot="4126800">
                      <a:off x="111204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1739520" y="-19440"/>
                    <a:ext cx="1132200" cy="594720"/>
                    <a:chOff x="1739520" y="-19440"/>
                    <a:chExt cx="1132200" cy="5947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 rot="20274000">
                      <a:off x="174060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rot="20274000">
                      <a:off x="244656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" name=""/>
                  <p:cNvGrpSpPr/>
                  <p:nvPr/>
                </p:nvGrpSpPr>
                <p:grpSpPr>
                  <a:xfrm>
                    <a:off x="1674360" y="-199080"/>
                    <a:ext cx="1079280" cy="772200"/>
                    <a:chOff x="1674360" y="-199080"/>
                    <a:chExt cx="1079280" cy="772200"/>
                  </a:xfrm>
                </p:grpSpPr>
                <p:sp>
                  <p:nvSpPr>
                    <p:cNvPr id="75" name=""/>
                    <p:cNvSpPr/>
                    <p:nvPr/>
                  </p:nvSpPr>
                  <p:spPr>
                    <a:xfrm rot="19678800">
                      <a:off x="165816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rot="19678800">
                      <a:off x="232560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" name=""/>
                  <p:cNvSpPr/>
                  <p:nvPr/>
                </p:nvSpPr>
                <p:spPr>
                  <a:xfrm flipH="1" rot="4578600">
                    <a:off x="125712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rot="4578600">
                    <a:off x="129564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1572120" y="-412920"/>
                    <a:ext cx="615600" cy="1069560"/>
                    <a:chOff x="1572120" y="-412920"/>
                    <a:chExt cx="615600" cy="106956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 rot="17742000">
                      <a:off x="141084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 rot="17742000">
                      <a:off x="1823400" y="-281880"/>
                      <a:ext cx="399240" cy="17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1550520" y="-336960"/>
                    <a:ext cx="979200" cy="996480"/>
                    <a:chOff x="1550520" y="-336960"/>
                    <a:chExt cx="979200" cy="9964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 rot="18822600">
                      <a:off x="148356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rot="18822600">
                      <a:off x="207144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" name=""/>
                  <p:cNvGrpSpPr/>
                  <p:nvPr/>
                </p:nvGrpSpPr>
                <p:grpSpPr>
                  <a:xfrm>
                    <a:off x="1638360" y="-405360"/>
                    <a:ext cx="217440" cy="1018080"/>
                    <a:chOff x="1638360" y="-405360"/>
                    <a:chExt cx="217440" cy="101808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 rot="16696200">
                      <a:off x="137736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 rot="16696200">
                      <a:off x="161064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" name=""/>
                  <p:cNvGrpSpPr/>
                  <p:nvPr/>
                </p:nvGrpSpPr>
                <p:grpSpPr>
                  <a:xfrm>
                    <a:off x="458280" y="873720"/>
                    <a:ext cx="1142280" cy="1682280"/>
                    <a:chOff x="458280" y="873720"/>
                    <a:chExt cx="1142280" cy="168228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 flipH="1" rot="18336000">
                      <a:off x="56880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H="1" rot="18336000">
                      <a:off x="44100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821520" y="938880"/>
                    <a:ext cx="766080" cy="1688040"/>
                    <a:chOff x="821520" y="938880"/>
                    <a:chExt cx="766080" cy="168804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 flipH="1" rot="17543400">
                      <a:off x="72972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H="1" rot="17543400">
                      <a:off x="77076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175760" y="964800"/>
                    <a:ext cx="449640" cy="1656720"/>
                    <a:chOff x="1175760" y="964800"/>
                    <a:chExt cx="449640" cy="165672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flipH="1" rot="16870800">
                      <a:off x="90288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16870800">
                      <a:off x="107280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1697040" y="847440"/>
                    <a:ext cx="1188000" cy="1652760"/>
                    <a:chOff x="1697040" y="847440"/>
                    <a:chExt cx="1188000" cy="1652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 rot="3144000">
                      <a:off x="153540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 rot="3144000">
                      <a:off x="224748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"/>
                  <p:cNvGrpSpPr/>
                  <p:nvPr/>
                </p:nvGrpSpPr>
                <p:grpSpPr>
                  <a:xfrm>
                    <a:off x="1697760" y="907560"/>
                    <a:ext cx="911520" cy="1704600"/>
                    <a:chOff x="1697760" y="907560"/>
                    <a:chExt cx="911520" cy="1704600"/>
                  </a:xfrm>
                </p:grpSpPr>
                <p:sp>
                  <p:nvSpPr>
                    <p:cNvPr id="101" name=""/>
                    <p:cNvSpPr/>
                    <p:nvPr/>
                  </p:nvSpPr>
                  <p:spPr>
                    <a:xfrm rot="3745200">
                      <a:off x="146628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rot="3745200">
                      <a:off x="203184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675800" y="970920"/>
                    <a:ext cx="633960" cy="1687320"/>
                    <a:chOff x="1675800" y="970920"/>
                    <a:chExt cx="633960" cy="16873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4286400">
                      <a:off x="136260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4286400">
                      <a:off x="180360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665000" y="1042560"/>
                    <a:ext cx="354960" cy="1573920"/>
                    <a:chOff x="1665000" y="1042560"/>
                    <a:chExt cx="354960" cy="157392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 rot="4898400">
                      <a:off x="129708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rot="4898400">
                      <a:off x="158868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" name=""/>
                  <p:cNvGrpSpPr/>
                  <p:nvPr/>
                </p:nvGrpSpPr>
                <p:grpSpPr>
                  <a:xfrm>
                    <a:off x="1400760" y="1068120"/>
                    <a:ext cx="332640" cy="1541520"/>
                    <a:chOff x="1400760" y="1068120"/>
                    <a:chExt cx="332640" cy="1541520"/>
                  </a:xfrm>
                </p:grpSpPr>
                <p:sp>
                  <p:nvSpPr>
                    <p:cNvPr id="110" name=""/>
                    <p:cNvSpPr/>
                    <p:nvPr/>
                  </p:nvSpPr>
                  <p:spPr>
                    <a:xfrm rot="5755200">
                      <a:off x="112212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 rot="5755200">
                      <a:off x="124596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56520" y="-185040"/>
                <a:ext cx="3370320" cy="4130280"/>
                <a:chOff x="56520" y="-185040"/>
                <a:chExt cx="3370320" cy="413028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56520" y="-185040"/>
                  <a:ext cx="3370320" cy="4130280"/>
                  <a:chOff x="56520" y="-185040"/>
                  <a:chExt cx="3370320" cy="413028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flipV="1">
                    <a:off x="1625400" y="-85320"/>
                    <a:ext cx="180144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24372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161532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5652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>
                    <a:off x="20880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53900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flipH="1">
                    <a:off x="108684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rot="20253000">
                  <a:off x="196992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137520" y="-168120"/>
              <a:ext cx="3102480" cy="4236840"/>
              <a:chOff x="137520" y="-168120"/>
              <a:chExt cx="3102480" cy="423684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116676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41520" y="840240"/>
                <a:ext cx="253224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675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13716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5276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62324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252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9660800">
                <a:off x="15321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03480" y="1350360"/>
                <a:ext cx="64764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0840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63916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32704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360520" y="-168120"/>
                <a:ext cx="39564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1347000">
                <a:off x="102744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976360" y="-428040"/>
            <a:ext cx="3457080" cy="4496760"/>
            <a:chOff x="5976360" y="-428040"/>
            <a:chExt cx="3457080" cy="4496760"/>
          </a:xfrm>
        </p:grpSpPr>
        <p:grpSp>
          <p:nvGrpSpPr>
            <p:cNvPr id="138" name=""/>
            <p:cNvGrpSpPr/>
            <p:nvPr/>
          </p:nvGrpSpPr>
          <p:grpSpPr>
            <a:xfrm>
              <a:off x="6696720" y="-30960"/>
              <a:ext cx="457560" cy="403200"/>
              <a:chOff x="6696720" y="-30960"/>
              <a:chExt cx="457560" cy="403200"/>
            </a:xfrm>
          </p:grpSpPr>
          <p:sp>
            <p:nvSpPr>
              <p:cNvPr id="139" name=""/>
              <p:cNvSpPr/>
              <p:nvPr/>
            </p:nvSpPr>
            <p:spPr>
              <a:xfrm>
                <a:off x="6696720" y="-30960"/>
                <a:ext cx="457560" cy="403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860880" y="145440"/>
                <a:ext cx="110160" cy="756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976360" y="-428040"/>
              <a:ext cx="3457080" cy="4373280"/>
              <a:chOff x="5976360" y="-428040"/>
              <a:chExt cx="3457080" cy="437328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5976360" y="-428040"/>
                <a:ext cx="3351240" cy="3086280"/>
                <a:chOff x="5976360" y="-428040"/>
                <a:chExt cx="3351240" cy="308628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6819120" y="145800"/>
                  <a:ext cx="1742040" cy="1506960"/>
                  <a:chOff x="6819120" y="145800"/>
                  <a:chExt cx="1742040" cy="150696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6819120" y="145800"/>
                    <a:ext cx="1742040" cy="1506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484400" y="696960"/>
                    <a:ext cx="345240" cy="28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976360" y="-428040"/>
                  <a:ext cx="3351240" cy="3086280"/>
                  <a:chOff x="5976360" y="-428040"/>
                  <a:chExt cx="3351240" cy="308628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7736760" y="757440"/>
                    <a:ext cx="1335600" cy="1528920"/>
                    <a:chOff x="7736760" y="757440"/>
                    <a:chExt cx="1335600" cy="152892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 rot="2711400">
                      <a:off x="7624440" y="11581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 rot="2711400">
                      <a:off x="8416080" y="180720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7801200" y="701640"/>
                    <a:ext cx="1498320" cy="1353960"/>
                    <a:chOff x="7801200" y="701640"/>
                    <a:chExt cx="1498320" cy="1353960"/>
                  </a:xfrm>
                </p:grpSpPr>
                <p:sp>
                  <p:nvSpPr>
                    <p:cNvPr id="151" name=""/>
                    <p:cNvSpPr/>
                    <p:nvPr/>
                  </p:nvSpPr>
                  <p:spPr>
                    <a:xfrm rot="2103600">
                      <a:off x="7772760" y="99036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 rot="2103600">
                      <a:off x="8661600" y="1541520"/>
                      <a:ext cx="581040" cy="3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7799400" y="640440"/>
                    <a:ext cx="1516680" cy="1070280"/>
                    <a:chOff x="7799400" y="640440"/>
                    <a:chExt cx="1516680" cy="107028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1582800">
                      <a:off x="7792560" y="859320"/>
                      <a:ext cx="103572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1582800">
                      <a:off x="8714520" y="127116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797600" y="572760"/>
                    <a:ext cx="1530000" cy="871920"/>
                    <a:chOff x="7797600" y="572760"/>
                    <a:chExt cx="1530000" cy="8719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rot="1080000">
                      <a:off x="7809120" y="721440"/>
                      <a:ext cx="1000800" cy="23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1080000">
                      <a:off x="8746200" y="1002240"/>
                      <a:ext cx="53748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7818480" y="505440"/>
                    <a:ext cx="1429200" cy="552240"/>
                    <a:chOff x="7818480" y="505440"/>
                    <a:chExt cx="1429200" cy="5522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rot="463200">
                      <a:off x="7828920" y="566280"/>
                      <a:ext cx="921960" cy="21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 rot="463200">
                      <a:off x="8731080" y="683640"/>
                      <a:ext cx="495360" cy="34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7842600" y="459000"/>
                    <a:ext cx="1287720" cy="251280"/>
                    <a:chOff x="7842600" y="459000"/>
                    <a:chExt cx="1287720" cy="25128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 rot="21515400">
                      <a:off x="7844040" y="478440"/>
                      <a:ext cx="837720" cy="15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 rot="21515400">
                      <a:off x="8677440" y="4644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7809840" y="175680"/>
                    <a:ext cx="1150560" cy="424440"/>
                    <a:chOff x="7809840" y="175680"/>
                    <a:chExt cx="1150560" cy="42444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 rot="20797200">
                      <a:off x="7817040" y="36612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 rot="20797200">
                      <a:off x="8543520" y="2181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6257880" y="844200"/>
                    <a:ext cx="1334160" cy="1528200"/>
                    <a:chOff x="6257880" y="844200"/>
                    <a:chExt cx="1334160" cy="1528200"/>
                  </a:xfrm>
                </p:grpSpPr>
                <p:sp>
                  <p:nvSpPr>
                    <p:cNvPr id="169" name=""/>
                    <p:cNvSpPr/>
                    <p:nvPr/>
                  </p:nvSpPr>
                  <p:spPr>
                    <a:xfrm flipH="1" rot="18888600">
                      <a:off x="6496200" y="124524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 flipH="1" rot="18888600">
                      <a:off x="6265440" y="189324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6004080" y="825480"/>
                    <a:ext cx="1497600" cy="1353960"/>
                    <a:chOff x="6004080" y="825480"/>
                    <a:chExt cx="1497600" cy="135396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 flipH="1" rot="19496400">
                      <a:off x="6447240" y="1114200"/>
                      <a:ext cx="1082520" cy="24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19496400">
                      <a:off x="6060600" y="1665360"/>
                      <a:ext cx="58104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5987520" y="763920"/>
                    <a:ext cx="1516320" cy="1070640"/>
                    <a:chOff x="5987520" y="763920"/>
                    <a:chExt cx="1516320" cy="10706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 flipH="1" rot="20017200">
                      <a:off x="6473880" y="982800"/>
                      <a:ext cx="1036080" cy="21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 flipH="1" rot="20017200">
                      <a:off x="6032520" y="1394640"/>
                      <a:ext cx="5562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5976360" y="696960"/>
                    <a:ext cx="1529640" cy="872640"/>
                    <a:chOff x="5976360" y="696960"/>
                    <a:chExt cx="1529640" cy="87264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rot="20520000">
                      <a:off x="6492960" y="845640"/>
                      <a:ext cx="100080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 flipH="1" rot="20520000">
                      <a:off x="6019920" y="1126800"/>
                      <a:ext cx="53748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"/>
                  <p:cNvGrpSpPr/>
                  <p:nvPr/>
                </p:nvGrpSpPr>
                <p:grpSpPr>
                  <a:xfrm>
                    <a:off x="6055920" y="629640"/>
                    <a:ext cx="1428840" cy="552960"/>
                    <a:chOff x="6055920" y="629640"/>
                    <a:chExt cx="1428840" cy="552960"/>
                  </a:xfrm>
                </p:grpSpPr>
                <p:sp>
                  <p:nvSpPr>
                    <p:cNvPr id="181" name=""/>
                    <p:cNvSpPr/>
                    <p:nvPr/>
                  </p:nvSpPr>
                  <p:spPr>
                    <a:xfrm flipH="1" rot="21136800">
                      <a:off x="6551640" y="690480"/>
                      <a:ext cx="921960" cy="21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H="1" rot="21136800">
                      <a:off x="6076080" y="808200"/>
                      <a:ext cx="49500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6173640" y="583200"/>
                    <a:ext cx="1287360" cy="251280"/>
                    <a:chOff x="6173640" y="583200"/>
                    <a:chExt cx="1287360" cy="25128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rot="84600">
                      <a:off x="6621480" y="603000"/>
                      <a:ext cx="837720" cy="15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 rot="84600">
                      <a:off x="6176160" y="588600"/>
                      <a:ext cx="450000" cy="24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6342840" y="299520"/>
                    <a:ext cx="1150560" cy="424440"/>
                    <a:chOff x="6342840" y="299520"/>
                    <a:chExt cx="1150560" cy="4244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flipH="1" rot="802800">
                      <a:off x="6749640" y="48996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flipH="1" rot="802800">
                      <a:off x="6364440" y="34200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6401880" y="142200"/>
                    <a:ext cx="1136160" cy="579960"/>
                    <a:chOff x="6401880" y="142200"/>
                    <a:chExt cx="1136160" cy="5799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flipH="1" rot="1278000">
                      <a:off x="6800040" y="4431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flipH="1" rot="1278000">
                      <a:off x="6431040" y="2055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6531480" y="-81720"/>
                    <a:ext cx="1065960" cy="802440"/>
                    <a:chOff x="6531480" y="-81720"/>
                    <a:chExt cx="1065960" cy="80244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flipH="1" rot="2028600">
                      <a:off x="6881400" y="377640"/>
                      <a:ext cx="73584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28600">
                      <a:off x="6563520" y="7920"/>
                      <a:ext cx="39456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6662160" y="-300960"/>
                    <a:ext cx="981360" cy="970560"/>
                    <a:chOff x="6662160" y="-300960"/>
                    <a:chExt cx="981360" cy="97056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flipH="1" rot="2664600">
                      <a:off x="6950880" y="279360"/>
                      <a:ext cx="7462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664600">
                      <a:off x="6687000" y="-194400"/>
                      <a:ext cx="400680" cy="23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6943320" y="-373320"/>
                    <a:ext cx="753840" cy="1055880"/>
                    <a:chOff x="6943320" y="-373320"/>
                    <a:chExt cx="753840" cy="1055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flipH="1" rot="3474000">
                      <a:off x="7052040" y="258120"/>
                      <a:ext cx="770760" cy="12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flipH="1" rot="3474000">
                      <a:off x="6931080" y="-245160"/>
                      <a:ext cx="414000" cy="20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7152840" y="-428040"/>
                    <a:ext cx="573840" cy="1096200"/>
                    <a:chOff x="7152840" y="-428040"/>
                    <a:chExt cx="573840" cy="109620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flipH="1" rot="4126800">
                      <a:off x="7160040" y="234000"/>
                      <a:ext cx="743400" cy="12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flipH="1" rot="4126800">
                      <a:off x="7119000" y="-306000"/>
                      <a:ext cx="39924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7746840" y="-19440"/>
                    <a:ext cx="1132200" cy="594720"/>
                    <a:chOff x="7746840" y="-19440"/>
                    <a:chExt cx="1132200" cy="5947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274000">
                      <a:off x="7747920" y="29196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274000">
                      <a:off x="8453880" y="4608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7681320" y="-199080"/>
                    <a:ext cx="1079280" cy="772200"/>
                    <a:chOff x="7681320" y="-199080"/>
                    <a:chExt cx="1079280" cy="7722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rot="19678800">
                      <a:off x="7665120" y="239040"/>
                      <a:ext cx="7354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19678800">
                      <a:off x="8332560" y="-111960"/>
                      <a:ext cx="39492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flipH="1" rot="4578600">
                    <a:off x="7264440" y="267480"/>
                    <a:ext cx="719640" cy="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flipH="1" rot="4578600">
                    <a:off x="7302600" y="-254520"/>
                    <a:ext cx="3866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7579080" y="-412920"/>
                    <a:ext cx="615240" cy="1069560"/>
                    <a:chOff x="7579080" y="-412920"/>
                    <a:chExt cx="615240" cy="10695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 rot="17742000">
                      <a:off x="7417800" y="242640"/>
                      <a:ext cx="74412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rot="17742000">
                      <a:off x="7830360" y="-281880"/>
                      <a:ext cx="399240" cy="17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7557480" y="-336960"/>
                    <a:ext cx="979200" cy="996480"/>
                    <a:chOff x="7557480" y="-336960"/>
                    <a:chExt cx="979200" cy="99648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 rot="18822600">
                      <a:off x="7490520" y="230760"/>
                      <a:ext cx="809280" cy="16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rot="18822600">
                      <a:off x="8078400" y="-218880"/>
                      <a:ext cx="43416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7645320" y="-405360"/>
                    <a:ext cx="217440" cy="1018080"/>
                    <a:chOff x="7645320" y="-405360"/>
                    <a:chExt cx="217440" cy="101808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 rot="16696200">
                      <a:off x="7384320" y="252720"/>
                      <a:ext cx="668160" cy="5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tIns="5400" bIns="54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 rot="16696200">
                      <a:off x="7617600" y="-262080"/>
                      <a:ext cx="358560" cy="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6465600" y="873720"/>
                    <a:ext cx="1142280" cy="1682280"/>
                    <a:chOff x="6465600" y="873720"/>
                    <a:chExt cx="1142280" cy="168228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 flipH="1" rot="18336000">
                      <a:off x="6576120" y="1325520"/>
                      <a:ext cx="120780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H="1" rot="18336000">
                      <a:off x="6448320" y="2061360"/>
                      <a:ext cx="64800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828480" y="938880"/>
                    <a:ext cx="766080" cy="1688040"/>
                    <a:chOff x="6828480" y="938880"/>
                    <a:chExt cx="766080" cy="1688040"/>
                  </a:xfrm>
                </p:grpSpPr>
                <p:sp>
                  <p:nvSpPr>
                    <p:cNvPr id="225" name=""/>
                    <p:cNvSpPr/>
                    <p:nvPr/>
                  </p:nvSpPr>
                  <p:spPr>
                    <a:xfrm flipH="1" rot="17543400">
                      <a:off x="6736680" y="1397880"/>
                      <a:ext cx="111744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 flipH="1" rot="17543400">
                      <a:off x="6777720" y="2147760"/>
                      <a:ext cx="59904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7182720" y="964800"/>
                    <a:ext cx="449640" cy="1656720"/>
                    <a:chOff x="7182720" y="964800"/>
                    <a:chExt cx="449640" cy="165672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flipH="1" rot="16870800">
                      <a:off x="6909840" y="1423080"/>
                      <a:ext cx="107208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flipH="1" rot="16870800">
                      <a:off x="7079760" y="2181600"/>
                      <a:ext cx="575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7704000" y="847440"/>
                    <a:ext cx="1188000" cy="1652760"/>
                    <a:chOff x="7704000" y="847440"/>
                    <a:chExt cx="1188000" cy="16527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3144000">
                      <a:off x="7542360" y="1289520"/>
                      <a:ext cx="1208160" cy="18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3144000">
                      <a:off x="8254440" y="2007720"/>
                      <a:ext cx="648000" cy="29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7704720" y="907560"/>
                    <a:ext cx="911520" cy="1704600"/>
                    <a:chOff x="7704720" y="907560"/>
                    <a:chExt cx="911520" cy="1704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3745200">
                      <a:off x="7473240" y="1371960"/>
                      <a:ext cx="1155960" cy="17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3745200">
                      <a:off x="8038800" y="2132640"/>
                      <a:ext cx="619920" cy="27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7683120" y="970920"/>
                    <a:ext cx="633960" cy="1687320"/>
                    <a:chOff x="7683120" y="970920"/>
                    <a:chExt cx="633960" cy="16873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4286400">
                      <a:off x="7369920" y="1452600"/>
                      <a:ext cx="11217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4286400">
                      <a:off x="7810920" y="2220840"/>
                      <a:ext cx="60192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7672320" y="1042560"/>
                    <a:ext cx="354960" cy="1573920"/>
                    <a:chOff x="7672320" y="1042560"/>
                    <a:chExt cx="354960" cy="157392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898400">
                      <a:off x="7304400" y="1489320"/>
                      <a:ext cx="1030680" cy="14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898400">
                      <a:off x="7596000" y="2210400"/>
                      <a:ext cx="553680" cy="23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7407720" y="1068120"/>
                    <a:ext cx="332640" cy="1541520"/>
                    <a:chOff x="7407720" y="1068120"/>
                    <a:chExt cx="332640" cy="154152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5755200">
                      <a:off x="7129080" y="1518480"/>
                      <a:ext cx="100692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5755200">
                      <a:off x="7252920" y="2243880"/>
                      <a:ext cx="540000" cy="17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6063840" y="-185040"/>
                <a:ext cx="3369600" cy="4130280"/>
                <a:chOff x="6063840" y="-185040"/>
                <a:chExt cx="3369600" cy="413028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6063840" y="-185040"/>
                  <a:ext cx="3369600" cy="4130280"/>
                  <a:chOff x="6063840" y="-185040"/>
                  <a:chExt cx="3369600" cy="41302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V="1">
                    <a:off x="7632360" y="-85320"/>
                    <a:ext cx="1801080" cy="286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6251040" y="717480"/>
                    <a:ext cx="170496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622640" y="423000"/>
                    <a:ext cx="105552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6063840" y="165240"/>
                    <a:ext cx="1777680" cy="32277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6216120" y="-185040"/>
                    <a:ext cx="1495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7546320" y="493200"/>
                    <a:ext cx="631440" cy="3228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flipH="1">
                    <a:off x="7093800" y="-97200"/>
                    <a:ext cx="249120" cy="1067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rot="20253000">
                  <a:off x="7977240" y="666360"/>
                  <a:ext cx="263520" cy="5864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6144480" y="-168120"/>
              <a:ext cx="3102480" cy="4236840"/>
              <a:chOff x="6144480" y="-168120"/>
              <a:chExt cx="3102480" cy="4236840"/>
            </a:xfrm>
          </p:grpSpPr>
          <p:sp>
            <p:nvSpPr>
              <p:cNvPr id="256" name=""/>
              <p:cNvSpPr/>
              <p:nvPr/>
            </p:nvSpPr>
            <p:spPr>
              <a:xfrm flipH="1">
                <a:off x="7173720" y="126504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647760" y="840240"/>
                <a:ext cx="25318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774120" y="632520"/>
                <a:ext cx="11077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44120" y="414000"/>
                <a:ext cx="17773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59720" y="649080"/>
                <a:ext cx="28152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30200" y="641160"/>
                <a:ext cx="742680" cy="322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989480" y="1442160"/>
                <a:ext cx="289440" cy="103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 rot="19660800">
                <a:off x="7538760" y="1101960"/>
                <a:ext cx="26352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311160" y="1350360"/>
                <a:ext cx="6472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615360" y="221400"/>
                <a:ext cx="415080" cy="106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46120" y="1193400"/>
                <a:ext cx="600840" cy="112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34000" y="625680"/>
                <a:ext cx="905760" cy="747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367120" y="-168120"/>
                <a:ext cx="395280" cy="100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rot="1347000">
                <a:off x="7034400" y="650520"/>
                <a:ext cx="263880" cy="586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1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3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4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5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6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6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7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8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3411-364C-42F2-BFFF-439B4B21D06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SzPct val="1028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陕西旅游局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/>
          <p:cNvSpPr/>
          <p:nvPr/>
        </p:nvSpPr>
        <p:spPr>
          <a:xfrm rot="19045800">
            <a:off x="-653760" y="439200"/>
            <a:ext cx="2800440" cy="731880"/>
          </a:xfrm>
          <a:prstGeom prst="rect">
            <a:avLst/>
          </a:prstGeom>
          <a:gradFill rotWithShape="0">
            <a:gsLst>
              <a:gs pos="0">
                <a:srgbClr val="750e03"/>
              </a:gs>
              <a:gs pos="50000">
                <a:srgbClr val="fe1f08"/>
              </a:gs>
              <a:gs pos="100000">
                <a:srgbClr val="750e03"/>
              </a:gs>
            </a:gsLst>
            <a:lin ang="7956000"/>
          </a:gra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颁奖嘉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2"/>
          <a:stretch/>
        </p:blipFill>
        <p:spPr>
          <a:xfrm>
            <a:off x="-852480" y="685800"/>
            <a:ext cx="12715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行易软件 http://www.ExeSoft.cn</dc:creator>
  <dc:description/>
  <dc:language>en-US</dc:language>
  <cp:lastModifiedBy>行易软件 http://www.ExeSoft.cn</cp:lastModifiedBy>
  <dcterms:modified xsi:type="dcterms:W3CDTF">2013-06-22T10:12:14Z</dcterms:modified>
  <cp:revision>19</cp:revision>
  <dc:subject/>
  <dc:title>自定义文件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