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4BA8-EE94-4541-851B-8503131407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FC4C-EF07-45A7-B8A4-75C883E4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249-D56E-4FBD-85E3-1532967B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E7E-5787-4232-BB57-E3C1AFB4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16E-221F-44F0-A62B-CF6DF690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92E1-F895-46F6-B4FD-0AD08025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20F4-DD36-4057-A788-1E5A2D8B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139A-FB48-4942-AE7D-3C7AF27B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1FD7-D290-410D-BD23-0AE9BDC3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768A-21F6-4D5E-923D-11DD64E2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C5EC-BD10-49E7-AA9A-F29D78D2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7E1A-A4D3-4993-9FDB-C0C10BA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F9A-1598-47FE-B100-B00D47CC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5E5F-F321-4F11-A043-9A2DC7C1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6854-8F40-4B31-88CE-C1113487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64ED-F404-4F14-A68F-BF17BD1D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25BA-9E55-44BE-A8C0-BBF80887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38E4-AA4C-44FC-ACE2-395257F4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AE7-BF24-4467-8C7D-5727FC97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4BE-6535-4355-BD04-E02E2682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DD1-DB82-49CB-8F90-47E52E0B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776-DFC0-4BEF-9E7C-CBBF1EA7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80B-7D1C-40D1-9A24-0472F059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9A9-AAED-477B-AAA5-A4DF066A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202A-0E0F-42BD-A176-85FAC96D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10E5-1ADB-4860-A86F-925F3F553B21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579800">
            <a:off x="7092720" y="549360"/>
            <a:ext cx="1817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颁奖典礼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1480" y="393480"/>
            <a:ext cx="1836360" cy="2036880"/>
            <a:chOff x="321480" y="393480"/>
            <a:chExt cx="1836360" cy="2036880"/>
          </a:xfrm>
        </p:grpSpPr>
        <p:grpSp>
          <p:nvGrpSpPr>
            <p:cNvPr id="141" name=""/>
            <p:cNvGrpSpPr/>
            <p:nvPr/>
          </p:nvGrpSpPr>
          <p:grpSpPr>
            <a:xfrm>
              <a:off x="1375920" y="1717560"/>
              <a:ext cx="586080" cy="572040"/>
              <a:chOff x="1375920" y="1717560"/>
              <a:chExt cx="586080" cy="572040"/>
            </a:xfrm>
          </p:grpSpPr>
          <p:sp>
            <p:nvSpPr>
              <p:cNvPr id="142" name=""/>
              <p:cNvSpPr/>
              <p:nvPr/>
            </p:nvSpPr>
            <p:spPr>
              <a:xfrm rot="20306400">
                <a:off x="1439280" y="17866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0306400">
                <a:off x="1609560" y="1978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251000" y="1113480"/>
              <a:ext cx="586080" cy="572040"/>
              <a:chOff x="1251000" y="1113480"/>
              <a:chExt cx="586080" cy="572040"/>
            </a:xfrm>
          </p:grpSpPr>
          <p:sp>
            <p:nvSpPr>
              <p:cNvPr id="145" name=""/>
              <p:cNvSpPr/>
              <p:nvPr/>
            </p:nvSpPr>
            <p:spPr>
              <a:xfrm rot="20306400">
                <a:off x="1314360" y="11826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20306400">
                <a:off x="1484640" y="137412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21480" y="587880"/>
              <a:ext cx="586080" cy="572040"/>
              <a:chOff x="321480" y="587880"/>
              <a:chExt cx="586080" cy="572040"/>
            </a:xfrm>
          </p:grpSpPr>
          <p:sp>
            <p:nvSpPr>
              <p:cNvPr id="148" name=""/>
              <p:cNvSpPr/>
              <p:nvPr/>
            </p:nvSpPr>
            <p:spPr>
              <a:xfrm rot="20306400">
                <a:off x="384840" y="65700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20306400">
                <a:off x="555120" y="84888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15080" y="393480"/>
              <a:ext cx="1742760" cy="2036880"/>
              <a:chOff x="415080" y="393480"/>
              <a:chExt cx="1742760" cy="20368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687960" y="609840"/>
                <a:ext cx="870120" cy="842760"/>
                <a:chOff x="687960" y="609840"/>
                <a:chExt cx="870120" cy="842760"/>
              </a:xfrm>
            </p:grpSpPr>
            <p:sp>
              <p:nvSpPr>
                <p:cNvPr id="152" name=""/>
                <p:cNvSpPr/>
                <p:nvPr/>
              </p:nvSpPr>
              <p:spPr>
                <a:xfrm rot="20306400">
                  <a:off x="780480" y="7131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0306400">
                  <a:off x="1033200" y="95256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16240" y="451080"/>
                <a:ext cx="1326600" cy="1370520"/>
                <a:chOff x="516240" y="451080"/>
                <a:chExt cx="1326600" cy="13705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1126440" y="955440"/>
                  <a:ext cx="690480" cy="443880"/>
                  <a:chOff x="1126440" y="955440"/>
                  <a:chExt cx="690480" cy="443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1417800">
                    <a:off x="1119600" y="105408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417800">
                    <a:off x="1532520" y="123480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1165680" y="924840"/>
                  <a:ext cx="677160" cy="354600"/>
                  <a:chOff x="1165680" y="924840"/>
                  <a:chExt cx="677160" cy="3546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810000">
                    <a:off x="1171440" y="9727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810000">
                    <a:off x="1599120" y="109404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1153440" y="905040"/>
                  <a:ext cx="642960" cy="227880"/>
                  <a:chOff x="1153440" y="905040"/>
                  <a:chExt cx="642960" cy="22788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89200">
                    <a:off x="1156320" y="92196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289200">
                    <a:off x="1572480" y="9831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1140840" y="855720"/>
                  <a:ext cx="621360" cy="180360"/>
                  <a:chOff x="1140840" y="855720"/>
                  <a:chExt cx="621360" cy="180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21386400">
                    <a:off x="1143360" y="86760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21386400">
                    <a:off x="1546200" y="87408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1120680" y="734040"/>
                  <a:ext cx="577440" cy="210240"/>
                  <a:chOff x="1120680" y="734040"/>
                  <a:chExt cx="577440" cy="2102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20770200">
                    <a:off x="1126440" y="80964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20770200">
                    <a:off x="1489320" y="754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1115280" y="651960"/>
                  <a:ext cx="502560" cy="254880"/>
                  <a:chOff x="1115280" y="651960"/>
                  <a:chExt cx="502560" cy="25488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21800">
                    <a:off x="1114560" y="78084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21800">
                    <a:off x="1428840" y="68220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1096560" y="572760"/>
                  <a:ext cx="415080" cy="315720"/>
                  <a:chOff x="1096560" y="572760"/>
                  <a:chExt cx="415080" cy="315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503600">
                    <a:off x="1088640" y="74808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503600">
                    <a:off x="1342080" y="60804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791280" y="1039680"/>
                  <a:ext cx="317880" cy="744840"/>
                  <a:chOff x="791280" y="1039680"/>
                  <a:chExt cx="317880" cy="74484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7595000">
                    <a:off x="720000" y="125136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7595000">
                    <a:off x="761400" y="157896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51600" y="1058040"/>
                  <a:ext cx="426960" cy="679680"/>
                  <a:chOff x="651600" y="1058040"/>
                  <a:chExt cx="426960" cy="6796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8202800">
                    <a:off x="705600" y="121248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8202800">
                    <a:off x="666720" y="15181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596880" y="1024920"/>
                  <a:ext cx="470160" cy="592200"/>
                  <a:chOff x="596880" y="1024920"/>
                  <a:chExt cx="470160" cy="5922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8723600">
                    <a:off x="694080" y="116100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8723600">
                    <a:off x="613080" y="1418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543960" y="993240"/>
                  <a:ext cx="517320" cy="527760"/>
                  <a:chOff x="543960" y="993240"/>
                  <a:chExt cx="517320" cy="527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19226400">
                    <a:off x="681480" y="110700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19226400">
                    <a:off x="568800" y="131652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516240" y="960480"/>
                  <a:ext cx="524160" cy="408960"/>
                  <a:chOff x="516240" y="960480"/>
                  <a:chExt cx="524160" cy="408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19843200">
                    <a:off x="678600" y="104292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19843200">
                    <a:off x="538560" y="118692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522360" y="951120"/>
                  <a:ext cx="494280" cy="268560"/>
                  <a:chOff x="522360" y="951120"/>
                  <a:chExt cx="494280" cy="2685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20391000">
                    <a:off x="686160" y="100548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20391000">
                    <a:off x="533520" y="109152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559080" y="930240"/>
                  <a:ext cx="451440" cy="151560"/>
                  <a:chOff x="559080" y="930240"/>
                  <a:chExt cx="451440" cy="1515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21109200">
                    <a:off x="718200" y="950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21109200">
                    <a:off x="565200" y="9716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568440" y="907920"/>
                  <a:ext cx="448560" cy="100800"/>
                  <a:chOff x="568440" y="907920"/>
                  <a:chExt cx="448560" cy="100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flipH="1" rot="21584400">
                    <a:off x="727560" y="92484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rot="21584400">
                    <a:off x="568080" y="90792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577440" y="796680"/>
                  <a:ext cx="462960" cy="184320"/>
                  <a:chOff x="577440" y="796680"/>
                  <a:chExt cx="462960" cy="1843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 rot="735000">
                    <a:off x="747720" y="88740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 rot="735000">
                    <a:off x="586080" y="81180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586800" y="687600"/>
                  <a:ext cx="465480" cy="268200"/>
                  <a:chOff x="586800" y="687600"/>
                  <a:chExt cx="465480" cy="26820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 flipH="1" rot="1371000">
                    <a:off x="757440" y="83772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 rot="1371000">
                    <a:off x="599400" y="7142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666360" y="617400"/>
                  <a:ext cx="421200" cy="339840"/>
                  <a:chOff x="666360" y="617400"/>
                  <a:chExt cx="421200" cy="33984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 flipH="1" rot="2180400">
                    <a:off x="779040" y="8157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flipH="1" rot="2180400">
                    <a:off x="672480" y="66096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30440" y="562680"/>
                  <a:ext cx="365760" cy="386640"/>
                  <a:chOff x="730440" y="562680"/>
                  <a:chExt cx="365760" cy="38664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 flipH="1" rot="2833200">
                    <a:off x="814320" y="79200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2833200">
                    <a:off x="732240" y="61164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1069560" y="514080"/>
                  <a:ext cx="380880" cy="368640"/>
                  <a:chOff x="1069560" y="514080"/>
                  <a:chExt cx="380880" cy="3686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 rot="18980400">
                    <a:off x="1051200" y="72828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 rot="18980400">
                    <a:off x="1282680" y="55368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1046520" y="466920"/>
                  <a:ext cx="331920" cy="420120"/>
                  <a:chOff x="1046520" y="466920"/>
                  <a:chExt cx="331920" cy="42012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18385200">
                    <a:off x="1013040" y="72000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18385200">
                    <a:off x="1214280" y="50904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flipH="1" rot="3285000">
                  <a:off x="855720" y="79272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rot="3285000">
                  <a:off x="801720" y="60588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1033200" y="465480"/>
                  <a:ext cx="83880" cy="472320"/>
                  <a:chOff x="1033200" y="465480"/>
                  <a:chExt cx="83880" cy="4723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16448400">
                    <a:off x="909000" y="75816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16448400">
                    <a:off x="993240" y="51768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1013760" y="451080"/>
                  <a:ext cx="257040" cy="488880"/>
                  <a:chOff x="1013760" y="451080"/>
                  <a:chExt cx="257040" cy="48888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17529600">
                    <a:off x="936720" y="7383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17529600">
                    <a:off x="1099080" y="50508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956160" y="498600"/>
                  <a:ext cx="123480" cy="423000"/>
                  <a:chOff x="956160" y="498600"/>
                  <a:chExt cx="123480" cy="423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15402600">
                    <a:off x="896760" y="77256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15402600">
                    <a:off x="912960" y="55980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901440" y="1052640"/>
                  <a:ext cx="212400" cy="768960"/>
                  <a:chOff x="901440" y="1052640"/>
                  <a:chExt cx="212400" cy="768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 rot="17042400">
                    <a:off x="762120" y="127152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 rot="17042400">
                    <a:off x="852840" y="161820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1030320" y="1083240"/>
                  <a:ext cx="144360" cy="709560"/>
                  <a:chOff x="1030320" y="1083240"/>
                  <a:chExt cx="144360" cy="7095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flipH="1" rot="16249800">
                    <a:off x="834480" y="12819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flipH="1" rot="16249800">
                    <a:off x="988920" y="160812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1054800" y="1075680"/>
                  <a:ext cx="241200" cy="684000"/>
                  <a:chOff x="1054800" y="1075680"/>
                  <a:chExt cx="241200" cy="6840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flipH="1" rot="15577200">
                    <a:off x="901800" y="12708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rot="15577200">
                    <a:off x="1101960" y="157932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1127160" y="992160"/>
                  <a:ext cx="662040" cy="520920"/>
                  <a:chOff x="1127160" y="992160"/>
                  <a:chExt cx="662040" cy="5209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 rot="1850400">
                    <a:off x="1109520" y="111744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850400">
                    <a:off x="1505880" y="133596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1134360" y="1013040"/>
                  <a:ext cx="576720" cy="587520"/>
                  <a:chOff x="1134360" y="1013040"/>
                  <a:chExt cx="576720" cy="58752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 rot="2451600">
                    <a:off x="1098000" y="116352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2451600">
                    <a:off x="1445760" y="141804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1134360" y="1042560"/>
                  <a:ext cx="480960" cy="616680"/>
                  <a:chOff x="1134360" y="1042560"/>
                  <a:chExt cx="480960" cy="61668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 rot="2992800">
                    <a:off x="1072080" y="121284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 rot="2992800">
                    <a:off x="1371960" y="148788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1139400" y="1069920"/>
                  <a:ext cx="368640" cy="616680"/>
                  <a:chOff x="1139400" y="1069920"/>
                  <a:chExt cx="368640" cy="6166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 rot="3604800">
                    <a:off x="1055520" y="124344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rot="3604800">
                    <a:off x="1293840" y="151776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1128240" y="1093320"/>
                  <a:ext cx="219600" cy="641880"/>
                  <a:chOff x="1128240" y="1093320"/>
                  <a:chExt cx="219600" cy="64188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rot="4461600">
                    <a:off x="993960" y="128160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4461600">
                    <a:off x="1170000" y="158184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3" name=""/>
              <p:cNvSpPr/>
              <p:nvPr/>
            </p:nvSpPr>
            <p:spPr>
              <a:xfrm flipH="1" rot="20306400">
                <a:off x="1066320" y="121212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306400">
                <a:off x="947160" y="92772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 rot="20306400">
                <a:off x="1146600" y="48060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306400">
                <a:off x="981360" y="930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306400">
                <a:off x="794880" y="9961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306400">
                <a:off x="708480" y="88776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306400">
                <a:off x="1319400" y="86796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306400">
                <a:off x="1300320" y="8366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306400">
                <a:off x="1259640" y="72972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306400">
                <a:off x="1392480" y="116316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8367200">
                <a:off x="1141200" y="1103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306400">
                <a:off x="640080" y="80208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306400">
                <a:off x="645480" y="66312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0306400">
                <a:off x="1249200" y="7988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306400">
                <a:off x="762120" y="134388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306400">
                <a:off x="702000" y="87408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20306400">
                <a:off x="830160" y="6922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20306400">
                <a:off x="1596240" y="94752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20306400">
                <a:off x="1361160" y="75348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20306400">
                <a:off x="1277280" y="47088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959400">
                <a:off x="1233360" y="86976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rot="53400">
                <a:off x="887040" y="99936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246040" y="-161640"/>
            <a:ext cx="1402560" cy="1913400"/>
            <a:chOff x="2246040" y="-161640"/>
            <a:chExt cx="1402560" cy="1913400"/>
          </a:xfrm>
        </p:grpSpPr>
        <p:grpSp>
          <p:nvGrpSpPr>
            <p:cNvPr id="276" name=""/>
            <p:cNvGrpSpPr/>
            <p:nvPr/>
          </p:nvGrpSpPr>
          <p:grpSpPr>
            <a:xfrm>
              <a:off x="2890800" y="1263240"/>
              <a:ext cx="482400" cy="458280"/>
              <a:chOff x="2890800" y="1263240"/>
              <a:chExt cx="482400" cy="458280"/>
            </a:xfrm>
          </p:grpSpPr>
          <p:sp>
            <p:nvSpPr>
              <p:cNvPr id="277" name=""/>
              <p:cNvSpPr/>
              <p:nvPr/>
            </p:nvSpPr>
            <p:spPr>
              <a:xfrm rot="21408600">
                <a:off x="2902320" y="127548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1408600">
                <a:off x="3067920" y="146556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962800" y="650520"/>
              <a:ext cx="482400" cy="458280"/>
              <a:chOff x="2962800" y="650520"/>
              <a:chExt cx="482400" cy="458280"/>
            </a:xfrm>
          </p:grpSpPr>
          <p:sp>
            <p:nvSpPr>
              <p:cNvPr id="280" name=""/>
              <p:cNvSpPr/>
              <p:nvPr/>
            </p:nvSpPr>
            <p:spPr>
              <a:xfrm rot="21408600">
                <a:off x="2974320" y="6627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408600">
                <a:off x="3139920" y="85284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246040" y="-140760"/>
              <a:ext cx="482400" cy="458280"/>
              <a:chOff x="2246040" y="-140760"/>
              <a:chExt cx="482400" cy="458280"/>
            </a:xfrm>
          </p:grpSpPr>
          <p:sp>
            <p:nvSpPr>
              <p:cNvPr id="283" name=""/>
              <p:cNvSpPr/>
              <p:nvPr/>
            </p:nvSpPr>
            <p:spPr>
              <a:xfrm rot="21408600">
                <a:off x="2257560" y="-128160"/>
                <a:ext cx="459000" cy="433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21408600">
                <a:off x="2423520" y="61200"/>
                <a:ext cx="110520" cy="813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254320" y="-161640"/>
              <a:ext cx="1394280" cy="1913400"/>
              <a:chOff x="2254320" y="-161640"/>
              <a:chExt cx="1394280" cy="19134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2561040" y="61200"/>
                <a:ext cx="718560" cy="672480"/>
                <a:chOff x="2561040" y="61200"/>
                <a:chExt cx="718560" cy="672480"/>
              </a:xfrm>
            </p:grpSpPr>
            <p:sp>
              <p:nvSpPr>
                <p:cNvPr id="287" name=""/>
                <p:cNvSpPr/>
                <p:nvPr/>
              </p:nvSpPr>
              <p:spPr>
                <a:xfrm rot="21408600">
                  <a:off x="2577960" y="79560"/>
                  <a:ext cx="684360" cy="63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21408600">
                  <a:off x="2837520" y="312840"/>
                  <a:ext cx="13572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254320" y="-161640"/>
                <a:ext cx="1320120" cy="1297080"/>
                <a:chOff x="2254320" y="-161640"/>
                <a:chExt cx="1320120" cy="12970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2926080" y="336240"/>
                  <a:ext cx="569880" cy="615240"/>
                  <a:chOff x="2926080" y="336240"/>
                  <a:chExt cx="569880" cy="6152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rot="2520000">
                    <a:off x="2885040" y="496800"/>
                    <a:ext cx="50868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2520000">
                    <a:off x="3219840" y="759960"/>
                    <a:ext cx="2728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2962800" y="317520"/>
                  <a:ext cx="611640" cy="531000"/>
                  <a:chOff x="2962800" y="317520"/>
                  <a:chExt cx="611640" cy="5310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1912200">
                    <a:off x="2957760" y="421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912200">
                    <a:off x="3321000" y="63936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2961000" y="289800"/>
                  <a:ext cx="610560" cy="412560"/>
                  <a:chOff x="2961000" y="289800"/>
                  <a:chExt cx="610560" cy="4125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rot="1391400">
                    <a:off x="2962080" y="36612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rot="1391400">
                    <a:off x="3334320" y="52452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2959560" y="259920"/>
                  <a:ext cx="609840" cy="331200"/>
                  <a:chOff x="2959560" y="259920"/>
                  <a:chExt cx="609840" cy="3312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rot="888600">
                    <a:off x="2965320" y="308160"/>
                    <a:ext cx="39312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rot="888600">
                    <a:off x="3341880" y="411120"/>
                    <a:ext cx="21096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2966760" y="229680"/>
                  <a:ext cx="560160" cy="200160"/>
                  <a:chOff x="2966760" y="229680"/>
                  <a:chExt cx="560160" cy="2001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rot="271800">
                    <a:off x="2969640" y="243720"/>
                    <a:ext cx="3621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271800">
                    <a:off x="3327120" y="277920"/>
                    <a:ext cx="194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2970720" y="181440"/>
                  <a:ext cx="509760" cy="114120"/>
                  <a:chOff x="2970720" y="181440"/>
                  <a:chExt cx="509760" cy="114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rot="21324600">
                    <a:off x="2972520" y="20772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21324600">
                    <a:off x="3300120" y="187920"/>
                    <a:ext cx="17640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2956680" y="67320"/>
                  <a:ext cx="451440" cy="198000"/>
                  <a:chOff x="2956680" y="67320"/>
                  <a:chExt cx="451440" cy="19800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rot="20605800">
                    <a:off x="2959560" y="1616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rot="20605800">
                    <a:off x="3241800" y="87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2382480" y="380160"/>
                  <a:ext cx="513000" cy="660960"/>
                  <a:chOff x="2382480" y="380160"/>
                  <a:chExt cx="513000" cy="66096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8697200">
                    <a:off x="2444040" y="55800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8697200">
                    <a:off x="2379600" y="843120"/>
                    <a:ext cx="2728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278080" y="382320"/>
                  <a:ext cx="573840" cy="579600"/>
                  <a:chOff x="2278080" y="382320"/>
                  <a:chExt cx="573840" cy="5796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19305000">
                    <a:off x="2440440" y="502920"/>
                    <a:ext cx="42516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19305000">
                    <a:off x="2302920" y="747720"/>
                    <a:ext cx="228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265840" y="353160"/>
                  <a:ext cx="584280" cy="467640"/>
                  <a:chOff x="2265840" y="353160"/>
                  <a:chExt cx="584280" cy="46764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19825800">
                    <a:off x="2447280" y="447480"/>
                    <a:ext cx="40680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19825800">
                    <a:off x="2286360" y="635760"/>
                    <a:ext cx="21816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2254320" y="322200"/>
                  <a:ext cx="595800" cy="389160"/>
                  <a:chOff x="2254320" y="322200"/>
                  <a:chExt cx="595800" cy="38916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20328600">
                    <a:off x="2451960" y="389880"/>
                    <a:ext cx="39312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20328600">
                    <a:off x="2275200" y="523080"/>
                    <a:ext cx="21096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2277360" y="290520"/>
                  <a:ext cx="561600" cy="259200"/>
                  <a:chOff x="2277360" y="290520"/>
                  <a:chExt cx="561600" cy="25920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20945400">
                    <a:off x="2471040" y="323640"/>
                    <a:ext cx="3618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20945400">
                    <a:off x="2289240" y="388440"/>
                    <a:ext cx="1944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2320560" y="281520"/>
                  <a:ext cx="505080" cy="116640"/>
                  <a:chOff x="2320560" y="281520"/>
                  <a:chExt cx="505080" cy="1166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H="1" rot="21493200">
                    <a:off x="2495160" y="286560"/>
                    <a:ext cx="3290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 rot="21493200">
                    <a:off x="2321280" y="294480"/>
                    <a:ext cx="17676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2382840" y="174240"/>
                  <a:ext cx="453960" cy="151560"/>
                  <a:chOff x="2382840" y="174240"/>
                  <a:chExt cx="453960" cy="1515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flipH="1" rot="611400">
                    <a:off x="2544120" y="2372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611400">
                    <a:off x="2390040" y="186840"/>
                    <a:ext cx="155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401560" y="106560"/>
                  <a:ext cx="451440" cy="216720"/>
                  <a:chOff x="2401560" y="106560"/>
                  <a:chExt cx="451440" cy="21672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rot="1086600">
                    <a:off x="2561040" y="21600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rot="1086600">
                    <a:off x="2412720" y="127800"/>
                    <a:ext cx="1555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2446200" y="9720"/>
                  <a:ext cx="430920" cy="309600"/>
                  <a:chOff x="2446200" y="9720"/>
                  <a:chExt cx="430920" cy="30960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 flipH="1" rot="1837200">
                    <a:off x="2591280" y="186840"/>
                    <a:ext cx="28908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H="1" rot="1837200">
                    <a:off x="2460600" y="42120"/>
                    <a:ext cx="15516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2490840" y="-84600"/>
                  <a:ext cx="404280" cy="381240"/>
                  <a:chOff x="2490840" y="-84600"/>
                  <a:chExt cx="404280" cy="3812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 flipH="1" rot="2473200">
                    <a:off x="2617200" y="144360"/>
                    <a:ext cx="2934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H="1" rot="2473200">
                    <a:off x="2503800" y="-44640"/>
                    <a:ext cx="1576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2597040" y="-123840"/>
                  <a:ext cx="325440" cy="431640"/>
                  <a:chOff x="2597040" y="-123840"/>
                  <a:chExt cx="325440" cy="43164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 flipH="1" rot="3282600">
                    <a:off x="2645280" y="135360"/>
                    <a:ext cx="32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flipH="1" rot="3282600">
                    <a:off x="2592360" y="-69120"/>
                    <a:ext cx="17460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678760" y="-152640"/>
                  <a:ext cx="253080" cy="452880"/>
                  <a:chOff x="2678760" y="-152640"/>
                  <a:chExt cx="253080" cy="45288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 flipH="1" rot="3935400">
                    <a:off x="2687760" y="122040"/>
                    <a:ext cx="31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H="1" rot="3935400">
                    <a:off x="2665080" y="-99360"/>
                    <a:ext cx="1681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2930760" y="-11880"/>
                  <a:ext cx="440640" cy="265680"/>
                  <a:chOff x="2930760" y="-11880"/>
                  <a:chExt cx="440640" cy="26568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 rot="20082600">
                    <a:off x="2930400" y="131760"/>
                    <a:ext cx="2887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20082600">
                    <a:off x="3202560" y="16200"/>
                    <a:ext cx="1548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2905200" y="-82800"/>
                  <a:ext cx="416520" cy="336240"/>
                  <a:chOff x="2905200" y="-82800"/>
                  <a:chExt cx="416520" cy="33624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 rot="19487400">
                    <a:off x="2896920" y="112320"/>
                    <a:ext cx="289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640" bIns="17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9487400">
                    <a:off x="3151800" y="-46800"/>
                    <a:ext cx="1551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" name=""/>
                <p:cNvSpPr/>
                <p:nvPr/>
              </p:nvSpPr>
              <p:spPr>
                <a:xfrm flipH="1" rot="4387800">
                  <a:off x="2729520" y="134280"/>
                  <a:ext cx="303120" cy="33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 rot="4387800">
                  <a:off x="2736360" y="-81360"/>
                  <a:ext cx="162360" cy="532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480" bIns="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2865600" y="-161640"/>
                  <a:ext cx="225720" cy="456480"/>
                  <a:chOff x="2865600" y="-161640"/>
                  <a:chExt cx="225720" cy="4564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17551200">
                    <a:off x="2788560" y="119880"/>
                    <a:ext cx="31356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17551200">
                    <a:off x="2943720" y="-104760"/>
                    <a:ext cx="16812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2853000" y="-134640"/>
                  <a:ext cx="378720" cy="430200"/>
                  <a:chOff x="2853000" y="-134640"/>
                  <a:chExt cx="378720" cy="43020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18631200">
                    <a:off x="2817000" y="113760"/>
                    <a:ext cx="34092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7280" bIns="17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18631200">
                    <a:off x="3043080" y="-82440"/>
                    <a:ext cx="182880" cy="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2895120" y="-153000"/>
                  <a:ext cx="63360" cy="429480"/>
                  <a:chOff x="2895120" y="-153000"/>
                  <a:chExt cx="63360" cy="4294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16504800">
                    <a:off x="2776680" y="125280"/>
                    <a:ext cx="2811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5920" bIns="-25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16504800">
                    <a:off x="2860560" y="-92160"/>
                    <a:ext cx="150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2469600" y="392760"/>
                  <a:ext cx="429480" cy="720000"/>
                  <a:chOff x="2469600" y="392760"/>
                  <a:chExt cx="429480" cy="7200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144600">
                    <a:off x="2477520" y="590400"/>
                    <a:ext cx="50832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000" bIns="27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144600">
                    <a:off x="2454480" y="909720"/>
                    <a:ext cx="2728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2617560" y="420480"/>
                  <a:ext cx="273960" cy="714960"/>
                  <a:chOff x="2617560" y="420480"/>
                  <a:chExt cx="273960" cy="7149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7352000">
                    <a:off x="2544120" y="617760"/>
                    <a:ext cx="47052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720" bIns="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7352000">
                    <a:off x="2586960" y="939600"/>
                    <a:ext cx="2523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2758320" y="429840"/>
                  <a:ext cx="145440" cy="696240"/>
                  <a:chOff x="2758320" y="429840"/>
                  <a:chExt cx="145440" cy="69624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16679400">
                    <a:off x="2613600" y="624600"/>
                    <a:ext cx="451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0520" bIns="20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16679400">
                    <a:off x="2704680" y="947160"/>
                    <a:ext cx="24228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2916720" y="373680"/>
                  <a:ext cx="514800" cy="672840"/>
                  <a:chOff x="2916720" y="373680"/>
                  <a:chExt cx="514800" cy="6728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rot="2952600">
                    <a:off x="2856240" y="553680"/>
                    <a:ext cx="50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rot="2952600">
                    <a:off x="3162240" y="847800"/>
                    <a:ext cx="27288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2920320" y="398520"/>
                  <a:ext cx="405360" cy="701640"/>
                  <a:chOff x="2920320" y="398520"/>
                  <a:chExt cx="405360" cy="7016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3553800">
                    <a:off x="2831400" y="590400"/>
                    <a:ext cx="4870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3553800">
                    <a:off x="3080880" y="904680"/>
                    <a:ext cx="26100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2915640" y="425880"/>
                  <a:ext cx="292320" cy="701280"/>
                  <a:chOff x="2915640" y="425880"/>
                  <a:chExt cx="292320" cy="701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rot="4095000">
                    <a:off x="2793600" y="626760"/>
                    <a:ext cx="47232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4095000">
                    <a:off x="2991960" y="947160"/>
                    <a:ext cx="25344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914560" y="455400"/>
                  <a:ext cx="178920" cy="660600"/>
                  <a:chOff x="2914560" y="455400"/>
                  <a:chExt cx="178920" cy="66060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rot="4707000">
                    <a:off x="2769120" y="644760"/>
                    <a:ext cx="4341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4707000">
                    <a:off x="2908800" y="947520"/>
                    <a:ext cx="2329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2848680" y="469440"/>
                  <a:ext cx="97200" cy="649440"/>
                  <a:chOff x="2848680" y="469440"/>
                  <a:chExt cx="97200" cy="64944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rot="5563800">
                    <a:off x="2701440" y="660240"/>
                    <a:ext cx="42444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rot="5563800">
                    <a:off x="2774880" y="969120"/>
                    <a:ext cx="2275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8" name=""/>
              <p:cNvSpPr/>
              <p:nvPr/>
            </p:nvSpPr>
            <p:spPr>
              <a:xfrm flipH="1" rot="21408600">
                <a:off x="2737800" y="558000"/>
                <a:ext cx="114120" cy="436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21408600">
                <a:off x="2546640" y="366480"/>
                <a:ext cx="995400" cy="135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 rot="21408600">
                <a:off x="2908080" y="-35640"/>
                <a:ext cx="707400" cy="120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rot="21408600">
                <a:off x="2592000" y="291600"/>
                <a:ext cx="433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rot="21408600">
                <a:off x="2388600" y="331920"/>
                <a:ext cx="669600" cy="135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 rot="21408600">
                <a:off x="2339640" y="205920"/>
                <a:ext cx="69768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1408600">
                <a:off x="2940840" y="287640"/>
                <a:ext cx="1098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1408600">
                <a:off x="2928240" y="280440"/>
                <a:ext cx="2916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1408600">
                <a:off x="2920320" y="185400"/>
                <a:ext cx="41400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21408600">
                <a:off x="3062880" y="614880"/>
                <a:ext cx="11340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9469400">
                <a:off x="2873520" y="482040"/>
                <a:ext cx="102960" cy="246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rot="21408600">
                <a:off x="2302200" y="103320"/>
                <a:ext cx="697320" cy="135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21408600">
                <a:off x="2354040" y="-43560"/>
                <a:ext cx="586440" cy="135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21408600">
                <a:off x="2892600" y="221040"/>
                <a:ext cx="246960" cy="1360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 rot="21408600">
                <a:off x="2401560" y="609120"/>
                <a:ext cx="25380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rot="21408600">
                <a:off x="2495520" y="129960"/>
                <a:ext cx="163080" cy="450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rot="21408600">
                <a:off x="2675160" y="-11880"/>
                <a:ext cx="97920" cy="449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21408600">
                <a:off x="3315600" y="492480"/>
                <a:ext cx="236160" cy="47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1408600">
                <a:off x="3174840" y="257040"/>
                <a:ext cx="355680" cy="315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1408600">
                <a:off x="3173040" y="-70920"/>
                <a:ext cx="155160" cy="423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0061600">
                <a:off x="3034080" y="289080"/>
                <a:ext cx="10368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rot="1155000">
                <a:off x="2664720" y="303480"/>
                <a:ext cx="103320" cy="24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4259880" y="-1064520"/>
            <a:ext cx="2093760" cy="3236040"/>
            <a:chOff x="4259880" y="-1064520"/>
            <a:chExt cx="2093760" cy="3236040"/>
          </a:xfrm>
        </p:grpSpPr>
        <p:grpSp>
          <p:nvGrpSpPr>
            <p:cNvPr id="411" name=""/>
            <p:cNvGrpSpPr/>
            <p:nvPr/>
          </p:nvGrpSpPr>
          <p:grpSpPr>
            <a:xfrm>
              <a:off x="4438440" y="1215000"/>
              <a:ext cx="629640" cy="840960"/>
              <a:chOff x="4438440" y="1215000"/>
              <a:chExt cx="629640" cy="840960"/>
            </a:xfrm>
          </p:grpSpPr>
          <p:sp>
            <p:nvSpPr>
              <p:cNvPr id="412" name=""/>
              <p:cNvSpPr/>
              <p:nvPr/>
            </p:nvSpPr>
            <p:spPr>
              <a:xfrm flipH="1" rot="1144200">
                <a:off x="4549320" y="12607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 rot="1144200">
                <a:off x="4704480" y="15897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692960" y="192600"/>
              <a:ext cx="629640" cy="840960"/>
              <a:chOff x="4692960" y="192600"/>
              <a:chExt cx="629640" cy="840960"/>
            </a:xfrm>
          </p:grpSpPr>
          <p:sp>
            <p:nvSpPr>
              <p:cNvPr id="415" name=""/>
              <p:cNvSpPr/>
              <p:nvPr/>
            </p:nvSpPr>
            <p:spPr>
              <a:xfrm flipH="1" rot="1144200">
                <a:off x="4803840" y="23832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 rot="1144200">
                <a:off x="4958640" y="5673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724000" y="-968040"/>
              <a:ext cx="629640" cy="840960"/>
              <a:chOff x="5724000" y="-968040"/>
              <a:chExt cx="629640" cy="840960"/>
            </a:xfrm>
          </p:grpSpPr>
          <p:sp>
            <p:nvSpPr>
              <p:cNvPr id="418" name=""/>
              <p:cNvSpPr/>
              <p:nvPr/>
            </p:nvSpPr>
            <p:spPr>
              <a:xfrm flipH="1" rot="1144200">
                <a:off x="5834880" y="-921960"/>
                <a:ext cx="407160" cy="7488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rot="1144200">
                <a:off x="5989680" y="-592560"/>
                <a:ext cx="97920" cy="1404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259880" y="-1064520"/>
              <a:ext cx="1986480" cy="3236040"/>
              <a:chOff x="4259880" y="-1064520"/>
              <a:chExt cx="1986480" cy="323604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5037120" y="-741960"/>
                <a:ext cx="932400" cy="1235520"/>
                <a:chOff x="5037120" y="-741960"/>
                <a:chExt cx="932400" cy="1235520"/>
              </a:xfrm>
            </p:grpSpPr>
            <p:sp>
              <p:nvSpPr>
                <p:cNvPr id="422" name=""/>
                <p:cNvSpPr/>
                <p:nvPr/>
              </p:nvSpPr>
              <p:spPr>
                <a:xfrm flipH="1" rot="1144200">
                  <a:off x="5199480" y="-672840"/>
                  <a:ext cx="607320" cy="1097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rot="1144200">
                  <a:off x="5467680" y="-264960"/>
                  <a:ext cx="120240" cy="20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673520" y="-1064520"/>
                <a:ext cx="1425960" cy="2188800"/>
                <a:chOff x="4673520" y="-1064520"/>
                <a:chExt cx="1425960" cy="21888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4673520" y="-166680"/>
                  <a:ext cx="977400" cy="796680"/>
                  <a:chOff x="4673520" y="-166680"/>
                  <a:chExt cx="977400" cy="79668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20032800">
                    <a:off x="4802760" y="23040"/>
                    <a:ext cx="8784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20032800">
                    <a:off x="4671720" y="429480"/>
                    <a:ext cx="47124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4754160" y="-186120"/>
                  <a:ext cx="698760" cy="651960"/>
                  <a:chOff x="4754160" y="-186120"/>
                  <a:chExt cx="698760" cy="6519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20640600">
                    <a:off x="5058000" y="-13752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20640600">
                    <a:off x="4788360" y="16560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4834800" y="-249840"/>
                  <a:ext cx="637200" cy="479880"/>
                  <a:chOff x="4834800" y="-249840"/>
                  <a:chExt cx="637200" cy="4798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1161400">
                    <a:off x="5102280" y="-227520"/>
                    <a:ext cx="3607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1161400">
                    <a:off x="4848840" y="-24120"/>
                    <a:ext cx="19368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902480" y="-325440"/>
                  <a:ext cx="587160" cy="383760"/>
                  <a:chOff x="4902480" y="-325440"/>
                  <a:chExt cx="587160" cy="38376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63600">
                    <a:off x="5139000" y="-322200"/>
                    <a:ext cx="3484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63600">
                    <a:off x="4905000" y="-211680"/>
                    <a:ext cx="1872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4980240" y="-457200"/>
                  <a:ext cx="551880" cy="294480"/>
                  <a:chOff x="4980240" y="-457200"/>
                  <a:chExt cx="551880" cy="2944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680400">
                    <a:off x="5198040" y="-426960"/>
                    <a:ext cx="32148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680400">
                    <a:off x="5002920" y="-426240"/>
                    <a:ext cx="17244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5075280" y="-587520"/>
                  <a:ext cx="477000" cy="264960"/>
                  <a:chOff x="5075280" y="-587520"/>
                  <a:chExt cx="477000" cy="2649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228800">
                    <a:off x="5249880" y="-480960"/>
                    <a:ext cx="29196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228800">
                    <a:off x="5100480" y="-565560"/>
                    <a:ext cx="1566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5186880" y="-740160"/>
                  <a:ext cx="399600" cy="360000"/>
                  <a:chOff x="5186880" y="-740160"/>
                  <a:chExt cx="399600" cy="36000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1947000">
                    <a:off x="5320440" y="-54936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1947000">
                    <a:off x="5222160" y="-7164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5373000" y="-166320"/>
                  <a:ext cx="439920" cy="1185120"/>
                  <a:chOff x="5373000" y="-166320"/>
                  <a:chExt cx="439920" cy="11851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55600">
                    <a:off x="5153400" y="210960"/>
                    <a:ext cx="8787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55600">
                    <a:off x="5358240" y="732960"/>
                    <a:ext cx="4716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472000" y="-18360"/>
                  <a:ext cx="417240" cy="866880"/>
                  <a:chOff x="5472000" y="-18360"/>
                  <a:chExt cx="417240" cy="86688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247800">
                    <a:off x="5465520" y="97560"/>
                    <a:ext cx="37728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247800">
                    <a:off x="5616000" y="546120"/>
                    <a:ext cx="2026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506560" y="-96840"/>
                  <a:ext cx="447840" cy="739080"/>
                  <a:chOff x="5506560" y="-96840"/>
                  <a:chExt cx="447840" cy="7390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rot="2727000">
                    <a:off x="5507640" y="8280"/>
                    <a:ext cx="36072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rot="2727000">
                    <a:off x="5703120" y="366480"/>
                    <a:ext cx="193320" cy="24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5527440" y="-174600"/>
                  <a:ext cx="495000" cy="655920"/>
                  <a:chOff x="5527440" y="-174600"/>
                  <a:chExt cx="495000" cy="65592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rot="2224200">
                    <a:off x="5543280" y="-86400"/>
                    <a:ext cx="34848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rot="2224200">
                    <a:off x="5772960" y="183960"/>
                    <a:ext cx="18756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5570640" y="-259560"/>
                  <a:ext cx="496080" cy="494640"/>
                  <a:chOff x="5570640" y="-259560"/>
                  <a:chExt cx="496080" cy="49464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rot="1607400">
                    <a:off x="5589000" y="-195480"/>
                    <a:ext cx="3211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rot="1607400">
                    <a:off x="5847120" y="-38880"/>
                    <a:ext cx="172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5613840" y="-298800"/>
                  <a:ext cx="460800" cy="296280"/>
                  <a:chOff x="5613840" y="-298800"/>
                  <a:chExt cx="460800" cy="2962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1059600">
                    <a:off x="5623560" y="-257040"/>
                    <a:ext cx="2919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1059600">
                    <a:off x="5895360" y="-195840"/>
                    <a:ext cx="15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5638680" y="-390240"/>
                  <a:ext cx="417240" cy="185040"/>
                  <a:chOff x="5638680" y="-390240"/>
                  <a:chExt cx="417240" cy="1850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341400">
                    <a:off x="5643360" y="-34344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341400">
                    <a:off x="5910120" y="-383760"/>
                    <a:ext cx="13752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5635440" y="-488880"/>
                  <a:ext cx="426240" cy="222120"/>
                  <a:chOff x="5635440" y="-488880"/>
                  <a:chExt cx="426240" cy="2221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21466200">
                    <a:off x="5637240" y="-381600"/>
                    <a:ext cx="25632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21466200">
                    <a:off x="5920560" y="-486000"/>
                    <a:ext cx="1375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5617080" y="-651240"/>
                  <a:ext cx="464760" cy="355320"/>
                  <a:chOff x="5617080" y="-651240"/>
                  <a:chExt cx="464760" cy="3553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20715600">
                    <a:off x="5626440" y="-435600"/>
                    <a:ext cx="2563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20715600">
                    <a:off x="5924520" y="-63648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5612400" y="-811440"/>
                  <a:ext cx="487080" cy="458640"/>
                  <a:chOff x="5612400" y="-811440"/>
                  <a:chExt cx="487080" cy="458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rot="20080200">
                    <a:off x="5623200" y="-511920"/>
                    <a:ext cx="25992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0080200">
                    <a:off x="5929560" y="-789480"/>
                    <a:ext cx="14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" name=""/>
                <p:cNvGrpSpPr/>
                <p:nvPr/>
              </p:nvGrpSpPr>
              <p:grpSpPr>
                <a:xfrm>
                  <a:off x="5491080" y="-901080"/>
                  <a:ext cx="581400" cy="602640"/>
                  <a:chOff x="5491080" y="-901080"/>
                  <a:chExt cx="581400" cy="602640"/>
                </a:xfrm>
              </p:grpSpPr>
              <p:sp>
                <p:nvSpPr>
                  <p:cNvPr id="477" name=""/>
                  <p:cNvSpPr/>
                  <p:nvPr/>
                </p:nvSpPr>
                <p:spPr>
                  <a:xfrm rot="19270200">
                    <a:off x="5442840" y="-514080"/>
                    <a:ext cx="560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9270200">
                    <a:off x="5782320" y="-814320"/>
                    <a:ext cx="3013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400" bIns="23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5506560" y="-975240"/>
                  <a:ext cx="501840" cy="675360"/>
                  <a:chOff x="5506560" y="-975240"/>
                  <a:chExt cx="501840" cy="67536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 rot="18617400">
                    <a:off x="5428080" y="-542520"/>
                    <a:ext cx="5403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 rot="18617400">
                    <a:off x="5742720" y="-876600"/>
                    <a:ext cx="2901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5253480" y="-850320"/>
                  <a:ext cx="368280" cy="436320"/>
                  <a:chOff x="5253480" y="-850320"/>
                  <a:chExt cx="368280" cy="436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 flipH="1" rot="2470200">
                    <a:off x="5361120" y="-594360"/>
                    <a:ext cx="2563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flipH="1" rot="2470200">
                    <a:off x="5292360" y="-826200"/>
                    <a:ext cx="13752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"/>
                <p:cNvGrpSpPr/>
                <p:nvPr/>
              </p:nvGrpSpPr>
              <p:grpSpPr>
                <a:xfrm>
                  <a:off x="5328720" y="-943200"/>
                  <a:ext cx="324000" cy="511560"/>
                  <a:chOff x="5328720" y="-943200"/>
                  <a:chExt cx="324000" cy="51156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H="1" rot="3065400">
                    <a:off x="5400720" y="-620640"/>
                    <a:ext cx="256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H="1" rot="3065400">
                    <a:off x="5369760" y="-921240"/>
                    <a:ext cx="1378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8" name=""/>
                <p:cNvSpPr/>
                <p:nvPr/>
              </p:nvSpPr>
              <p:spPr>
                <a:xfrm rot="18165600">
                  <a:off x="5402880" y="-536400"/>
                  <a:ext cx="523800" cy="29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165600">
                  <a:off x="5685120" y="-873360"/>
                  <a:ext cx="280440" cy="475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5563080" y="-1064520"/>
                  <a:ext cx="135360" cy="785880"/>
                  <a:chOff x="5563080" y="-1064520"/>
                  <a:chExt cx="135360" cy="785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flipH="1" rot="5002200">
                    <a:off x="5342040" y="-568440"/>
                    <a:ext cx="5414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7560" bIns="-75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flipH="1" rot="5002200">
                    <a:off x="5506560" y="-946440"/>
                    <a:ext cx="2905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427360" y="-1038240"/>
                  <a:ext cx="296280" cy="765000"/>
                  <a:chOff x="5427360" y="-1038240"/>
                  <a:chExt cx="296280" cy="765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3921600">
                    <a:off x="5280480" y="-580320"/>
                    <a:ext cx="58860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3921600">
                    <a:off x="5381640" y="-920160"/>
                    <a:ext cx="31572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5587200" y="-1038600"/>
                  <a:ext cx="185400" cy="723960"/>
                  <a:chOff x="5587200" y="-1038600"/>
                  <a:chExt cx="185400" cy="723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6048000">
                    <a:off x="5398920" y="-563400"/>
                    <a:ext cx="485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6048000">
                    <a:off x="5603400" y="-921600"/>
                    <a:ext cx="26064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5379480" y="-139680"/>
                  <a:ext cx="323640" cy="1258560"/>
                  <a:chOff x="5379480" y="-139680"/>
                  <a:chExt cx="323640" cy="125856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4408200">
                    <a:off x="5108040" y="257760"/>
                    <a:ext cx="8780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4408200">
                    <a:off x="5259240" y="828000"/>
                    <a:ext cx="47088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5310360" y="-81000"/>
                  <a:ext cx="237600" cy="1205280"/>
                  <a:chOff x="5310360" y="-81000"/>
                  <a:chExt cx="237600" cy="12052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5200800">
                    <a:off x="5085720" y="294480"/>
                    <a:ext cx="81288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5200800">
                    <a:off x="5155560" y="852840"/>
                    <a:ext cx="43596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5204880" y="-70560"/>
                  <a:ext cx="314280" cy="1170360"/>
                  <a:chOff x="5204880" y="-70560"/>
                  <a:chExt cx="314280" cy="11703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5873400">
                    <a:off x="5047200" y="290160"/>
                    <a:ext cx="7794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2240" bIns="12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5873400">
                    <a:off x="5069520" y="840240"/>
                    <a:ext cx="4183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4687560" y="-113400"/>
                  <a:ext cx="935640" cy="922320"/>
                  <a:chOff x="4687560" y="-113400"/>
                  <a:chExt cx="935640" cy="922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600200">
                    <a:off x="4798080" y="122400"/>
                    <a:ext cx="878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600200">
                    <a:off x="4676760" y="585720"/>
                    <a:ext cx="47124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4762080" y="-90360"/>
                  <a:ext cx="816120" cy="1025280"/>
                  <a:chOff x="4762080" y="-90360"/>
                  <a:chExt cx="816120" cy="10252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18998400">
                    <a:off x="4830120" y="189720"/>
                    <a:ext cx="8413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8998400">
                    <a:off x="4733640" y="695880"/>
                    <a:ext cx="4510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4857480" y="-59760"/>
                  <a:ext cx="686880" cy="1072080"/>
                  <a:chOff x="4857480" y="-59760"/>
                  <a:chExt cx="686880" cy="107208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8457800">
                    <a:off x="4867200" y="253080"/>
                    <a:ext cx="8154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8457800">
                    <a:off x="4803840" y="774360"/>
                    <a:ext cx="437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975920" y="-27360"/>
                  <a:ext cx="522360" cy="1059840"/>
                  <a:chOff x="4975920" y="-27360"/>
                  <a:chExt cx="522360" cy="105984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17845800">
                    <a:off x="4927680" y="291600"/>
                    <a:ext cx="74988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7845800">
                    <a:off x="4902480" y="794880"/>
                    <a:ext cx="40248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5143320" y="-15120"/>
                  <a:ext cx="320400" cy="1093320"/>
                  <a:chOff x="5143320" y="-15120"/>
                  <a:chExt cx="320400" cy="1093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16988400">
                    <a:off x="4994640" y="326520"/>
                    <a:ext cx="7329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920" bIns="-7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16988400">
                    <a:off x="5021280" y="849240"/>
                    <a:ext cx="393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3" name=""/>
              <p:cNvSpPr/>
              <p:nvPr/>
            </p:nvSpPr>
            <p:spPr>
              <a:xfrm rot="1144200">
                <a:off x="5365080" y="147600"/>
                <a:ext cx="10116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44200">
                <a:off x="4618800" y="-255240"/>
                <a:ext cx="882720" cy="234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 rot="1144200">
                <a:off x="4804920" y="-955440"/>
                <a:ext cx="627480" cy="208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44200">
                <a:off x="5110560" y="-331560"/>
                <a:ext cx="384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44200">
                <a:off x="5059440" y="-247320"/>
                <a:ext cx="594000" cy="234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44200">
                <a:off x="5141880" y="-448200"/>
                <a:ext cx="619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rot="1144200">
                <a:off x="5094360" y="-374400"/>
                <a:ext cx="9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rot="1144200">
                <a:off x="4947840" y="-402480"/>
                <a:ext cx="25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rot="1144200">
                <a:off x="4898160" y="-568800"/>
                <a:ext cx="36720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rot="1144200">
                <a:off x="5054400" y="176040"/>
                <a:ext cx="100800" cy="753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 rot="3083400">
                <a:off x="5345280" y="3600"/>
                <a:ext cx="9144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44200">
                <a:off x="5227920" y="-609480"/>
                <a:ext cx="618840" cy="234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44200">
                <a:off x="5356800" y="-851760"/>
                <a:ext cx="520560" cy="234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rot="1144200">
                <a:off x="5049360" y="-488160"/>
                <a:ext cx="219240" cy="234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144200">
                <a:off x="5503680" y="283320"/>
                <a:ext cx="2253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144200">
                <a:off x="5751000" y="-513720"/>
                <a:ext cx="144720" cy="77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144200">
                <a:off x="5725080" y="-777600"/>
                <a:ext cx="8676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rot="1144200">
                <a:off x="4781520" y="-88920"/>
                <a:ext cx="209520" cy="81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rot="1144200">
                <a:off x="4960440" y="-453240"/>
                <a:ext cx="315360" cy="544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rot="1144200">
                <a:off x="5280480" y="-978840"/>
                <a:ext cx="137880" cy="730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rot="2491200">
                <a:off x="5304240" y="-345240"/>
                <a:ext cx="9216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21397800">
                <a:off x="5618880" y="-248400"/>
                <a:ext cx="914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8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8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3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4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4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4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5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5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0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8951-9766-4914-B62E-16B4B473771D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组织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1403280" y="0"/>
            <a:ext cx="774072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浙江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gradFill rotWithShape="0">
            <a:gsLst>
              <a:gs pos="0">
                <a:srgbClr val="750000">
                  <a:alpha val="25098"/>
                </a:srgbClr>
              </a:gs>
              <a:gs pos="50000">
                <a:srgbClr val="ff0000"/>
              </a:gs>
              <a:gs pos="100000">
                <a:srgbClr val="750000">
                  <a:alpha val="25098"/>
                </a:srgbClr>
              </a:gs>
            </a:gsLst>
            <a:lin ang="10800000"/>
          </a:gradFill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精神文明奖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3"/>
          <a:stretch/>
        </p:blipFill>
        <p:spPr>
          <a:xfrm>
            <a:off x="1042920" y="0"/>
            <a:ext cx="360360" cy="62064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4"/>
          <a:stretch/>
        </p:blipFill>
        <p:spPr>
          <a:xfrm>
            <a:off x="1116000" y="184464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5"/>
          <a:stretch/>
        </p:blipFill>
        <p:spPr>
          <a:xfrm>
            <a:off x="1042920" y="2421000"/>
            <a:ext cx="432000" cy="6206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6"/>
          <a:stretch/>
        </p:blipFill>
        <p:spPr>
          <a:xfrm>
            <a:off x="971640" y="2924280"/>
            <a:ext cx="431640" cy="6206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7"/>
          <a:stretch/>
        </p:blipFill>
        <p:spPr>
          <a:xfrm>
            <a:off x="1116000" y="3500280"/>
            <a:ext cx="216000" cy="62100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8"/>
          <a:stretch/>
        </p:blipFill>
        <p:spPr>
          <a:xfrm>
            <a:off x="1116000" y="4005360"/>
            <a:ext cx="287280" cy="62064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9"/>
          <a:stretch/>
        </p:blipFill>
        <p:spPr>
          <a:xfrm>
            <a:off x="1042920" y="4149720"/>
            <a:ext cx="360360" cy="117936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10"/>
          <a:stretch/>
        </p:blipFill>
        <p:spPr>
          <a:xfrm>
            <a:off x="1116000" y="5013360"/>
            <a:ext cx="360360" cy="89064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11"/>
          <a:stretch/>
        </p:blipFill>
        <p:spPr>
          <a:xfrm>
            <a:off x="1116000" y="5516640"/>
            <a:ext cx="216000" cy="62064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12"/>
          <a:stretch/>
        </p:blipFill>
        <p:spPr>
          <a:xfrm>
            <a:off x="1116000" y="6093000"/>
            <a:ext cx="287280" cy="76500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13"/>
          <a:stretch/>
        </p:blipFill>
        <p:spPr>
          <a:xfrm>
            <a:off x="1042920" y="549360"/>
            <a:ext cx="433440" cy="6206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14"/>
          <a:stretch/>
        </p:blipFill>
        <p:spPr>
          <a:xfrm>
            <a:off x="971640" y="0"/>
            <a:ext cx="504720" cy="62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行易软件 http://www.ExeSoft.cn</cp:lastModifiedBy>
  <dcterms:modified xsi:type="dcterms:W3CDTF">2013-06-22T10:12:53Z</dcterms:modified>
  <cp:revision>8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