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80AB-F768-49B3-BEA9-628766CA1C5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2971800"/>
          </a:xfrm>
          <a:prstGeom prst="rect">
            <a:avLst/>
          </a:prstGeom>
          <a:solidFill>
            <a:srgbClr val="ff00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航天六院 行易软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http://www.ExeSoft.c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为比赛现场提供计分相关技术支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</dc:creator>
  <dc:description/>
  <dc:language>en-US</dc:language>
  <cp:lastModifiedBy>行易软件 http://www.ExeSoft.cn</cp:lastModifiedBy>
  <dcterms:modified xsi:type="dcterms:W3CDTF">2013-06-22T10:13:07Z</dcterms:modified>
  <cp:revision>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