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987EE-2440-4F02-AB84-8FE696FC17AC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排行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排行榜结果展示幻灯。里面的文本框及图片框不能删除，但可以随意拖动。此模板不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25-32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18AB-49F6-4424-B1A1-6CBFE0547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5BDE-3ACD-4004-BAF3-6837FE9BB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4CA2-4A0D-4316-B731-39B495528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AAB1-DB83-498A-BA59-AFF9D2E10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5101-3264-4F60-B59D-17183877B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26A1-54A0-4673-BE22-8B7EDEB9C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6B8E-96B1-4CF5-8F71-E696DAE70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44ED-3AC5-4EE4-B80C-9005B36A5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AC87-2F12-4BE2-BD40-E5ECF5F18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CF3E-C644-4D3D-9E2F-C150862D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6EE7-2958-4853-AED0-3B4CEF82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D869-0CDC-4A3E-9CAF-DBC35751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952F-9659-442A-9DD8-AA75B91C3C33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活动主题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619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446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0132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82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904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330120" y="598320"/>
            <a:ext cx="9817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6937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04840" y="690480"/>
            <a:ext cx="6211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24640" y="690480"/>
            <a:ext cx="17067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4670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04840" y="1461960"/>
            <a:ext cx="621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23200" y="14605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22399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04840" y="2244600"/>
            <a:ext cx="6211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423200" y="224460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0132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04840" y="3013200"/>
            <a:ext cx="6211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423200" y="3013200"/>
            <a:ext cx="1720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7861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04840" y="3782880"/>
            <a:ext cx="6211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423200" y="378288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5594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04840" y="4546440"/>
            <a:ext cx="621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423200" y="454968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332320"/>
            <a:ext cx="1052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04840" y="5324400"/>
            <a:ext cx="621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23200" y="532116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105600"/>
            <a:ext cx="10526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04840" y="6093000"/>
            <a:ext cx="621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423200" y="6084720"/>
            <a:ext cx="1720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379160" y="6904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379160" y="14637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379160" y="224172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379160" y="30099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379160" y="37828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379160" y="4556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379160" y="53290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379160" y="61023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2280" y="0"/>
            <a:ext cx="90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04840" y="0"/>
            <a:ext cx="621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24640" y="0"/>
            <a:ext cx="1551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 http://www.ExeSoft.cn</cp:lastModifiedBy>
  <dcterms:modified xsi:type="dcterms:W3CDTF">2013-07-14T09:53:34Z</dcterms:modified>
  <cp:revision>160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