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F9C9-1A37-4009-A961-87AF6176636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C1D-ECC5-47C8-AE0B-513C1DB2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738-602B-45C9-81F1-123EFDC5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1AE-BD11-4881-B416-96847C25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F2A-2F45-49FD-BCDC-C20A0EC1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B27-64F6-4829-AA8A-5AE3A0BC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3AB-68A6-4B51-BCBF-996E97AC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0A5-898C-49BD-89B6-49D0698D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C55-5368-4706-9B75-4A5BD6A1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8F9-3E5D-42AF-AB1A-151A5D37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A90-0397-4070-8F58-470B64D4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6DD-54E7-43C1-BEAE-30B3C517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A6E4-8AC7-4F40-9B4D-DC288F6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20C3-9FD5-4DA2-91D6-5DC963449E1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Garamond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4460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13200"/>
            <a:ext cx="914544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7828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0480"/>
            <a:ext cx="914544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30120" y="95400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04840" y="6904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7640" y="690480"/>
            <a:ext cx="158292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04840" y="146196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6200" y="14605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04840" y="22446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6200" y="224460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04840" y="30132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6200" y="3013200"/>
            <a:ext cx="15825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04840" y="378288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6200" y="37828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4840" y="454644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6200" y="454968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04840" y="5324400"/>
            <a:ext cx="25956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6200" y="532116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04840" y="6093000"/>
            <a:ext cx="25956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6200" y="6084720"/>
            <a:ext cx="15825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4840" y="0"/>
            <a:ext cx="900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04840" y="0"/>
            <a:ext cx="264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6200" y="0"/>
            <a:ext cx="1604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1200" y="6937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6 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黑体"/>
              </a:rPr>
              <a:t>各项分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1200" y="1463760"/>
            <a:ext cx="36068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51200" y="224784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51200" y="301608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3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51200" y="37861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1200" y="455292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51200" y="532440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51200" y="6087960"/>
            <a:ext cx="36068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51200" y="0"/>
            <a:ext cx="246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黑体"/>
              </a:rPr>
              <a:t>各项得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6-29T09:07:36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