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6B45-2628-4103-B755-1CD95EAAF09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78CD-F202-4C06-BA25-3460D3B9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8A05-79C5-4A8F-B522-F3F9F49B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AEBD-76B5-4DF0-A276-983B6B50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12C-53FA-4484-8FCA-911DD9A0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1B4C-3DDF-4349-9453-D2F030CC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D6FB-6186-4F2F-B57F-0885A77D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537F-9EFA-4C6C-A8DD-9C516577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B54-261E-42DA-9005-6768F56B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8001-B3F9-4B7D-A49E-DEB31BED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48C-E04D-4141-9B92-81CB06EF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B828-296D-46CF-A129-87BDCBD0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AD7A-1AEF-4049-9B0E-68AB4E0C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85B6-AC23-4035-B61E-F62B0FF8E4A9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张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46880" y="690480"/>
            <a:ext cx="16318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46880" y="146052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46880" y="224460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27907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46880" y="3013200"/>
            <a:ext cx="16448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46880" y="378288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46880" y="454968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27907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46880" y="532116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279072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46880" y="6084720"/>
            <a:ext cx="1644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9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46880" y="0"/>
            <a:ext cx="2041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690480"/>
            <a:ext cx="268128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6680" y="146052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6680" y="224460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6680" y="3013200"/>
            <a:ext cx="2703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6680" y="378288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6680" y="454968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6680" y="532116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6680" y="6084720"/>
            <a:ext cx="2703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0"/>
            <a:ext cx="277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6-29T09:08:28Z</dcterms:modified>
  <cp:revision>17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