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1FD1-5DF4-478E-B7D0-C44728898E9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7A0-9E71-4F30-813E-611A66E3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21C-2E35-46DB-96F2-1F0E31EF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237-4C99-4B78-858D-DB4F89EE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6AF-F311-4708-B537-BB13BCB5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CE1-5BDF-4DB3-B3C4-654E37F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A9C-7D07-4EE6-A5C2-CF7D6D2D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E6A-A24F-48FA-90CB-51F32C30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B3D1-1B1E-4F41-AAB6-D2FA4177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367-0972-44DA-88C5-1F7DF9EF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40D-79FA-4F8F-B04D-E00F168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7E0-6DA3-412F-9A82-B0331916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F446-C439-4EB5-80E0-B86F2070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CB76-2D70-41C6-B0A3-61893BB07A6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8200" y="6904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46196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8200" y="22446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8200" y="30132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8200" y="378288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78200" y="454644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78200" y="5324400"/>
            <a:ext cx="5365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8200" y="6093000"/>
            <a:ext cx="5365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0484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484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0484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0484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0484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0484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0"/>
            <a:ext cx="536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70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4:29Z</dcterms:modified>
  <cp:revision>162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